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DB1B-AFDE-497A-9807-2FDF9CD6C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9B42-458B-45A1-85A0-972739A70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A566-4ED4-4518-A6B0-8234CBAA8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1AEC-3957-481E-90B8-2BDE9D981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F79C-BFAC-4C57-A28F-3ECF5EC307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CFE6-DBB9-4EB8-8B86-CE2CC5D2A7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5890-0461-4EC3-A990-FAAA6AD45B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D6B4-8085-4479-9864-18E36C4222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5D42-CB2E-4BE9-81F1-091ACCFB69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B978-5D2E-422B-91B0-38011B26FE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18B3-405D-40C3-8DC7-DE54520584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594F-30A7-4C25-AB69-BDA40FE11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156A-7B49-4EA0-A47A-AE79A539F9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4651-05DB-4CA9-9BAD-EADD36ADF3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F2A8-8140-44D0-8032-F988962BDA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E7C4-DE43-4267-B756-44AF191C92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E567-8AB2-4097-8527-974A1C4231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801-D114-4E64-9067-65902B392B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F28-1572-4385-8AAC-8B0326ED1C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0D3-4794-4202-AA6E-336935CF49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A0E-09F4-425F-8FF6-7F93F492BD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4F3-6959-4409-8B0F-B1AD2301E4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B40E-6E17-4990-9B27-CF9BABD029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928-24F7-4265-8B2C-1663BDDCAC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966-0F0B-4856-A7BE-0140DA6F9E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C15-0A05-4907-9A32-0C658DC3B2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111-0034-4C09-A185-E35C5F4D25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E2A-E147-4FCA-8EC6-751769DA22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82D-EAFD-4CDA-A7C8-5459FF8AC9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5AC-E0C6-44BB-ABF6-8344F8DA84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8AD20-0F9E-4E9D-B33A-A06BFD09BB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1973D-BF7D-42C1-93CD-82D84B7708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4052A-2DCF-44DC-A07F-38710E9AC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2817-D685-4136-A8C7-65EE7A9EE0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900FC-8681-44DC-A40C-A8E8D49DC8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AFB1A-F56B-4687-8BFF-B76DCB7AAE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0861A-137E-4BCC-89F6-7194437BD1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21CB5-51D2-455F-B990-94A3D2FC84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70143-0DA1-42FC-820C-F62450E612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D0543-0393-49E4-85E9-5E8BC3F878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355F6-A2BC-4532-87CA-B2D49B93E7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EF073-6FD0-43AB-8942-AD201FC5D9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CB395-1B46-4572-BB5F-63F411D5F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02FA-0370-4E1E-A5A5-CB633D1E5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6BF4-2DD2-4122-85FD-8477A9CB3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5815-CFD9-4731-8E2B-61231408A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8E22-8D4B-4FDD-97D3-15FF035A3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5074-DE39-48C2-B702-9264CA021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83C2E8A1-A2D4-48D5-A88F-BE958761C3AD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preting Equ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preting Equ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248600" y="6161040"/>
            <a:ext cx="1054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A83DE299-3BAC-4201-A97B-9F320C681425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preting Equ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7153200" y="6151320"/>
            <a:ext cx="1533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BBA60F43-BA69-4AC3-88E3-FB073780C7C6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preting Equ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6648480" y="6151320"/>
            <a:ext cx="2038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D5BE5CF8-D240-4027-8552-322635B5877C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5416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Interpreting Equations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226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Which is greater, </a:t>
            </a:r>
            <a:r>
              <a:rPr b="1" i="1" lang="en-US" sz="3200" spc="-1" strike="noStrike">
                <a:solidFill>
                  <a:srgbClr val="ffffff"/>
                </a:solidFill>
                <a:latin typeface="Rockwel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Rockwell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?   Why?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4187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6c0000"/>
                </a:solidFill>
                <a:latin typeface="Times New Roman"/>
              </a:rPr>
              <a:t>y </a:t>
            </a:r>
            <a:r>
              <a:rPr b="1" lang="en-US" sz="4000" spc="-1" strike="noStrike">
                <a:solidFill>
                  <a:srgbClr val="6c0000"/>
                </a:solidFill>
                <a:latin typeface="Times New Roman"/>
              </a:rPr>
              <a:t>= 4 </a:t>
            </a:r>
            <a:r>
              <a:rPr b="1" i="1" lang="en-US" sz="4000" spc="-1" strike="noStrike">
                <a:solidFill>
                  <a:srgbClr val="6c0000"/>
                </a:solidFill>
                <a:latin typeface="Times New Roman"/>
              </a:rPr>
              <a:t>x</a:t>
            </a:r>
            <a:endParaRPr b="1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C299DFF2-CD4E-427D-BDCA-EAFBBFB4DF9F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Which is greater, </a:t>
            </a:r>
            <a:r>
              <a:rPr b="1" i="1" lang="en-US" sz="3200" spc="-1" strike="noStrike">
                <a:solidFill>
                  <a:srgbClr val="ffffff"/>
                </a:solidFill>
                <a:latin typeface="Rockwel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Rockwell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?   Why?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187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6c0000"/>
                </a:solidFill>
                <a:latin typeface="Times New Roman"/>
              </a:rPr>
              <a:t>y </a:t>
            </a:r>
            <a:r>
              <a:rPr b="1" lang="en-US" sz="4000" spc="-1" strike="noStrike">
                <a:solidFill>
                  <a:srgbClr val="6c0000"/>
                </a:solidFill>
                <a:latin typeface="Times New Roman"/>
              </a:rPr>
              <a:t>= 4 </a:t>
            </a:r>
            <a:r>
              <a:rPr b="1" i="1" lang="en-US" sz="4000" spc="-1" strike="noStrike">
                <a:solidFill>
                  <a:srgbClr val="6c0000"/>
                </a:solidFill>
                <a:latin typeface="Times New Roman"/>
              </a:rPr>
              <a:t>x</a:t>
            </a:r>
            <a:endParaRPr b="1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CAD72F95-29CF-4ECE-BAD4-CEDD51685F3E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5" descr="http://openclipart.org/image/300px/svg_to_png/386/Gerald_G_Man_Face_4_-_World_Label.png"/>
          <p:cNvPicPr/>
          <p:nvPr/>
        </p:nvPicPr>
        <p:blipFill>
          <a:blip r:embed="rId1"/>
          <a:stretch/>
        </p:blipFill>
        <p:spPr>
          <a:xfrm>
            <a:off x="457200" y="3451320"/>
            <a:ext cx="1514520" cy="1697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7" descr="http://openclipart.org/image/300px/svg_to_png/529/Gerald_G_Lady_Face_2_-_World_Label.png"/>
          <p:cNvPicPr/>
          <p:nvPr/>
        </p:nvPicPr>
        <p:blipFill>
          <a:blip r:embed="rId2"/>
          <a:stretch/>
        </p:blipFill>
        <p:spPr>
          <a:xfrm>
            <a:off x="7153200" y="3608280"/>
            <a:ext cx="1533600" cy="1540080"/>
          </a:xfrm>
          <a:prstGeom prst="rect">
            <a:avLst/>
          </a:prstGeom>
          <a:ln w="0">
            <a:noFill/>
          </a:ln>
        </p:spPr>
      </p:pic>
      <p:sp>
        <p:nvSpPr>
          <p:cNvPr id="175" name="Oval Callout 37"/>
          <p:cNvSpPr/>
          <p:nvPr/>
        </p:nvSpPr>
        <p:spPr>
          <a:xfrm>
            <a:off x="2054160" y="2867040"/>
            <a:ext cx="3963960" cy="1198440"/>
          </a:xfrm>
          <a:prstGeom prst="wedgeEllipseCallout">
            <a:avLst>
              <a:gd name="adj1" fmla="val -55560"/>
              <a:gd name="adj2" fmla="val 10015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greater because it’s multiplied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Callout 8"/>
          <p:cNvSpPr/>
          <p:nvPr/>
        </p:nvSpPr>
        <p:spPr>
          <a:xfrm>
            <a:off x="2765520" y="4218120"/>
            <a:ext cx="3963960" cy="1198440"/>
          </a:xfrm>
          <a:prstGeom prst="wedgeEllipseCallout">
            <a:avLst>
              <a:gd name="adj1" fmla="val 57856"/>
              <a:gd name="adj2" fmla="val 1644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depends 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What is the equation?   Why?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18760"/>
            <a:ext cx="822960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ggs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egg boxes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6 eggs in each box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 equation link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6D985695-D33E-45CF-A1C1-627B9D218522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5880240" y="1419120"/>
            <a:ext cx="294300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What is the equation?   Why?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418760"/>
            <a:ext cx="822960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eggs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gg boxes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6 eggs in each box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 equation link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AC827B63-96B7-4D8A-9497-F0D2573E5CEC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5" descr="http://openclipart.org/image/300px/svg_to_png/386/Gerald_G_Man_Face_4_-_World_Label.png"/>
          <p:cNvPicPr/>
          <p:nvPr/>
        </p:nvPicPr>
        <p:blipFill>
          <a:blip r:embed="rId1"/>
          <a:stretch/>
        </p:blipFill>
        <p:spPr>
          <a:xfrm>
            <a:off x="457200" y="4392720"/>
            <a:ext cx="1514520" cy="1697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7" descr="http://openclipart.org/image/300px/svg_to_png/529/Gerald_G_Lady_Face_2_-_World_Label.png"/>
          <p:cNvPicPr/>
          <p:nvPr/>
        </p:nvPicPr>
        <p:blipFill>
          <a:blip r:embed="rId2"/>
          <a:stretch/>
        </p:blipFill>
        <p:spPr>
          <a:xfrm>
            <a:off x="7153200" y="4549680"/>
            <a:ext cx="1533600" cy="1540080"/>
          </a:xfrm>
          <a:prstGeom prst="rect">
            <a:avLst/>
          </a:prstGeom>
          <a:ln w="0">
            <a:noFill/>
          </a:ln>
        </p:spPr>
      </p:pic>
      <p:sp>
        <p:nvSpPr>
          <p:cNvPr id="186" name="Oval Callout 8"/>
          <p:cNvSpPr/>
          <p:nvPr/>
        </p:nvSpPr>
        <p:spPr>
          <a:xfrm>
            <a:off x="2054160" y="4008600"/>
            <a:ext cx="2508480" cy="1082520"/>
          </a:xfrm>
          <a:prstGeom prst="wedgeEllipseCallout">
            <a:avLst>
              <a:gd name="adj1" fmla="val -55560"/>
              <a:gd name="adj2" fmla="val 10015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Callout 9"/>
          <p:cNvSpPr/>
          <p:nvPr/>
        </p:nvSpPr>
        <p:spPr>
          <a:xfrm>
            <a:off x="4302000" y="4249800"/>
            <a:ext cx="2508480" cy="1082520"/>
          </a:xfrm>
          <a:prstGeom prst="wedgeEllipseCallout">
            <a:avLst>
              <a:gd name="adj1" fmla="val 57856"/>
              <a:gd name="adj2" fmla="val 8371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e =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5880240" y="1419120"/>
            <a:ext cx="294300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What is the equation?   Why?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418760"/>
            <a:ext cx="822960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gg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x of eggs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ce per egg is the same whether you buy them separately or in a box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 equation link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6172765A-731A-4A68-A9F5-B44793C0D410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5" descr="http://openclipart.org/image/300px/svg_to_png/386/Gerald_G_Man_Face_4_-_World_Label.png"/>
          <p:cNvPicPr/>
          <p:nvPr/>
        </p:nvPicPr>
        <p:blipFill>
          <a:blip r:embed="rId1"/>
          <a:stretch/>
        </p:blipFill>
        <p:spPr>
          <a:xfrm>
            <a:off x="457200" y="4392720"/>
            <a:ext cx="1514520" cy="1697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7" descr="http://openclipart.org/image/300px/svg_to_png/529/Gerald_G_Lady_Face_2_-_World_Label.png"/>
          <p:cNvPicPr/>
          <p:nvPr/>
        </p:nvPicPr>
        <p:blipFill>
          <a:blip r:embed="rId2"/>
          <a:stretch/>
        </p:blipFill>
        <p:spPr>
          <a:xfrm>
            <a:off x="7153200" y="4549680"/>
            <a:ext cx="1533600" cy="1540080"/>
          </a:xfrm>
          <a:prstGeom prst="rect">
            <a:avLst/>
          </a:prstGeom>
          <a:ln w="0">
            <a:noFill/>
          </a:ln>
        </p:spPr>
      </p:pic>
      <p:sp>
        <p:nvSpPr>
          <p:cNvPr id="194" name="Oval Callout 8"/>
          <p:cNvSpPr/>
          <p:nvPr/>
        </p:nvSpPr>
        <p:spPr>
          <a:xfrm>
            <a:off x="2054160" y="4008600"/>
            <a:ext cx="2508480" cy="1082520"/>
          </a:xfrm>
          <a:prstGeom prst="wedgeEllipseCallout">
            <a:avLst>
              <a:gd name="adj1" fmla="val -55560"/>
              <a:gd name="adj2" fmla="val 10015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Callout 9"/>
          <p:cNvSpPr/>
          <p:nvPr/>
        </p:nvSpPr>
        <p:spPr>
          <a:xfrm>
            <a:off x="4302000" y="4249800"/>
            <a:ext cx="2508480" cy="1082520"/>
          </a:xfrm>
          <a:prstGeom prst="wedgeEllipseCallout">
            <a:avLst>
              <a:gd name="adj1" fmla="val 57856"/>
              <a:gd name="adj2" fmla="val 8371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e =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What</a:t>
            </a: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 the same and what</a:t>
            </a: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’s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different?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7153200" y="6151680"/>
            <a:ext cx="15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5BF72F9D-48C8-4C4A-BC7E-8363AEFBBA3B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5" descr="http://openclipart.org/image/300px/svg_to_png/386/Gerald_G_Man_Face_4_-_World_Label.png"/>
          <p:cNvPicPr/>
          <p:nvPr/>
        </p:nvPicPr>
        <p:blipFill>
          <a:blip r:embed="rId1"/>
          <a:stretch/>
        </p:blipFill>
        <p:spPr>
          <a:xfrm>
            <a:off x="474840" y="3286080"/>
            <a:ext cx="1514160" cy="1697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7" descr="http://openclipart.org/image/300px/svg_to_png/529/Gerald_G_Lady_Face_2_-_World_Label.png"/>
          <p:cNvPicPr/>
          <p:nvPr/>
        </p:nvPicPr>
        <p:blipFill>
          <a:blip r:embed="rId2"/>
          <a:stretch/>
        </p:blipFill>
        <p:spPr>
          <a:xfrm>
            <a:off x="7170840" y="3457440"/>
            <a:ext cx="1533600" cy="1540080"/>
          </a:xfrm>
          <a:prstGeom prst="rect">
            <a:avLst/>
          </a:prstGeom>
          <a:ln w="0">
            <a:noFill/>
          </a:ln>
        </p:spPr>
      </p:pic>
      <p:sp>
        <p:nvSpPr>
          <p:cNvPr id="200" name="Content Placeholder 2"/>
          <p:cNvSpPr/>
          <p:nvPr/>
        </p:nvSpPr>
        <p:spPr>
          <a:xfrm>
            <a:off x="4562640" y="1419120"/>
            <a:ext cx="412416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eg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egg box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418760"/>
            <a:ext cx="392256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an egg.</a:t>
            </a:r>
            <a:endParaRPr b="1" lang="en-US" sz="2200" spc="-1" strike="noStrike">
              <a:solidFill>
                <a:srgbClr val="6c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a box of eggs.</a:t>
            </a:r>
            <a:endParaRPr b="1" lang="en-US" sz="2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4462560" y="1228680"/>
            <a:ext cx="0" cy="4861080"/>
          </a:xfrm>
          <a:prstGeom prst="line">
            <a:avLst/>
          </a:prstGeom>
          <a:ln w="57240">
            <a:solidFill>
              <a:srgbClr val="71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Callout 10"/>
          <p:cNvSpPr/>
          <p:nvPr/>
        </p:nvSpPr>
        <p:spPr>
          <a:xfrm>
            <a:off x="1971720" y="3286080"/>
            <a:ext cx="2274840" cy="978120"/>
          </a:xfrm>
          <a:prstGeom prst="wedgeEllipseCallout">
            <a:avLst>
              <a:gd name="adj1" fmla="val -58912"/>
              <a:gd name="adj2" fmla="val 8586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Callout 11"/>
          <p:cNvSpPr/>
          <p:nvPr/>
        </p:nvSpPr>
        <p:spPr>
          <a:xfrm>
            <a:off x="4767120" y="3300480"/>
            <a:ext cx="2320920" cy="950760"/>
          </a:xfrm>
          <a:prstGeom prst="wedgeEllipseCallout">
            <a:avLst>
              <a:gd name="adj1" fmla="val 57856"/>
              <a:gd name="adj2" fmla="val 8371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e =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Rockwell"/>
              </a:rPr>
              <a:t>Working Together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Slide Number Placeholder 2"/>
          <p:cNvSpPr/>
          <p:nvPr/>
        </p:nvSpPr>
        <p:spPr>
          <a:xfrm>
            <a:off x="7358040" y="6151680"/>
            <a:ext cx="13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03BAD0E4-CC08-4D2A-AF28-FEA107D49469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457200" y="1073160"/>
            <a:ext cx="835488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turns to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ch an equation card with a sent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your thinking to your partn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partner must check and challenge your explanation if he or she disagr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if another card or another sentence matches as we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nue until you have matched all the ca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e blank cards to write equations or sentences, so that each card is grouped with at least one other c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4:33:04Z</dcterms:created>
  <dc:creator>Daniel</dc:creator>
  <dc:description/>
  <dc:language>en-US</dc:language>
  <cp:lastModifiedBy>Jennifer Lewner</cp:lastModifiedBy>
  <cp:lastPrinted>2013-11-21T12:17:01Z</cp:lastPrinted>
  <dcterms:modified xsi:type="dcterms:W3CDTF">2014-05-12T00:42:01Z</dcterms:modified>
  <cp:revision>143</cp:revision>
  <dc:subject/>
  <dc:title>Solving Linear Equations in Two Variables</dc:title>
</cp:coreProperties>
</file>