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69"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2"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3"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hyperlink" Target="http://www.achievethecore.org/"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04840" y="696960"/>
            <a:ext cx="4648320" cy="3486240"/>
          </a:xfrm>
          <a:prstGeom prst="rect">
            <a:avLst/>
          </a:prstGeom>
          <a:ln w="0">
            <a:noFill/>
          </a:ln>
        </p:spPr>
      </p:sp>
      <p:sp>
        <p:nvSpPr>
          <p:cNvPr id="1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5"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04840" y="696960"/>
            <a:ext cx="4648320" cy="3486240"/>
          </a:xfrm>
          <a:prstGeom prst="rect">
            <a:avLst/>
          </a:prstGeom>
          <a:ln w="0">
            <a:noFill/>
          </a:ln>
        </p:spPr>
      </p:sp>
      <p:sp>
        <p:nvSpPr>
          <p:cNvPr id="1211"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of the three shifts in ELA/Literacy concerns evidence - the obligation of students to pay close attention to what they read and to support what they say or write about it by providing eviden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ing reading, writing, and speaking in evidence from the text is not only applicable to informational text, but to stories as wel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and for evidence can be thought of as  “reading like a detective and writing like a rep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04840" y="696960"/>
            <a:ext cx="4648320" cy="3486240"/>
          </a:xfrm>
          <a:prstGeom prst="rect">
            <a:avLst/>
          </a:prstGeom>
          <a:ln w="0">
            <a:noFill/>
          </a:ln>
        </p:spPr>
      </p:sp>
      <p:sp>
        <p:nvSpPr>
          <p:cNvPr id="1214"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llege and career writing requires students to take a position or inform others citing evidence from the text, not provide a personal opin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grades, and even across the content areas, students need to develop the skill of grounding their responses in evidence from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students to use evidence can and should occur during oral discussions with “read alouds” in the youngest grades and continue across all grades and content area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harp departure from much current practice where the focus is commonly to relate the text to yourself in narrative expressive pieces, where students share their views on various topi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students are reading grade-level texts, they have too often been encouraged to write or discuss without having to use evidence from the tex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talk about personal responses than to analyze what the text has to say, hence students - and teachers - are likely to engage in this type of dialogue before a text is fully analyzed. The unintended consequence of all of this is less time in the text more outside the text; problematic in any case but far more so with complex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oes not mean banishing personal response to a text. Though not called for in the standards, there are times these responses and discussion are essential. They are best done however AFTER the text is fully analyzed. At this point students' personal responses will be enhanced by what the text has to offer.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04840" y="696960"/>
            <a:ext cx="4648320" cy="3486240"/>
          </a:xfrm>
          <a:prstGeom prst="rect">
            <a:avLst/>
          </a:prstGeom>
          <a:ln w="0">
            <a:noFill/>
          </a:ln>
        </p:spPr>
      </p:sp>
      <p:sp>
        <p:nvSpPr>
          <p:cNvPr id="1217" name="PlaceHolder 2"/>
          <p:cNvSpPr>
            <a:spLocks noGrp="1"/>
          </p:cNvSpPr>
          <p:nvPr>
            <p:ph type="body"/>
          </p:nvPr>
        </p:nvSpPr>
        <p:spPr>
          <a:xfrm>
            <a:off x="685800" y="4416120"/>
            <a:ext cx="5486400" cy="502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questions that take students outside and inside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are dependent on a common text. </a:t>
            </a:r>
            <a:endParaRPr b="0" lang="en-US" sz="1800" spc="-1" strike="noStrike">
              <a:solidFill>
                <a:srgbClr val="000000"/>
              </a:solidFill>
              <a:latin typeface="Arial"/>
            </a:endParaRPr>
          </a:p>
        </p:txBody>
      </p:sp>
      <p:sp>
        <p:nvSpPr>
          <p:cNvPr id="1218"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04840" y="696960"/>
            <a:ext cx="4648320" cy="3486240"/>
          </a:xfrm>
          <a:prstGeom prst="rect">
            <a:avLst/>
          </a:prstGeom>
          <a:ln w="0">
            <a:noFill/>
          </a:ln>
        </p:spPr>
      </p:sp>
      <p:sp>
        <p:nvSpPr>
          <p:cNvPr id="1220" name="PlaceHolder 2"/>
          <p:cNvSpPr>
            <a:spLocks noGrp="1"/>
          </p:cNvSpPr>
          <p:nvPr>
            <p:ph type="body"/>
          </p:nvPr>
        </p:nvSpPr>
        <p:spPr>
          <a:xfrm>
            <a:off x="685800" y="4416480"/>
            <a:ext cx="5486400" cy="53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have examples of prompts that are meant to show the contrast between text-dependent questions and questions which students are often asked to answer that do not require the text at all.  Ask participants  to discuss the questions. In professional development settings, teachers can examine some of their own questions or questions found in the resources used in cla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e contrast between non text-dependent questions that require no careful reading of the text vs. those that require "reading like a detectiv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comes from a high school biology textbook.  The text itself is excellent. The problem is that students are not “rewarded” for the work of careful reading of the text. Again the prompt requires no comprehension of the excerpt.  </a:t>
            </a:r>
            <a:endParaRPr b="0" lang="en-US" sz="1800" spc="-1" strike="noStrike">
              <a:solidFill>
                <a:srgbClr val="000000"/>
              </a:solidFill>
              <a:latin typeface="Arial"/>
            </a:endParaRPr>
          </a:p>
        </p:txBody>
      </p:sp>
      <p:sp>
        <p:nvSpPr>
          <p:cNvPr id="1221"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04840" y="696960"/>
            <a:ext cx="4648320" cy="3486240"/>
          </a:xfrm>
          <a:prstGeom prst="rect">
            <a:avLst/>
          </a:prstGeom>
          <a:ln w="0">
            <a:noFill/>
          </a:ln>
        </p:spPr>
      </p:sp>
      <p:sp>
        <p:nvSpPr>
          <p:cNvPr id="1223" name="PlaceHolder 2"/>
          <p:cNvSpPr>
            <a:spLocks noGrp="1"/>
          </p:cNvSpPr>
          <p:nvPr>
            <p:ph type="body"/>
          </p:nvPr>
        </p:nvSpPr>
        <p:spPr>
          <a:xfrm>
            <a:off x="685800" y="4416480"/>
            <a:ext cx="5486400" cy="341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mpt in response to </a:t>
            </a:r>
            <a:r>
              <a:rPr b="0" i="1" lang="en-US" sz="1800" spc="-1" strike="noStrike">
                <a:solidFill>
                  <a:srgbClr val="000000"/>
                </a:solidFill>
                <a:latin typeface="Arial"/>
              </a:rPr>
              <a:t>The Adventures of Tom Sawyer</a:t>
            </a:r>
            <a:r>
              <a:rPr b="0" lang="en-US" sz="1800" spc="-1" strike="noStrike">
                <a:solidFill>
                  <a:srgbClr val="000000"/>
                </a:solidFill>
                <a:latin typeface="Arial"/>
              </a:rPr>
              <a:t> includes a few elemen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udents identify methods included in the text. Is this text-dependent? Yes. However it is a pretty low-level text-dependent question.  Very little analysis is requir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nergy intensive piece of this begins with students devising their own charms and writing about that.  Could a student respond without reading the text? </a:t>
            </a:r>
            <a:endParaRPr b="0" lang="en-US" sz="1800" spc="-1" strike="noStrike">
              <a:solidFill>
                <a:srgbClr val="000000"/>
              </a:solidFill>
              <a:latin typeface="Arial"/>
            </a:endParaRPr>
          </a:p>
        </p:txBody>
      </p:sp>
      <p:sp>
        <p:nvSpPr>
          <p:cNvPr id="1224"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04840" y="696960"/>
            <a:ext cx="4648320" cy="3486240"/>
          </a:xfrm>
          <a:prstGeom prst="rect">
            <a:avLst/>
          </a:prstGeom>
          <a:ln w="0">
            <a:noFill/>
          </a:ln>
        </p:spPr>
      </p:sp>
      <p:sp>
        <p:nvSpPr>
          <p:cNvPr id="1226" name="PlaceHolder 2"/>
          <p:cNvSpPr>
            <a:spLocks noGrp="1"/>
          </p:cNvSpPr>
          <p:nvPr>
            <p:ph type="body"/>
          </p:nvPr>
        </p:nvSpPr>
        <p:spPr>
          <a:xfrm>
            <a:off x="685800" y="4416120"/>
            <a:ext cx="5486400" cy="50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nsider this prompt in response to </a:t>
            </a:r>
            <a:r>
              <a:rPr b="0" i="1" lang="en-US" sz="1800" spc="-1" strike="noStrike">
                <a:solidFill>
                  <a:srgbClr val="000000"/>
                </a:solidFill>
                <a:latin typeface="Arial"/>
              </a:rPr>
              <a:t>The Adventures of Tom Sawyer.  </a:t>
            </a:r>
            <a:r>
              <a:rPr b="0" lang="en-US" sz="1800" spc="-1" strike="noStrike">
                <a:solidFill>
                  <a:srgbClr val="000000"/>
                </a:solidFill>
                <a:latin typeface="Arial"/>
              </a:rPr>
              <a:t>A student who is able to answer this certainly has a grasp of the text and Twain’s subtle use of syntax and nuance to create effec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a question to see if it is CCSS-aligned, think whether students have to have read the text in order to accurately respond (vs. drawing on background knowledge or offering an unsupported opinion or conne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more on this, refer to the Text Dependent Questions module on </a:t>
            </a:r>
            <a:r>
              <a:rPr b="0" lang="en-US" sz="1800" spc="-1" strike="noStrike" u="sng">
                <a:solidFill>
                  <a:srgbClr val="0000ff"/>
                </a:solidFill>
                <a:uFillTx/>
                <a:latin typeface="Arial"/>
                <a:hlinkClick r:id="rId1"/>
              </a:rPr>
              <a:t>www.achievethecore.or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hasizing the use to text dependent questions in the classroom in a effective first step in the shift toward the CC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04840" y="696960"/>
            <a:ext cx="4648320" cy="3486240"/>
          </a:xfrm>
          <a:prstGeom prst="rect">
            <a:avLst/>
          </a:prstGeom>
          <a:ln w="0">
            <a:noFill/>
          </a:ln>
        </p:spPr>
      </p:sp>
      <p:sp>
        <p:nvSpPr>
          <p:cNvPr id="1229"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hift in ELA/Literacy is building knowledge through content-rich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have followed the NAEP (National Assessment of Educational Progress) guidelines in establishing how much informational text students should read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04840" y="696960"/>
            <a:ext cx="4648320" cy="3486240"/>
          </a:xfrm>
          <a:prstGeom prst="rect">
            <a:avLst/>
          </a:prstGeom>
          <a:ln w="0">
            <a:noFill/>
          </a:ln>
        </p:spPr>
      </p:sp>
      <p:sp>
        <p:nvSpPr>
          <p:cNvPr id="1232"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5 this means that we should have a balance in what students read of 50/50. So about half of instructional material is stories, poetry, and drama, and the other half is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ddle school, the recommendation shifts to a 45/55 split between literary texts and information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high school, the standards call for a 30/70 split between literary texts and informational tex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04840" y="696960"/>
            <a:ext cx="4648320" cy="3486240"/>
          </a:xfrm>
          <a:prstGeom prst="rect">
            <a:avLst/>
          </a:prstGeom>
          <a:ln w="0">
            <a:noFill/>
          </a:ln>
        </p:spPr>
      </p:sp>
      <p:sp>
        <p:nvSpPr>
          <p:cNvPr id="1235" name="PlaceHolder 2"/>
          <p:cNvSpPr>
            <a:spLocks noGrp="1"/>
          </p:cNvSpPr>
          <p:nvPr>
            <p:ph type="body"/>
          </p:nvPr>
        </p:nvSpPr>
        <p:spPr>
          <a:xfrm>
            <a:off x="685800" y="4416120"/>
            <a:ext cx="5486400" cy="673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plays a role in science and technology, history and social studies, and in classes focused on the arts – and in English Language Ar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knowledge has long been connected to comprehension. Reading informational text is essential in building background knowled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demand that students work on literacy in all the content areas, not as a distraction or as an addition to their study of content, but to build their understanding of the content being studi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isplayed most prominently in two ways. 1) At every grade level, there are a set of standards for informational text and a set for literary standards. 2) Reading Standard 10 calls for students to read a wide range of informational text. It is actually a </a:t>
            </a:r>
            <a:r>
              <a:rPr b="0" i="1" lang="en-US" sz="1800" spc="-1" strike="noStrike">
                <a:solidFill>
                  <a:srgbClr val="000000"/>
                </a:solidFill>
                <a:latin typeface="Arial"/>
              </a:rPr>
              <a:t>standard </a:t>
            </a:r>
            <a:r>
              <a:rPr b="0" lang="en-US" sz="1800" spc="-1" strike="noStrike">
                <a:solidFill>
                  <a:srgbClr val="000000"/>
                </a:solidFill>
                <a:latin typeface="Arial"/>
              </a:rPr>
              <a:t> to read informational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04840" y="696960"/>
            <a:ext cx="4648320" cy="3486240"/>
          </a:xfrm>
          <a:prstGeom prst="rect">
            <a:avLst/>
          </a:prstGeom>
          <a:ln w="0">
            <a:noFill/>
          </a:ln>
        </p:spPr>
      </p:sp>
      <p:sp>
        <p:nvSpPr>
          <p:cNvPr id="1238" name="PlaceHolder 2"/>
          <p:cNvSpPr>
            <a:spLocks noGrp="1"/>
          </p:cNvSpPr>
          <p:nvPr>
            <p:ph type="body"/>
          </p:nvPr>
        </p:nvSpPr>
        <p:spPr>
          <a:xfrm>
            <a:off x="685800" y="4416120"/>
            <a:ext cx="5486400" cy="590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what students read in English classes will be literature, but English teachers should also expose their students to high quality literary non-fiction: speeches and essays and literary criticism for exampl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 classes, teachers engage students in reading of the texts that are the sources of knowledge and communication in their fields, i.e.:  the textbook, trade journal articles, experimental results, and primary source doc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students see that text as a source of knowledge – that you always read </a:t>
            </a:r>
            <a:r>
              <a:rPr b="0" i="1" lang="en-US" sz="1800" spc="-1" strike="noStrike">
                <a:solidFill>
                  <a:srgbClr val="000000"/>
                </a:solidFill>
                <a:latin typeface="Arial"/>
              </a:rPr>
              <a:t>about </a:t>
            </a:r>
            <a:r>
              <a:rPr b="0" lang="en-US" sz="1800" spc="-1" strike="noStrike">
                <a:solidFill>
                  <a:srgbClr val="000000"/>
                </a:solidFill>
                <a:latin typeface="Arial"/>
              </a:rPr>
              <a:t>something. As they read a series of texts on a particular topic, they are building their knowledge and understanding of that area. The better they get at reading, the more able they are to learn independently and efficiently through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04840" y="696960"/>
            <a:ext cx="4648320" cy="3486240"/>
          </a:xfrm>
          <a:prstGeom prst="rect">
            <a:avLst/>
          </a:prstGeom>
          <a:ln w="0">
            <a:noFill/>
          </a:ln>
        </p:spPr>
      </p:sp>
      <p:sp>
        <p:nvSpPr>
          <p:cNvPr id="1187"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ve more students meet the requirements for post-secondary success, there needs to be greater clarity in what is expected of students each year during K-12 educa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tate standards that preceded the Common Core were too vague and too long to realistically inform instruct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mmon Core was designed to be a set of standards that are </a:t>
            </a:r>
            <a:r>
              <a:rPr b="0" i="1" lang="en-US" sz="1600" spc="-1" strike="noStrike">
                <a:solidFill>
                  <a:srgbClr val="000000"/>
                </a:solidFill>
                <a:latin typeface="Arial"/>
              </a:rPr>
              <a:t>fewer</a:t>
            </a:r>
            <a:r>
              <a:rPr b="0" lang="en-US" sz="1600" spc="-1" strike="noStrike">
                <a:solidFill>
                  <a:srgbClr val="000000"/>
                </a:solidFill>
                <a:latin typeface="Arial"/>
              </a:rPr>
              <a:t> in number, </a:t>
            </a:r>
            <a:r>
              <a:rPr b="0" i="1" lang="en-US" sz="1600" spc="-1" strike="noStrike">
                <a:solidFill>
                  <a:srgbClr val="000000"/>
                </a:solidFill>
                <a:latin typeface="Arial"/>
              </a:rPr>
              <a:t>clearer</a:t>
            </a:r>
            <a:r>
              <a:rPr b="0" lang="en-US" sz="1600" spc="-1" strike="noStrike">
                <a:solidFill>
                  <a:srgbClr val="000000"/>
                </a:solidFill>
                <a:latin typeface="Arial"/>
              </a:rPr>
              <a:t> in describing outcomes, and </a:t>
            </a:r>
            <a:r>
              <a:rPr b="0" i="1" lang="en-US" sz="1600" spc="-1" strike="noStrike">
                <a:solidFill>
                  <a:srgbClr val="000000"/>
                </a:solidFill>
                <a:latin typeface="Arial"/>
              </a:rPr>
              <a:t>higher</a:t>
            </a:r>
            <a:r>
              <a:rPr b="0" lang="en-US" sz="1600" spc="-1" strike="noStrike">
                <a:solidFill>
                  <a:srgbClr val="000000"/>
                </a:solidFill>
                <a:latin typeface="Arial"/>
              </a:rPr>
              <a:t>. What is included is what is expected for ALL student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lp students achieve these standards, all practitioners must be honest about the time they require. Teaching less at a much deeper level really is the key to Common Core succes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s surrounding how to focus the standards had to be grounded in evidence regarding what students in fact need in order to have a solid base of education and to be well prepared for career or college demand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d to be many decisions about what </a:t>
            </a:r>
            <a:r>
              <a:rPr b="0" i="1" lang="en-US" sz="1600" spc="-1" strike="noStrike">
                <a:solidFill>
                  <a:srgbClr val="000000"/>
                </a:solidFill>
                <a:latin typeface="Arial"/>
              </a:rPr>
              <a:t>not </a:t>
            </a:r>
            <a:r>
              <a:rPr b="0" lang="en-US" sz="1600" spc="-1" strike="noStrike">
                <a:solidFill>
                  <a:srgbClr val="000000"/>
                </a:solidFill>
                <a:latin typeface="Arial"/>
              </a:rPr>
              <a:t>to include. The focus was narrowed to what mattered most. You can look at the anchor standards and probably agree that all of them are skills you would really want every student you know and care about to leave school able to exercis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CSS represent that rarest of moments in education when an effort starts by communicating that we must </a:t>
            </a:r>
            <a:r>
              <a:rPr b="0" lang="en-US" sz="1600" spc="-1" strike="noStrike" u="sng">
                <a:solidFill>
                  <a:srgbClr val="000000"/>
                </a:solidFill>
                <a:uFillTx/>
                <a:latin typeface="Arial"/>
              </a:rPr>
              <a:t>stop</a:t>
            </a:r>
            <a:r>
              <a:rPr b="0" lang="en-US" sz="1600" spc="-1" strike="noStrike">
                <a:solidFill>
                  <a:srgbClr val="000000"/>
                </a:solidFill>
                <a:latin typeface="Arial"/>
              </a:rPr>
              <a:t> doing certain things, rather than telling educators about </a:t>
            </a:r>
            <a:r>
              <a:rPr b="0" i="1" lang="en-US" sz="1600" spc="-1" strike="noStrike">
                <a:solidFill>
                  <a:srgbClr val="000000"/>
                </a:solidFill>
                <a:latin typeface="Arial"/>
              </a:rPr>
              <a:t>one more thing</a:t>
            </a:r>
            <a:r>
              <a:rPr b="0" lang="en-US" sz="1600" spc="-1" strike="noStrike">
                <a:solidFill>
                  <a:srgbClr val="000000"/>
                </a:solidFill>
                <a:latin typeface="Arial"/>
              </a:rPr>
              <a:t> they can add to their already overbooked agenda to help support their students.  You can think of the standards and this focus on the shifts that really are at the center of what is different about them as the “power of the eraser” over the power of the pe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04840" y="696960"/>
            <a:ext cx="4648320" cy="3486240"/>
          </a:xfrm>
          <a:prstGeom prst="rect">
            <a:avLst/>
          </a:prstGeom>
          <a:ln w="0">
            <a:noFill/>
          </a:ln>
        </p:spPr>
      </p:sp>
      <p:sp>
        <p:nvSpPr>
          <p:cNvPr id="1241"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for Close Analytic Read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r texts, questions, and tasks can be found for various grade leve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acilitator may distribute the </a:t>
            </a:r>
            <a:r>
              <a:rPr b="0" i="1" lang="en-US" sz="1800" spc="-1" strike="noStrike">
                <a:solidFill>
                  <a:srgbClr val="000000"/>
                </a:solidFill>
                <a:latin typeface="Arial"/>
              </a:rPr>
              <a:t>Description of ELA/Literacy Shifts </a:t>
            </a:r>
            <a:r>
              <a:rPr b="0" lang="en-US" sz="1800" spc="-1" strike="noStrike">
                <a:solidFill>
                  <a:srgbClr val="000000"/>
                </a:solidFill>
                <a:latin typeface="Arial"/>
              </a:rPr>
              <a:t>at the conclusion of this presentation.  The handout is also utilized during the </a:t>
            </a:r>
            <a:r>
              <a:rPr b="1" lang="en-US" sz="1800" spc="-1" strike="noStrike">
                <a:solidFill>
                  <a:srgbClr val="000000"/>
                </a:solidFill>
                <a:latin typeface="Arial"/>
              </a:rPr>
              <a:t>Discussion Activity - Processing the Shif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04840" y="696960"/>
            <a:ext cx="4648320" cy="3486240"/>
          </a:xfrm>
          <a:prstGeom prst="rect">
            <a:avLst/>
          </a:prstGeom>
          <a:ln w="0">
            <a:noFill/>
          </a:ln>
        </p:spPr>
      </p:sp>
      <p:sp>
        <p:nvSpPr>
          <p:cNvPr id="1244" name="PlaceHolder 2"/>
          <p:cNvSpPr>
            <a:spLocks noGrp="1"/>
          </p:cNvSpPr>
          <p:nvPr>
            <p:ph type="body"/>
          </p:nvPr>
        </p:nvSpPr>
        <p:spPr>
          <a:xfrm>
            <a:off x="685800" y="4416480"/>
            <a:ext cx="5486400" cy="667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ARE INCLUDED TO PROVIDE PARTICIPANTS WITH AN OVERVIEW OF THE OVERALL STRUCTURE AND CONTENT OF THE STANDARDS}</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trands within the ELA standards (K-5 also have an additional strand - Reading Standards: Foundation Skil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de level standards were created after the anchor standards and were built from them. The idea was: If we agree that every graduate should be able to do </a:t>
            </a:r>
            <a:r>
              <a:rPr b="0" i="1" lang="en-US" sz="1800" spc="-1" strike="noStrike">
                <a:solidFill>
                  <a:srgbClr val="000000"/>
                </a:solidFill>
                <a:latin typeface="Arial"/>
              </a:rPr>
              <a:t>those anchor standards, </a:t>
            </a:r>
            <a:r>
              <a:rPr b="0" lang="en-US" sz="1800" spc="-1" strike="noStrike">
                <a:solidFill>
                  <a:srgbClr val="000000"/>
                </a:solidFill>
                <a:latin typeface="Arial"/>
              </a:rPr>
              <a:t>then what will it take to get students college and career-ready over the course of the K-12 journey?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content area literacy standards for reading and writing as well. Every field (biology, history, fine arts, etc.) has its own knowledge base, and every subject area teacher needs to teach the written record of that fiel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for text complexity are listed by grade bands.</a:t>
            </a:r>
            <a:endParaRPr b="0" lang="en-US" sz="1800" spc="-1" strike="noStrike">
              <a:solidFill>
                <a:srgbClr val="000000"/>
              </a:solidFill>
              <a:latin typeface="Arial"/>
            </a:endParaRPr>
          </a:p>
        </p:txBody>
      </p:sp>
      <p:sp>
        <p:nvSpPr>
          <p:cNvPr id="1245"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04840" y="696960"/>
            <a:ext cx="4648320" cy="3486240"/>
          </a:xfrm>
          <a:prstGeom prst="rect">
            <a:avLst/>
          </a:prstGeom>
          <a:ln w="0">
            <a:noFill/>
          </a:ln>
        </p:spPr>
      </p:sp>
      <p:sp>
        <p:nvSpPr>
          <p:cNvPr id="1247" name="PlaceHolder 2"/>
          <p:cNvSpPr>
            <a:spLocks noGrp="1"/>
          </p:cNvSpPr>
          <p:nvPr>
            <p:ph type="body"/>
          </p:nvPr>
        </p:nvSpPr>
        <p:spPr>
          <a:xfrm>
            <a:off x="685800" y="4416120"/>
            <a:ext cx="5486400" cy="14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for Informational Texts, 4</a:t>
            </a:r>
            <a:r>
              <a:rPr b="0" lang="en-US" sz="1800" spc="-1" strike="noStrike" baseline="30000">
                <a:solidFill>
                  <a:srgbClr val="000000"/>
                </a:solidFill>
                <a:latin typeface="Arial"/>
              </a:rPr>
              <a:t>th</a:t>
            </a:r>
            <a:r>
              <a:rPr b="0" lang="en-US" sz="1800" spc="-1" strike="noStrike">
                <a:solidFill>
                  <a:srgbClr val="000000"/>
                </a:solidFill>
                <a:latin typeface="Arial"/>
              </a:rPr>
              <a:t> grade, standard 2</a:t>
            </a:r>
            <a:endParaRPr b="0" lang="en-US" sz="1800" spc="-1" strike="noStrike">
              <a:solidFill>
                <a:srgbClr val="000000"/>
              </a:solidFill>
              <a:latin typeface="Arial"/>
            </a:endParaRPr>
          </a:p>
        </p:txBody>
      </p:sp>
      <p:sp>
        <p:nvSpPr>
          <p:cNvPr id="1248"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04840" y="696960"/>
            <a:ext cx="4648320" cy="3486240"/>
          </a:xfrm>
          <a:prstGeom prst="rect">
            <a:avLst/>
          </a:prstGeom>
          <a:ln w="0">
            <a:noFill/>
          </a:ln>
        </p:spPr>
      </p:sp>
      <p:sp>
        <p:nvSpPr>
          <p:cNvPr id="1250" name="PlaceHolder 2"/>
          <p:cNvSpPr>
            <a:spLocks noGrp="1"/>
          </p:cNvSpPr>
          <p:nvPr>
            <p:ph type="body"/>
          </p:nvPr>
        </p:nvSpPr>
        <p:spPr>
          <a:xfrm>
            <a:off x="685800" y="4416480"/>
            <a:ext cx="548640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1</a:t>
            </a:r>
            <a:r>
              <a:rPr b="0" lang="en-US" sz="1800" spc="-1" strike="noStrike" baseline="30000">
                <a:solidFill>
                  <a:srgbClr val="000000"/>
                </a:solidFill>
                <a:latin typeface="Arial"/>
              </a:rPr>
              <a:t>th</a:t>
            </a:r>
            <a:r>
              <a:rPr b="0" lang="en-US" sz="1800" spc="-1" strike="noStrike">
                <a:solidFill>
                  <a:srgbClr val="000000"/>
                </a:solidFill>
                <a:latin typeface="Arial"/>
              </a:rPr>
              <a:t> and 12</a:t>
            </a:r>
            <a:r>
              <a:rPr b="0" lang="en-US" sz="1800" spc="-1" strike="noStrike" baseline="30000">
                <a:solidFill>
                  <a:srgbClr val="000000"/>
                </a:solidFill>
                <a:latin typeface="Arial"/>
              </a:rPr>
              <a:t>th</a:t>
            </a:r>
            <a:r>
              <a:rPr b="0" lang="en-US" sz="1800" spc="-1" strike="noStrike">
                <a:solidFill>
                  <a:srgbClr val="000000"/>
                </a:solidFill>
                <a:latin typeface="Arial"/>
              </a:rPr>
              <a:t> grade, standard 1, sub-item B</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  After this slide, participants may complete the Hands on Activity – Name the Standards</a:t>
            </a:r>
            <a:endParaRPr b="0" lang="en-US" sz="1800" spc="-1" strike="noStrike">
              <a:solidFill>
                <a:srgbClr val="000000"/>
              </a:solidFill>
              <a:latin typeface="Arial"/>
            </a:endParaRPr>
          </a:p>
        </p:txBody>
      </p:sp>
      <p:sp>
        <p:nvSpPr>
          <p:cNvPr id="1251"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04840" y="696960"/>
            <a:ext cx="4648320" cy="3486240"/>
          </a:xfrm>
          <a:prstGeom prst="rect">
            <a:avLst/>
          </a:prstGeom>
          <a:ln w="0">
            <a:noFill/>
          </a:ln>
        </p:spPr>
      </p:sp>
      <p:sp>
        <p:nvSpPr>
          <p:cNvPr id="119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discuss them each in turn. </a:t>
            </a:r>
            <a:endParaRPr b="0" lang="en-US" sz="1200" spc="-1" strike="noStrike">
              <a:solidFill>
                <a:srgbClr val="000000"/>
              </a:solidFill>
              <a:latin typeface="Arial"/>
            </a:endParaRPr>
          </a:p>
        </p:txBody>
      </p:sp>
      <p:sp>
        <p:nvSpPr>
          <p:cNvPr id="1191"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04840" y="696960"/>
            <a:ext cx="4648320" cy="3486240"/>
          </a:xfrm>
          <a:prstGeom prst="rect">
            <a:avLst/>
          </a:prstGeom>
          <a:ln w="0">
            <a:noFill/>
          </a:ln>
        </p:spPr>
      </p:sp>
      <p:sp>
        <p:nvSpPr>
          <p:cNvPr id="1193" name="PlaceHolder 2"/>
          <p:cNvSpPr>
            <a:spLocks noGrp="1"/>
          </p:cNvSpPr>
          <p:nvPr>
            <p:ph type="body"/>
          </p:nvPr>
        </p:nvSpPr>
        <p:spPr>
          <a:xfrm>
            <a:off x="685800" y="4416480"/>
            <a:ext cx="5486400" cy="448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f the three shifts requires that ALL students have regular practice with grade-level appropriate complex text and its academic language (vocabulary and syntax.)</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 evidence appears all over the ELA standards, so does complex text. It is the first half of Standard Ten, the same standard that calls for a range of text types. It is a </a:t>
            </a:r>
            <a:r>
              <a:rPr b="0" i="1" lang="en-US" sz="1800" spc="-1" strike="noStrike">
                <a:solidFill>
                  <a:srgbClr val="000000"/>
                </a:solidFill>
                <a:latin typeface="Arial"/>
              </a:rPr>
              <a:t>standard </a:t>
            </a:r>
            <a:r>
              <a:rPr b="0" lang="en-US" sz="1800" spc="-1" strike="noStrike">
                <a:solidFill>
                  <a:srgbClr val="000000"/>
                </a:solidFill>
                <a:latin typeface="Arial"/>
              </a:rPr>
              <a:t>for students to read grade appropriate complex text at every point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is central to the standards as well. It is what Reading Standard 4 is about, and is also the focus of Language Standards 4,5, and 6.</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04840" y="696960"/>
            <a:ext cx="4648320" cy="3486240"/>
          </a:xfrm>
          <a:prstGeom prst="rect">
            <a:avLst/>
          </a:prstGeom>
          <a:ln w="0">
            <a:noFill/>
          </a:ln>
        </p:spPr>
      </p:sp>
      <p:sp>
        <p:nvSpPr>
          <p:cNvPr id="1196"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that informed the development of the Standards revealed that there is a significant gap in the complexity of what students read by the end of high school and what they are required to read in both college and careers – 4 year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udy done by ACT in 2006, it was found that the complexity level of what students read at each grade level has dropped 4 years in the last half of the 20th century (and has remained the same in the last deca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ic language of informational text is different than narrative literature. Exposing students to this enhances the breadth of their academic language, lack of this exposure narrows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oo long, proficiency in reading has been defined as skill in using reading strategies, even to the point of separating those strategies from the context or challenge that might call for a given strategy. The Common Core puts the text in the center of the equation and demands that students activate strategies in service of understanding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ing the strategies in isolation only take students so far. A successful reader possesses the ability to activate strategies skillfully in response to challenges most frequently encountered in complex text. Like every other complex set of skills, this takes lots of practi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mplexity of text is the path to CCR, not increasing complicated reading strategi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04840" y="696960"/>
            <a:ext cx="4648320" cy="3486240"/>
          </a:xfrm>
          <a:prstGeom prst="rect">
            <a:avLst/>
          </a:prstGeom>
          <a:ln w="0">
            <a:noFill/>
          </a:ln>
        </p:spPr>
      </p:sp>
      <p:sp>
        <p:nvSpPr>
          <p:cNvPr id="1199"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text contains any and all combinations of these features in many combination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level is determined by both quantitative and qualitative measures.  The details of text complexity are well described in Appendix A of the Standards, one of the supplemental readings offered with this module. New tools have been developed since the Standards were developed to help determine qualitative text complexity. Those materials are available on </a:t>
            </a:r>
            <a:r>
              <a:rPr b="0" lang="en-US" sz="1600" spc="-1" strike="noStrike" u="sng">
                <a:solidFill>
                  <a:srgbClr val="0000ff"/>
                </a:solidFill>
                <a:uFillTx/>
                <a:latin typeface="Arial"/>
                <a:hlinkClick r:id="rId1"/>
              </a:rPr>
              <a:t>www.achievethecore.or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S</a:t>
            </a:r>
            <a:r>
              <a:rPr b="0" lang="en-US" sz="1600" spc="-1" strike="noStrike" u="sng">
                <a:solidFill>
                  <a:srgbClr val="000000"/>
                </a:solidFill>
                <a:uFillTx/>
                <a:latin typeface="Arial"/>
              </a:rPr>
              <a:t>tudents who struggle with reading almost always have gaps in their vocabulary and their ability to deal with more complex sentence structures. This too is well documented in research.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less proficient students are given texts at their level where they do not see these features, where the demands of vocabulary and sentence structure are lowered. Though this is done for the kindest of reasons, it has disastrous consequences. Day by day, differentiating by level of text during instructional time increases the achievement gap between high performers and those who struggle.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cannot address gaps in their vocabulary and develop skill with unpacking complex syntax text when they are not given the opportunity to work with material that provides these opportunit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at said, there is a place for providing students with text more appropriately matched to their individual reading abilities to build fluency and provide opportunity for increasing the volume of reading.  But those texts cannot be the primary texts for instruc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04840" y="696960"/>
            <a:ext cx="4648320" cy="3486240"/>
          </a:xfrm>
          <a:prstGeom prst="rect">
            <a:avLst/>
          </a:prstGeom>
          <a:ln w="0">
            <a:noFill/>
          </a:ln>
        </p:spPr>
      </p:sp>
      <p:sp>
        <p:nvSpPr>
          <p:cNvPr id="1202" name="PlaceHolder 2"/>
          <p:cNvSpPr>
            <a:spLocks noGrp="1"/>
          </p:cNvSpPr>
          <p:nvPr>
            <p:ph type="body"/>
          </p:nvPr>
        </p:nvSpPr>
        <p:spPr>
          <a:xfrm>
            <a:off x="685800" y="4416480"/>
            <a:ext cx="5486400" cy="1507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oes not mean students do this without any support! It is essential that teachers and instructional material provide scaffolds to support ALL students in comprehending complex tex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caffolding types will reliably support many students and a has a strong research base:</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dings. Complex text takes multiple reads to fully understand the layers of meaning provided by the author. Because of this, the text selected for close reading should be excellent or they will not be worthy of the time commitment they require to read fully. Re-reading assists fluency and is the primary way readers make sense of challenges encountered when 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text aloud </a:t>
            </a:r>
            <a:r>
              <a:rPr b="0" i="1" lang="en-US" sz="1400" spc="-1" strike="noStrike">
                <a:solidFill>
                  <a:srgbClr val="000000"/>
                </a:solidFill>
                <a:latin typeface="Arial"/>
              </a:rPr>
              <a:t>while students follow along </a:t>
            </a:r>
            <a:r>
              <a:rPr b="0" lang="en-US" sz="1400" spc="-1" strike="noStrike">
                <a:solidFill>
                  <a:srgbClr val="000000"/>
                </a:solidFill>
                <a:latin typeface="Arial"/>
              </a:rPr>
              <a:t>. Fluency challenges are rampant when students encounter grade level appropriate text. All teachers must be aware of this and reach in to help. The two best ways to help are having the students follow along while the text is read aloud and by reading text multiple times. (These two methods are systematically built into the close reading model included in this module.)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oud of complex text is especially important for early readers K-2 because the work of the standards is too complex to apply to the texts students can read on their own, and students cannot develop academic language through the texts students can read on their own at these grades (levels); for all practical purposes read aloud provides students who come to kindergarten with less developed academic language with a way to catch up.</a:t>
            </a:r>
            <a:endParaRPr b="0" lang="en-US" sz="18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unking” longer text into smaller and logical sections makes the text more manageable and helps demonstrate how the author structured the text.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text-specific questions point readers to challenging sentences and ask for special attention to be paid to them. They direct students to what matters most and asks them to examine those parts. They also pay particularly close attention to vocabulary that can be figured out in the context of the text. Because they require text evidence, they demand re-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ng out text structures or features that will either provide comprehension support (like section headers) or challenges (like long paragraphs or sentenc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that do not promote improved reading incomes and do </a:t>
            </a:r>
            <a:r>
              <a:rPr b="0" i="1" lang="en-US" sz="1400" spc="-1" strike="noStrike">
                <a:solidFill>
                  <a:srgbClr val="000000"/>
                </a:solidFill>
                <a:latin typeface="Arial"/>
              </a:rPr>
              <a:t>not </a:t>
            </a:r>
            <a:r>
              <a:rPr b="0" lang="en-US" sz="1400" spc="-1" strike="noStrike">
                <a:solidFill>
                  <a:srgbClr val="000000"/>
                </a:solidFill>
                <a:latin typeface="Arial"/>
              </a:rPr>
              <a:t>have research support behind the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ing the topic of the reading in a text-free way (just “teacher talk”). A careful examination of the text is solid practice. But telling students what they will be reading before they read will remove any motivation for discovering it for themselves and it will teach students that learning from reading is not a central activity in that classroo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simple text to weak readers and complex texts to strong readers. Differentiation by text type, as opposed to providing a variety of supports for the same complex text, leads to the “Matthew Effect” – “to those who have, more will be given. To those who have little, even that little will be taken away,” a well-researched finding. This is particularly true because of the differences in vocabulary that students will see from simpler to more complex text. Words create much of the differences in text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is growing independence with increasingly complex text.  The strategies implemented should all aim at getting students stronger and more skilled – like exercises and scrimmages in a sports practice.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04840" y="696960"/>
            <a:ext cx="4648320" cy="3486240"/>
          </a:xfrm>
          <a:prstGeom prst="rect">
            <a:avLst/>
          </a:prstGeom>
          <a:ln w="0">
            <a:noFill/>
          </a:ln>
        </p:spPr>
      </p:sp>
      <p:sp>
        <p:nvSpPr>
          <p:cNvPr id="1205"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clearly articulate what students should know and do in order to be college and career ready.  The standards are the same for all student popul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ation for EL and SPED teachers is around how to provided students with the appropriate scaffolding to access to the wor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know is that students must have access to texts, tasks, and conversation that lead to college and career readiness.</a:t>
            </a:r>
            <a:endParaRPr b="0" lang="en-US" sz="1800" spc="-1" strike="noStrike">
              <a:solidFill>
                <a:srgbClr val="000000"/>
              </a:solidFill>
              <a:latin typeface="Arial"/>
            </a:endParaRPr>
          </a:p>
        </p:txBody>
      </p:sp>
      <p:sp>
        <p:nvSpPr>
          <p:cNvPr id="1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C4ED2-0EC1-497F-9A2A-0B45794BE16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04840" y="696960"/>
            <a:ext cx="4648320" cy="3486240"/>
          </a:xfrm>
          <a:prstGeom prst="rect">
            <a:avLst/>
          </a:prstGeom>
          <a:ln w="0">
            <a:noFill/>
          </a:ln>
        </p:spPr>
      </p:sp>
      <p:sp>
        <p:nvSpPr>
          <p:cNvPr id="1208" name="PlaceHolder 2"/>
          <p:cNvSpPr>
            <a:spLocks noGrp="1"/>
          </p:cNvSpPr>
          <p:nvPr>
            <p:ph type="body"/>
          </p:nvPr>
        </p:nvSpPr>
        <p:spPr>
          <a:xfrm>
            <a:off x="685800" y="4416120"/>
            <a:ext cx="5486400" cy="397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ading hones in on difficult portions of text, and provides students an opportunity to work with those sections. Close reading opposes  "think aloud," where teacher explain these difficult portions before students have had a chance to learn from them on their ow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is virtually every standard evident when students close read – the 3 shifts required by the standards are evident as well!  When reading appropriately complex non-fiction or literature, ask students to respond the text-dependent questions about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B4E4C2-8068-4301-B3BD-7235C1E377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6F5934F1-E807-4C91-BE17-9E8DFDFD9F6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6B9BAC23-1E1E-47A1-8591-57AB65FF5ED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A23AD1D8-67E8-423A-A488-CFF7DE6681E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9404BF44-B178-4B39-9F40-41C083B07D2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CF4D0D8-DBF7-4DB6-9A3C-36E478A4587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EC8266FF-CD96-43BC-992F-816C12297CF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8F204EE-EDDB-49B5-B10F-FC92188F0CE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7FAFEBEC-BFCE-4389-A646-5DC2EF812CF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92E45151-7C0C-482C-8C4A-D6EF916B997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BA01540E-D705-4683-B060-04890E5A0EE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28F29B5-3D5E-4D36-AA98-1716ED869C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CBE12A49-1FD2-4A8D-A1C0-40AA1A27A37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24AC19C-6B66-4E04-894F-5E52F32C0EE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CDF1E09-4CE8-4DC0-8D61-510FAC7AC60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43CCDC5-27BC-4741-A06A-03441E59B95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1C02AFD5-343D-407E-9B25-970159E1FC9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B3EAC7B8-A616-4CD7-937E-35CF0EB42DA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A73FA5F-480D-484D-9B75-5AD9F1278CB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7EB3151-CD5A-4C33-8EAD-AD0BA211875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5D84BF8-E328-49A0-8C5C-24AF2A6B033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44AB1BDB-A976-4B2D-81ED-64DC94E6311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94E2DF04-0C5D-4821-BFF1-DB67B3D6E3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AC38BF0B-7803-437A-98CA-854825B7AA9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6E042E2B-CAAE-4001-AEB0-C4FF0ACD0B7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F3FA2DA-CEFD-49A0-89E5-0F2863295AC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D5851F3-49E6-448A-9731-D2555B624B0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0020A6F-470C-4234-A0BD-0B9DA333672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E2A7A697-C8B2-4383-A0D1-5645C7E84D1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C8A3BF1B-A1E2-4263-9B28-7582A7FFE10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5891B1F8-1480-4F8D-B2B9-874AEA29109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6678122-C462-4831-924F-144C46715C5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2561263D-1F39-4E97-8E4B-3796B796C96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0A64BBF-D24F-49DC-992C-AEBDD21B8D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D0201A33-0948-4D12-A90B-4D2032695FA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EAE9F41A-5150-4F49-9E14-822BB41373F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B95729B7-0971-420B-B3A6-72AF5D8E601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9466E41-742E-4F48-A5C7-144D993A56E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2945D01-35AD-41E1-8B50-3CC9B560555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E902E5DA-97FB-4082-8662-38E3642938D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200EF157-C0E0-4907-9427-B66856726EB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F0A46CC4-F53A-49B9-8015-096FEB7EB82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46F1B9EF-7AB3-4168-A341-9EBAACE0552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BA554EA-71FF-49F7-A13C-0CB1030821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6FCE472-0726-4B4B-90E7-93C8065299F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7FB2569-24B6-4DA1-8085-FF69E5C3FFC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BA8534E-B0CC-442C-8DCD-A7565C346A9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2801DCE0-BD1D-4E82-B386-E7808C89CC6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A5E31756-88A2-4834-9EA9-49AB2EED58A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3FFE837-4D45-4E93-98F1-5F310C48099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29E9F8AC-F66D-4771-B516-2B02A9407B9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E672C631-D73C-4753-A491-3F4FEA73E9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039C0CA9-D505-464C-9F73-834083402A1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576A0789-BE08-4BBC-9A45-D1F879DCA28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02E78537-E6ED-468A-ADAB-14CB496F364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37C01ED-3F11-4F3E-806F-5C141C53585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F92FB0D-6F6B-4F73-A7D6-7B79457A04A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68FB27C-24E9-4ED0-A861-029B35D87D0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6541909A-7E2C-4E52-AE11-4161E817C95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C36BED17-9850-4B90-BF48-89455C63E1C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07987BE4-8DC3-47C9-A5D6-8FE585B36C7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3713F38-543F-4CA9-BDAF-99CD06F4244F}"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20B17B93-F17C-4BBF-8F5E-06828AB5C79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3314B499-934C-4333-8177-691C5A537E2F}"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99BA7973-4732-47D9-BFBA-8D21B7026A8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E0B71A42-3153-42E0-B7CF-27B23420CBFB}"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3D72C728-987D-4E96-9446-EA1272F00B3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817ED04-4830-408F-A85E-28EB49655EBA}"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AC56B01-D0EE-4AE9-8777-BD5F0CE5D5B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EBDEF66-94D5-4CEC-A5D8-1077DBD837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8F2CBA1A-CC8F-4880-9885-195BF75646D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2E39E204-EA6A-410C-9DE6-FCE00AE7AA76}"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607BDB17-23C5-464C-AB1B-3170248990EB}"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7626D1E-3950-4B68-AA28-B3866A59CCAC}"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EBABCF09-02AD-44A4-83DE-B4990209CCB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20F959D3-22B9-4D67-A4F2-C0DD3E55C14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F7D8E4FE-F476-44EC-9C36-24BA859A65D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A33B0970-9910-4AF3-B30A-A21644DE67E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93AD5135-3958-4A92-85BB-36A57F0A238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9B5E4D5-B4DF-4DEC-8FEF-D38B2311E7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9E2EA54-2230-4F53-9D1A-BB6ED5C4A3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79466C5-2E9C-49E6-8791-22E0B54722E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84A706D-98D4-4E6D-9F54-D82FEBA38EA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62527A6B-0866-4BB9-95C0-515B76A52F2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C5C554FC-EBA0-4205-86E6-0F625816599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4FBB3994-93AE-4589-BA26-61AE0443141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F480F95-AB66-48A6-AC89-A7A21F8EE01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003ED7DF-701F-4862-962A-CB59C2A2552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CA1BCC65-2CE8-417E-9B66-744AD18AED9A}"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785A6668-5E4A-4D2D-A1C9-7A1EFE6B236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452FB345-F915-4DE6-8515-0CE31143A1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570D3B87-72F1-4A3C-8870-5288C4D1B18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B78D9C1F-C6CF-4AC5-93D5-865C6EECF4EA}"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CD6676F1-A02B-425A-BD42-C85A4979C5BA}"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C370DD83-EF93-402E-9095-0C1B7B718C51}"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79D4D28D-D7F9-4125-8DA8-B67E973D44EC}"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68AD1890-A2D0-41B2-B8A0-B93C0481047D}"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D3A79357-3257-49A0-AA23-C151BCE1389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0FA257B-43EA-4B3A-9560-04243166537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B656C9FF-8282-49BA-BADB-2E594B1B06F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523B448A-125A-46F9-9F67-882172FA56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B02D1D3E-7281-4DB2-AEC5-71CB0AC2D413}"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112F2B12-7A59-4772-B374-F801B0761DB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24B75789-5636-4D1F-BA3C-F69006857AD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09C1770-D2F3-4295-9397-00EA69119CB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7EA6689-F5AD-4473-A4E3-C680DC5162C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730B2B4-4410-4362-B438-3AB849EB4D3F}"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E726A401-707B-4C58-ACCF-E058CE78E58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9FDFD903-6D12-46BA-9461-8B9D514886D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86D83C64-10E8-4725-8EE0-3A2EFA9C514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25B40F9-5BB9-4DCD-99E9-9AB22E88D7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377F0553-678D-48BC-B421-137C53B3C5E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4555739E-B7A2-4916-BA8C-810EA3B568F1}"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E514B5DC-5B4D-4837-9A3E-DE861DDDC61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527B82B2-45E3-4EB1-9106-6C978DB5DBE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CF8B01EF-4C6F-4C71-9780-E6721F29BC83}"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AC95F5A2-BCF3-4E43-AD35-03FBECE4F2B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A131A228-9E05-47E8-9A3C-7CFEBAFF21E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180AC3E-2F62-4A17-BF2C-000F2A92173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CAE7F9FE-01BC-4F13-B9AA-B18D6C2CFD52}"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130F57C2-C042-49A1-930B-1FA96DBF16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1E9F761E-AC74-4115-B943-69CDADA5C743}"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ECEFE0E-6E98-4B60-A7B7-56CE79ADDB6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FAF18394-5762-484E-8BBD-70D0E6C1C0E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53F2CE3F-5675-4074-88F3-F46EEF7B305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4E49232F-B978-479D-9B62-8D122EB1256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49A5FCAD-596F-47CF-BD28-4CF4E6789B1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4217F744-DF9D-40EE-AFE2-4770DD27225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630AD76-4F92-4B31-969D-71D8B31CE4E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31CB812-FEA2-4B26-BAE2-150522BF5D4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A8B48BCE-C240-4298-A19C-6332D3D4F5E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6DC577-6564-4A09-B1BE-03F5FECE769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697D4CF-ACA1-42D1-9A15-B00BC9687C2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B0EC31BC-9776-414F-B600-B83EB3EBEF09}"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9B71647A-9B3B-416B-9E12-CB305A605B8C}"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07DF6AE-9DE4-4DBE-98B9-4D74911B689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F980ED6F-FE58-4F19-A51D-7CC27C049407}"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062160B-3EB2-4E24-AFFC-C10356AA8F94}"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951593D9-1D33-46CD-B284-4C581E310CD8}"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E38F8751-293F-4A91-AD7E-38A170BAE834}"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401A16FE-9C25-4011-9BE7-FCDBA1B95628}"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03153D6-46C2-4E58-96E4-5D5C99EFC2C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9C46F82B-4019-44F6-A811-B50C89727AD8}"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780FA41-0DBD-4F04-B0E0-98A0DC02E0D1}"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9A54426-B811-4004-8C68-1DAB8F6A2E37}"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39237573-73D2-42CB-BEFE-05D7C997BFB4}"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E484EB83-7D12-444F-80FE-5E6845FF09FF}"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F9D6B0C8-852B-4A8A-BEE1-01F743EA2202}"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19828629-7D41-4025-B045-D7A0499FD2A9}"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DF6DF149-FCB0-42DD-9953-7A352D4896F7}"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E2B53932-3C56-46D6-8C1B-E33271C71F65}"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EBA0C603-BEEE-4E8F-AD0A-22282DDD553F}"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859D9D5D-6496-4107-9776-B28BE512E07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7C6388DD-936E-4875-BBA4-1D6D645F03E7}"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D991CD80-AE23-4BD5-987A-6B754128E1AD}"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3C8CFB3-EF3E-4D49-B793-42C56CF96EF3}"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6FCF24B-695D-47F1-8E54-D3BE0862993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6D16469-222C-4550-BF37-9FF7B298353E}"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9607737F-3298-4519-A596-1AD8CEEAD59C}"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1C575BB9-ECF7-4C95-8949-0519E8D9AD2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AFDCAEFA-36B0-4393-8B31-51160F4AB971}"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93A6E8A-7629-4327-B623-511B77FF9E5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4EEF941-E170-491D-9E8C-727A5932BCA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33D8A99-1529-4115-B948-14FCD47EE23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8A92B97E-AA49-47D5-BEDA-31F0F3CC8CC5}"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1B8074B-84B8-4658-8109-155ED02355A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0A1A4AF-9FF5-4A58-B4E4-4B8B8FE93F9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7AB243B-473E-4074-A025-2AF95050304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4D03C7F-B2A5-4F44-B572-9353B8F2516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F38AB80-5305-41EB-A485-FF412B2CF81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ED0D42D-2F36-4935-99A6-40B7F76C63E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9E6F773-3A57-4A7B-B0AD-67D2FD5AB91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CFE236E-F7D0-402F-A290-28E8975C485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72C08D7-7EFD-4BE2-A170-4BDD5176EAC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0E5BDCB0-511B-42E8-9DE4-4C5A3FD7544F}"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E3675949-C8CA-483F-B491-DF28E59C2CF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DD8D32F7-A6F0-4315-8057-C2578651344D}"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F158CD22-F63F-41BF-A2E2-2CDC5B660AA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D7ECD792-3BAF-4F0C-92E6-50FB66D8252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D9AAE14-A601-4CE9-8DA2-0A2AC8680D8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F6CA8278-F50C-40AC-8785-1A9E2BE4B53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73F9CF4A-9A1C-4FAA-B48C-6329C59220A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158F56D1-374A-4E52-8D11-84776CB42D5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D38D27F-D691-4A61-87F0-C46D73DB8B0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C3E7297-1268-4B41-A37E-DCE27CD1CE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989F5DAE-7B82-4088-91B6-938B89DAE82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091D172F-E412-46E2-B637-A3EAA3A2A4E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080B6B26-909A-4E5C-B3F7-6EDB4E0D4EE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73D0C272-8E35-4ACD-ACC1-B73840B2E7E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A5A27E3B-53A7-4F4C-8325-D54496E89B4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D149E5A5-672B-4DC8-A691-D4B3444B06A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16403A1-605E-4571-9F43-56B18E36443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B7B4D1D0-A8CD-4C90-8A79-1DC7A1251BB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114371D-F533-4401-A7C8-F050A5DFE6E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C5C9401E-BAD4-4DA8-B2FD-1C18368305B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D15F40BD-BE4A-4982-8CB0-4C977F3347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7E3BF8FE-8234-4894-88F1-2AA0E800B9D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B681218D-A035-46A9-8709-456BACE5B17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DF6E46-28AE-48F6-8130-73F89246D44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8039867-0AAD-4154-B3D2-403A747567E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247E6C02-B4F5-4C17-9547-93F7C686793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60A03B21-7743-4160-A859-7199AC24988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DCFE44A7-90E0-4A82-9286-337A69AE39F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A02ACB31-DDC6-46CF-8BBE-31C4E382258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59110DB-0579-4AF7-93DC-2C143B27984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17E40A3-AD32-4865-8D94-7FCA9749F5F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7AC7FE30-C6B4-4429-B01C-0423B23769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5F1714E-C3F6-4411-B14A-56D7D450987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EC05EF2A-BA50-4CC8-A4F2-596298A33E4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9FCD3757-EAD7-4FDE-8CAC-B88F962FA00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5CE05EDB-FC83-484A-BC0D-81231DE4596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01F9A1E-0E57-4908-ADFE-86696219D40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1BC36367-0B74-4839-AA12-AAE43689F47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C3230F6-6E60-4DEE-BE8D-720FF8D2F40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8AE52BB-3061-45E9-BEFB-EF6B31A61E5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8F2803BB-A278-4756-B708-0CEF3E70E42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E8C673A3-6C11-46D9-A3BB-3FBD6615D56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BC4B136-9C63-420B-92A8-4DA77BA6F3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CAC3F9D-6163-40B9-8474-512A68B2F15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A049EAA-9C29-49E6-B95D-5C9B8D9DD4C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EF085C6-10C5-46DB-9D39-6C5834C6D35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4F1EEB0-89EC-45D6-900A-12E07706757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56EE87D6-A549-4F2C-A983-A575E271895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91AC7258-EDEA-4B85-8BBF-AA6FAA0E928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6055668-7817-4C7A-BAB7-3285F2121B6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11AC0B3-3679-4ECF-9C59-042BB660DCD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DC54D08D-4172-4F1C-8BCB-ED0CA35DFF1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0ED8E13B-584F-4FA8-92F1-98B8F43B8DF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4A9058BB-9394-4209-ABF5-7E752F9B95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F30B3EE-FCDC-4F39-B49E-1CC4DD3B717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AFC9E948-EB6C-43D4-8AB3-BA5E46235FE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0289F89-7C81-436B-993A-848C503DA84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07EAA1D-ACE5-499E-85A4-1F25C098652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5907274-04F9-4DDC-A3AC-C1CF79B39F6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2B869D4-C4C9-4BEB-AFD1-93A98CC5FD2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DADB7EBE-5BEA-4EC0-BB64-5C320615E85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8F86C7A7-7B78-4A3F-ACE1-861E2D3742C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4C60D4C-5227-44A5-BA95-DC83F3CD103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E4B98DD5-48CF-4B93-AD49-C58B8697C7E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B9CE4D70-0C0E-4A7F-8659-84F7D66750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3D52-63E0-49C9-82F2-89EE31454152}"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78290-6141-4F3A-8256-27B4126916F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1DA16-8395-45E9-8820-6A0F06CA4E4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F02D-113E-4084-A131-9EF70A28C11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4"/>
          <p:cNvGrpSpPr/>
          <p:nvPr/>
        </p:nvGrpSpPr>
        <p:grpSpPr>
          <a:xfrm>
            <a:off x="771480" y="6550200"/>
            <a:ext cx="8372520" cy="320400"/>
            <a:chOff x="771480" y="6550200"/>
            <a:chExt cx="8372520" cy="320400"/>
          </a:xfrm>
        </p:grpSpPr>
        <p:sp>
          <p:nvSpPr>
            <p:cNvPr id="553"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9"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B8BB9-8509-4256-BBC3-C7D832FFCDA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539B-54EE-4C34-9753-361564799492}"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7" name="Group 6"/>
          <p:cNvGrpSpPr/>
          <p:nvPr/>
        </p:nvGrpSpPr>
        <p:grpSpPr>
          <a:xfrm>
            <a:off x="771480" y="6550200"/>
            <a:ext cx="8372520" cy="320400"/>
            <a:chOff x="771480" y="6550200"/>
            <a:chExt cx="8372520" cy="320400"/>
          </a:xfrm>
        </p:grpSpPr>
        <p:sp>
          <p:nvSpPr>
            <p:cNvPr id="598"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Group 4"/>
          <p:cNvGrpSpPr/>
          <p:nvPr/>
        </p:nvGrpSpPr>
        <p:grpSpPr>
          <a:xfrm>
            <a:off x="771480" y="6541560"/>
            <a:ext cx="8372520" cy="321120"/>
            <a:chOff x="771480" y="6541560"/>
            <a:chExt cx="8372520" cy="321120"/>
          </a:xfrm>
        </p:grpSpPr>
        <p:sp>
          <p:nvSpPr>
            <p:cNvPr id="640"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6"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00DF-436F-40AF-B60F-882B0E1B8A3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4"/>
          <p:cNvGrpSpPr/>
          <p:nvPr/>
        </p:nvGrpSpPr>
        <p:grpSpPr>
          <a:xfrm>
            <a:off x="771480" y="6541560"/>
            <a:ext cx="8372520" cy="321120"/>
            <a:chOff x="771480" y="6541560"/>
            <a:chExt cx="8372520" cy="321120"/>
          </a:xfrm>
        </p:grpSpPr>
        <p:sp>
          <p:nvSpPr>
            <p:cNvPr id="684"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0"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54967-2566-4B55-9B9B-CE8CB0E554F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4"/>
          <p:cNvGrpSpPr/>
          <p:nvPr/>
        </p:nvGrpSpPr>
        <p:grpSpPr>
          <a:xfrm>
            <a:off x="771480" y="6550200"/>
            <a:ext cx="8372520" cy="320400"/>
            <a:chOff x="771480" y="6550200"/>
            <a:chExt cx="8372520" cy="320400"/>
          </a:xfrm>
        </p:grpSpPr>
        <p:sp>
          <p:nvSpPr>
            <p:cNvPr id="7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4"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84D1B-5BF8-4B01-B304-1FF210D3F22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4"/>
          <p:cNvGrpSpPr/>
          <p:nvPr/>
        </p:nvGrpSpPr>
        <p:grpSpPr>
          <a:xfrm>
            <a:off x="771480" y="6550200"/>
            <a:ext cx="8372520" cy="320400"/>
            <a:chOff x="771480" y="6550200"/>
            <a:chExt cx="8372520" cy="320400"/>
          </a:xfrm>
        </p:grpSpPr>
        <p:sp>
          <p:nvSpPr>
            <p:cNvPr id="7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7"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AF83D-F4FB-4C01-9774-DFCCC1FB285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4" name="Group 4"/>
          <p:cNvGrpSpPr/>
          <p:nvPr/>
        </p:nvGrpSpPr>
        <p:grpSpPr>
          <a:xfrm>
            <a:off x="771480" y="6550200"/>
            <a:ext cx="8372520" cy="320400"/>
            <a:chOff x="771480" y="6550200"/>
            <a:chExt cx="8372520" cy="320400"/>
          </a:xfrm>
        </p:grpSpPr>
        <p:sp>
          <p:nvSpPr>
            <p:cNvPr id="81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0"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2E16-80D2-44E2-A88A-3E0D0E786AD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Group 4"/>
          <p:cNvGrpSpPr/>
          <p:nvPr/>
        </p:nvGrpSpPr>
        <p:grpSpPr>
          <a:xfrm>
            <a:off x="771480" y="6550200"/>
            <a:ext cx="8372520" cy="320400"/>
            <a:chOff x="771480" y="6550200"/>
            <a:chExt cx="8372520" cy="320400"/>
          </a:xfrm>
        </p:grpSpPr>
        <p:sp>
          <p:nvSpPr>
            <p:cNvPr id="85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3"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AA3AA-00DB-42DB-BB61-CB36BFBF264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Group 4"/>
          <p:cNvGrpSpPr/>
          <p:nvPr/>
        </p:nvGrpSpPr>
        <p:grpSpPr>
          <a:xfrm>
            <a:off x="771480" y="6550200"/>
            <a:ext cx="8372520" cy="320400"/>
            <a:chOff x="771480" y="6550200"/>
            <a:chExt cx="8372520" cy="320400"/>
          </a:xfrm>
        </p:grpSpPr>
        <p:sp>
          <p:nvSpPr>
            <p:cNvPr id="9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7"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D4468-991F-417A-85CC-9C9452D64BC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4" name="Group 4"/>
          <p:cNvGrpSpPr/>
          <p:nvPr/>
        </p:nvGrpSpPr>
        <p:grpSpPr>
          <a:xfrm>
            <a:off x="771480" y="6550200"/>
            <a:ext cx="8372520" cy="320400"/>
            <a:chOff x="771480" y="6550200"/>
            <a:chExt cx="8372520" cy="320400"/>
          </a:xfrm>
        </p:grpSpPr>
        <p:sp>
          <p:nvSpPr>
            <p:cNvPr id="9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0"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AD05-C3F6-4148-B7E4-37F7ABC3905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9"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3BCEE-B897-4BCE-A2E5-AB27FA0E1D4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9985-25F7-4FD4-9AE8-41B33A87F39A}"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10F6D-D9E4-41B6-9AFF-553BB366E87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0700-1207-4829-9E35-F4CA119E072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B6C40-FF45-4A11-A210-47B781DE2E8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1619C-F360-4B46-86D1-277F477E3B6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1E36D-2330-44B4-A386-0A121565512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6" name="Picture 4" descr="C:\Users\SAP\Desktop\SAP_iTunesCover_square_01.jpg"/>
          <p:cNvPicPr/>
          <p:nvPr/>
        </p:nvPicPr>
        <p:blipFill>
          <a:blip r:embed="rId1"/>
          <a:stretch/>
        </p:blipFill>
        <p:spPr>
          <a:xfrm>
            <a:off x="7696080" y="15228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0F29-32C7-4EE2-848D-DD914B5818C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3"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B11E-34D7-43BF-A5D5-407EA9EDFA2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66F2-F5D9-4775-BBEA-83C54470585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7"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8"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0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0"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1" name="Group 2"/>
          <p:cNvGrpSpPr/>
          <p:nvPr/>
        </p:nvGrpSpPr>
        <p:grpSpPr>
          <a:xfrm>
            <a:off x="4538520" y="1695600"/>
            <a:ext cx="549360" cy="5029560"/>
            <a:chOff x="4538520" y="1695600"/>
            <a:chExt cx="549360" cy="5029560"/>
          </a:xfrm>
        </p:grpSpPr>
        <p:cxnSp>
          <p:nvCxnSpPr>
            <p:cNvPr id="1112" name="Shape 138"/>
            <p:cNvCxnSpPr/>
            <p:nvPr/>
          </p:nvCxnSpPr>
          <p:spPr>
            <a:xfrm flipH="1">
              <a:off x="4784040" y="1695600"/>
              <a:ext cx="1080" cy="5029920"/>
            </a:xfrm>
            <a:prstGeom prst="straightConnector1">
              <a:avLst/>
            </a:prstGeom>
            <a:ln w="19080">
              <a:solidFill>
                <a:srgbClr val="0e291a"/>
              </a:solidFill>
              <a:miter/>
            </a:ln>
          </p:spPr>
        </p:cxnSp>
        <p:sp>
          <p:nvSpPr>
            <p:cNvPr id="1113"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6"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7"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19"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1A31-D093-4166-A007-71BB52C67B5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2"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815B-A72A-4B94-B45B-F6B69241994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5"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EDEC-0164-47DA-BE7F-774EEDA0427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7171-3EF6-4EFC-85C1-1B00B849B55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0"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CFC0A-266C-461B-A7F8-C30A2D3D245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3"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5040-7634-4A12-B240-A89E4C9CADC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6"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97EF-9E2B-4476-AC8C-E827572EC6A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8"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7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98B9B-D508-4A7F-8A3D-D6CD3EA95D9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9" name="Group 2"/>
          <p:cNvGrpSpPr/>
          <p:nvPr/>
        </p:nvGrpSpPr>
        <p:grpSpPr>
          <a:xfrm>
            <a:off x="204840" y="507960"/>
            <a:ext cx="5065560" cy="3533760"/>
            <a:chOff x="204840" y="507960"/>
            <a:chExt cx="5065560" cy="3533760"/>
          </a:xfrm>
        </p:grpSpPr>
        <p:grpSp>
          <p:nvGrpSpPr>
            <p:cNvPr id="1140" name="Group 1"/>
            <p:cNvGrpSpPr/>
            <p:nvPr/>
          </p:nvGrpSpPr>
          <p:grpSpPr>
            <a:xfrm>
              <a:off x="204840" y="507960"/>
              <a:ext cx="5065560" cy="3533760"/>
              <a:chOff x="204840" y="507960"/>
              <a:chExt cx="5065560" cy="3533760"/>
            </a:xfrm>
          </p:grpSpPr>
          <p:sp>
            <p:nvSpPr>
              <p:cNvPr id="1141"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3"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4192-562B-4764-AB38-38B0F8830F6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8"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49" name="Shape 99"/>
          <p:cNvGrpSpPr/>
          <p:nvPr/>
        </p:nvGrpSpPr>
        <p:grpSpPr>
          <a:xfrm>
            <a:off x="5791320" y="1500120"/>
            <a:ext cx="2193840" cy="4363200"/>
            <a:chOff x="5791320" y="1500120"/>
            <a:chExt cx="2193840" cy="4363200"/>
          </a:xfrm>
        </p:grpSpPr>
        <p:sp>
          <p:nvSpPr>
            <p:cNvPr id="1150"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2"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4"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D648-1FB1-4CAA-A750-FB5D7F76CF6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8" name="Shape 112"/>
          <p:cNvGrpSpPr/>
          <p:nvPr/>
        </p:nvGrpSpPr>
        <p:grpSpPr>
          <a:xfrm>
            <a:off x="2209680" y="2133720"/>
            <a:ext cx="4724640" cy="1802160"/>
            <a:chOff x="2209680" y="2133720"/>
            <a:chExt cx="4724640" cy="1802160"/>
          </a:xfrm>
        </p:grpSpPr>
        <p:sp>
          <p:nvSpPr>
            <p:cNvPr id="1159"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0" name="Shape 114"/>
            <p:cNvGrpSpPr/>
            <p:nvPr/>
          </p:nvGrpSpPr>
          <p:grpSpPr>
            <a:xfrm>
              <a:off x="2819160" y="3188160"/>
              <a:ext cx="914400" cy="747720"/>
              <a:chOff x="2819160" y="3188160"/>
              <a:chExt cx="914400" cy="747720"/>
            </a:xfrm>
          </p:grpSpPr>
          <p:sp>
            <p:nvSpPr>
              <p:cNvPr id="1161"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2"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3" name="Shape 117"/>
            <p:cNvGrpSpPr/>
            <p:nvPr/>
          </p:nvGrpSpPr>
          <p:grpSpPr>
            <a:xfrm>
              <a:off x="3886200" y="3188160"/>
              <a:ext cx="990720" cy="747720"/>
              <a:chOff x="3886200" y="3188160"/>
              <a:chExt cx="990720" cy="747720"/>
            </a:xfrm>
          </p:grpSpPr>
          <p:sp>
            <p:nvSpPr>
              <p:cNvPr id="1164"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5"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6" name="Shape 120"/>
            <p:cNvGrpSpPr/>
            <p:nvPr/>
          </p:nvGrpSpPr>
          <p:grpSpPr>
            <a:xfrm>
              <a:off x="4876920" y="3188160"/>
              <a:ext cx="2057400" cy="747360"/>
              <a:chOff x="4876920" y="3188160"/>
              <a:chExt cx="2057400" cy="747360"/>
            </a:xfrm>
          </p:grpSpPr>
          <p:sp>
            <p:nvSpPr>
              <p:cNvPr id="1167"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8"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6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26A80-07AE-4985-B474-4FC2F327D29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1" name="Shape 129"/>
          <p:cNvGrpSpPr/>
          <p:nvPr/>
        </p:nvGrpSpPr>
        <p:grpSpPr>
          <a:xfrm>
            <a:off x="1638360" y="2093760"/>
            <a:ext cx="5867280" cy="1901880"/>
            <a:chOff x="1638360" y="2093760"/>
            <a:chExt cx="5867280" cy="1901880"/>
          </a:xfrm>
        </p:grpSpPr>
        <p:sp>
          <p:nvSpPr>
            <p:cNvPr id="1172"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3" name="Shape 131"/>
            <p:cNvGrpSpPr/>
            <p:nvPr/>
          </p:nvGrpSpPr>
          <p:grpSpPr>
            <a:xfrm>
              <a:off x="1942920" y="3160800"/>
              <a:ext cx="1188720" cy="747720"/>
              <a:chOff x="1942920" y="3160800"/>
              <a:chExt cx="1188720" cy="747720"/>
            </a:xfrm>
          </p:grpSpPr>
          <p:sp>
            <p:nvSpPr>
              <p:cNvPr id="1174"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5"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6" name="Shape 134"/>
            <p:cNvGrpSpPr/>
            <p:nvPr/>
          </p:nvGrpSpPr>
          <p:grpSpPr>
            <a:xfrm>
              <a:off x="3520440" y="3160800"/>
              <a:ext cx="1287720" cy="747720"/>
              <a:chOff x="3520440" y="3160800"/>
              <a:chExt cx="1287720" cy="747720"/>
            </a:xfrm>
          </p:grpSpPr>
          <p:sp>
            <p:nvSpPr>
              <p:cNvPr id="1177"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8"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9" name="Shape 137"/>
            <p:cNvGrpSpPr/>
            <p:nvPr/>
          </p:nvGrpSpPr>
          <p:grpSpPr>
            <a:xfrm>
              <a:off x="5372280" y="3160800"/>
              <a:ext cx="2133360" cy="834840"/>
              <a:chOff x="5372280" y="3160800"/>
              <a:chExt cx="2133360" cy="834840"/>
            </a:xfrm>
          </p:grpSpPr>
          <p:sp>
            <p:nvSpPr>
              <p:cNvPr id="1180"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1"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21B7-F244-426A-9799-CD8E3BFA88E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1"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a:t>
            </a:r>
            <a:r>
              <a:rPr b="0" lang="en-US" sz="2800" spc="-1" strike="noStrike">
                <a:solidFill>
                  <a:srgbClr val="262626"/>
                </a:solidFill>
                <a:latin typeface="Calibri"/>
                <a:ea typeface="Arial"/>
              </a:rPr>
              <a:t> and its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a:t>
            </a:r>
            <a:r>
              <a:rPr b="0" lang="en-US" sz="2800" spc="-1" strike="noStrike">
                <a:solidFill>
                  <a:srgbClr val="262626"/>
                </a:solidFill>
                <a:latin typeface="Calibri"/>
                <a:ea typeface="Arial"/>
              </a:rPr>
              <a:t> 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10D1-3837-4110-B831-9754E07A665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7" dur="1"/>
                                        <p:tgtEl>
                                          <p:spTgt spid="10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12" dur="1"/>
                                        <p:tgtEl>
                                          <p:spTgt spid="108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17" dur="1"/>
                                        <p:tgtEl>
                                          <p:spTgt spid="10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st and its academic language</a:t>
            </a:r>
            <a:endParaRPr b="1" lang="en-US" sz="3600" spc="-1" strike="noStrike">
              <a:solidFill>
                <a:srgbClr val="17375e"/>
              </a:solidFill>
              <a:latin typeface="Century Gothic"/>
            </a:endParaRPr>
          </a:p>
        </p:txBody>
      </p:sp>
      <p:sp>
        <p:nvSpPr>
          <p:cNvPr id="108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31CB-BE4E-436A-AE25-AEDE9D2DAA4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6"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9157-1703-4787-846B-257503EAD93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89"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EFD0B-958C-4738-B32E-17714852D07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2"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310C-7629-4019-9637-F52026F0131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5"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6"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8"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09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0D53-AE76-4DE1-B7BF-A9FB8D7EDD0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35Z</dcterms:modified>
  <cp:revision>47</cp:revision>
  <dc:subject/>
  <dc:title>Text-Dependent Questions</dc:title>
</cp:coreProperties>
</file>