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9"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1"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2"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3"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4"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104840" y="696960"/>
            <a:ext cx="4648320" cy="3486240"/>
          </a:xfrm>
          <a:prstGeom prst="rect">
            <a:avLst/>
          </a:prstGeom>
          <a:ln w="0">
            <a:noFill/>
          </a:ln>
        </p:spPr>
      </p:sp>
      <p:sp>
        <p:nvSpPr>
          <p:cNvPr id="118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6"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04840" y="696960"/>
            <a:ext cx="4648320" cy="3486240"/>
          </a:xfrm>
          <a:prstGeom prst="rect">
            <a:avLst/>
          </a:prstGeom>
          <a:ln w="0">
            <a:noFill/>
          </a:ln>
        </p:spPr>
      </p:sp>
      <p:sp>
        <p:nvSpPr>
          <p:cNvPr id="1212"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1104840" y="696960"/>
            <a:ext cx="4648320" cy="3486240"/>
          </a:xfrm>
          <a:prstGeom prst="rect">
            <a:avLst/>
          </a:prstGeom>
          <a:ln w="0">
            <a:noFill/>
          </a:ln>
        </p:spPr>
      </p:sp>
      <p:sp>
        <p:nvSpPr>
          <p:cNvPr id="1215"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104840" y="696960"/>
            <a:ext cx="4648320" cy="3486240"/>
          </a:xfrm>
          <a:prstGeom prst="rect">
            <a:avLst/>
          </a:prstGeom>
          <a:ln w="0">
            <a:noFill/>
          </a:ln>
        </p:spPr>
      </p:sp>
      <p:sp>
        <p:nvSpPr>
          <p:cNvPr id="12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1104840" y="696960"/>
            <a:ext cx="4648320" cy="3486240"/>
          </a:xfrm>
          <a:prstGeom prst="rect">
            <a:avLst/>
          </a:prstGeom>
          <a:ln w="0">
            <a:noFill/>
          </a:ln>
        </p:spPr>
      </p:sp>
      <p:sp>
        <p:nvSpPr>
          <p:cNvPr id="1221"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104840" y="696960"/>
            <a:ext cx="4648320" cy="3486240"/>
          </a:xfrm>
          <a:prstGeom prst="rect">
            <a:avLst/>
          </a:prstGeom>
          <a:ln w="0">
            <a:noFill/>
          </a:ln>
        </p:spPr>
      </p:sp>
      <p:sp>
        <p:nvSpPr>
          <p:cNvPr id="1224" name="PlaceHolder 2"/>
          <p:cNvSpPr>
            <a:spLocks noGrp="1"/>
          </p:cNvSpPr>
          <p:nvPr>
            <p:ph type="body"/>
          </p:nvPr>
        </p:nvSpPr>
        <p:spPr>
          <a:xfrm>
            <a:off x="685800" y="4416480"/>
            <a:ext cx="5486400" cy="34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104840" y="696960"/>
            <a:ext cx="4648320" cy="3486240"/>
          </a:xfrm>
          <a:prstGeom prst="rect">
            <a:avLst/>
          </a:prstGeom>
          <a:ln w="0">
            <a:noFill/>
          </a:ln>
        </p:spPr>
      </p:sp>
      <p:sp>
        <p:nvSpPr>
          <p:cNvPr id="1227" name="PlaceHolder 2"/>
          <p:cNvSpPr>
            <a:spLocks noGrp="1"/>
          </p:cNvSpPr>
          <p:nvPr>
            <p:ph type="body"/>
          </p:nvPr>
        </p:nvSpPr>
        <p:spPr>
          <a:xfrm>
            <a:off x="685800" y="4416120"/>
            <a:ext cx="5486400" cy="50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28"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04840" y="696960"/>
            <a:ext cx="4648320" cy="3486240"/>
          </a:xfrm>
          <a:prstGeom prst="rect">
            <a:avLst/>
          </a:prstGeom>
          <a:ln w="0">
            <a:noFill/>
          </a:ln>
        </p:spPr>
      </p:sp>
      <p:sp>
        <p:nvSpPr>
          <p:cNvPr id="1230" name="PlaceHolder 2"/>
          <p:cNvSpPr>
            <a:spLocks noGrp="1"/>
          </p:cNvSpPr>
          <p:nvPr>
            <p:ph type="body"/>
          </p:nvPr>
        </p:nvSpPr>
        <p:spPr>
          <a:xfrm>
            <a:off x="685800" y="4416120"/>
            <a:ext cx="5486400" cy="480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04840" y="696960"/>
            <a:ext cx="4648320" cy="3486240"/>
          </a:xfrm>
          <a:prstGeom prst="rect">
            <a:avLst/>
          </a:prstGeom>
          <a:ln w="0">
            <a:noFill/>
          </a:ln>
        </p:spPr>
      </p:sp>
      <p:sp>
        <p:nvSpPr>
          <p:cNvPr id="1233"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104840" y="696960"/>
            <a:ext cx="4648320" cy="3486240"/>
          </a:xfrm>
          <a:prstGeom prst="rect">
            <a:avLst/>
          </a:prstGeom>
          <a:ln w="0">
            <a:noFill/>
          </a:ln>
        </p:spPr>
      </p:sp>
      <p:sp>
        <p:nvSpPr>
          <p:cNvPr id="1236" name="PlaceHolder 2"/>
          <p:cNvSpPr>
            <a:spLocks noGrp="1"/>
          </p:cNvSpPr>
          <p:nvPr>
            <p:ph type="body"/>
          </p:nvPr>
        </p:nvSpPr>
        <p:spPr>
          <a:xfrm>
            <a:off x="685800" y="4416120"/>
            <a:ext cx="5486400" cy="67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04840" y="696960"/>
            <a:ext cx="4648320" cy="3486240"/>
          </a:xfrm>
          <a:prstGeom prst="rect">
            <a:avLst/>
          </a:prstGeom>
          <a:ln w="0">
            <a:noFill/>
          </a:ln>
        </p:spPr>
      </p:sp>
      <p:sp>
        <p:nvSpPr>
          <p:cNvPr id="1239" name="PlaceHolder 2"/>
          <p:cNvSpPr>
            <a:spLocks noGrp="1"/>
          </p:cNvSpPr>
          <p:nvPr>
            <p:ph type="body"/>
          </p:nvPr>
        </p:nvSpPr>
        <p:spPr>
          <a:xfrm>
            <a:off x="685800" y="4416120"/>
            <a:ext cx="5486400" cy="59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04840" y="696960"/>
            <a:ext cx="4648320" cy="3486240"/>
          </a:xfrm>
          <a:prstGeom prst="rect">
            <a:avLst/>
          </a:prstGeom>
          <a:ln w="0">
            <a:noFill/>
          </a:ln>
        </p:spPr>
      </p:sp>
      <p:sp>
        <p:nvSpPr>
          <p:cNvPr id="1188"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9"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04840" y="696960"/>
            <a:ext cx="4648320" cy="3486240"/>
          </a:xfrm>
          <a:prstGeom prst="rect">
            <a:avLst/>
          </a:prstGeom>
          <a:ln w="0">
            <a:noFill/>
          </a:ln>
        </p:spPr>
      </p:sp>
      <p:sp>
        <p:nvSpPr>
          <p:cNvPr id="1242"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04840" y="696960"/>
            <a:ext cx="4648320" cy="3486240"/>
          </a:xfrm>
          <a:prstGeom prst="rect">
            <a:avLst/>
          </a:prstGeom>
          <a:ln w="0">
            <a:noFill/>
          </a:ln>
        </p:spPr>
      </p:sp>
      <p:sp>
        <p:nvSpPr>
          <p:cNvPr id="1245"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04840" y="696960"/>
            <a:ext cx="4648320" cy="3486240"/>
          </a:xfrm>
          <a:prstGeom prst="rect">
            <a:avLst/>
          </a:prstGeom>
          <a:ln w="0">
            <a:noFill/>
          </a:ln>
        </p:spPr>
      </p:sp>
      <p:sp>
        <p:nvSpPr>
          <p:cNvPr id="1248" name="PlaceHolder 2"/>
          <p:cNvSpPr>
            <a:spLocks noGrp="1"/>
          </p:cNvSpPr>
          <p:nvPr>
            <p:ph type="body"/>
          </p:nvPr>
        </p:nvSpPr>
        <p:spPr>
          <a:xfrm>
            <a:off x="685800" y="4416120"/>
            <a:ext cx="5486400" cy="147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104840" y="696960"/>
            <a:ext cx="4648320" cy="3486240"/>
          </a:xfrm>
          <a:prstGeom prst="rect">
            <a:avLst/>
          </a:prstGeom>
          <a:ln w="0">
            <a:noFill/>
          </a:ln>
        </p:spPr>
      </p:sp>
      <p:sp>
        <p:nvSpPr>
          <p:cNvPr id="1251" name="PlaceHolder 2"/>
          <p:cNvSpPr>
            <a:spLocks noGrp="1"/>
          </p:cNvSpPr>
          <p:nvPr>
            <p:ph type="body"/>
          </p:nvPr>
        </p:nvSpPr>
        <p:spPr>
          <a:xfrm>
            <a:off x="685800" y="4416480"/>
            <a:ext cx="5486400" cy="230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2"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1104840" y="696960"/>
            <a:ext cx="4648320" cy="3486240"/>
          </a:xfrm>
          <a:prstGeom prst="rect">
            <a:avLst/>
          </a:prstGeom>
          <a:ln w="0">
            <a:noFill/>
          </a:ln>
        </p:spPr>
      </p:sp>
      <p:sp>
        <p:nvSpPr>
          <p:cNvPr id="11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92"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04840" y="696960"/>
            <a:ext cx="4648320" cy="3486240"/>
          </a:xfrm>
          <a:prstGeom prst="rect">
            <a:avLst/>
          </a:prstGeom>
          <a:ln w="0">
            <a:noFill/>
          </a:ln>
        </p:spPr>
      </p:sp>
      <p:sp>
        <p:nvSpPr>
          <p:cNvPr id="1194" name="PlaceHolder 2"/>
          <p:cNvSpPr>
            <a:spLocks noGrp="1"/>
          </p:cNvSpPr>
          <p:nvPr>
            <p:ph type="body"/>
          </p:nvPr>
        </p:nvSpPr>
        <p:spPr>
          <a:xfrm>
            <a:off x="685800" y="4416480"/>
            <a:ext cx="5486400" cy="203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04840" y="696960"/>
            <a:ext cx="4648320" cy="3486240"/>
          </a:xfrm>
          <a:prstGeom prst="rect">
            <a:avLst/>
          </a:prstGeom>
          <a:ln w="0">
            <a:noFill/>
          </a:ln>
        </p:spPr>
      </p:sp>
      <p:sp>
        <p:nvSpPr>
          <p:cNvPr id="1197"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04840" y="696960"/>
            <a:ext cx="4648320" cy="3486240"/>
          </a:xfrm>
          <a:prstGeom prst="rect">
            <a:avLst/>
          </a:prstGeom>
          <a:ln w="0">
            <a:noFill/>
          </a:ln>
        </p:spPr>
      </p:sp>
      <p:sp>
        <p:nvSpPr>
          <p:cNvPr id="1200"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1"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104840" y="696960"/>
            <a:ext cx="4648320" cy="3486240"/>
          </a:xfrm>
          <a:prstGeom prst="rect">
            <a:avLst/>
          </a:prstGeom>
          <a:ln w="0">
            <a:noFill/>
          </a:ln>
        </p:spPr>
      </p:sp>
      <p:sp>
        <p:nvSpPr>
          <p:cNvPr id="1203" name="PlaceHolder 2"/>
          <p:cNvSpPr>
            <a:spLocks noGrp="1"/>
          </p:cNvSpPr>
          <p:nvPr>
            <p:ph type="body"/>
          </p:nvPr>
        </p:nvSpPr>
        <p:spPr>
          <a:xfrm>
            <a:off x="685800" y="4416480"/>
            <a:ext cx="5486400" cy="15079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4"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04840" y="696960"/>
            <a:ext cx="4648320" cy="3486240"/>
          </a:xfrm>
          <a:prstGeom prst="rect">
            <a:avLst/>
          </a:prstGeom>
          <a:ln w="0">
            <a:noFill/>
          </a:ln>
        </p:spPr>
      </p:sp>
      <p:sp>
        <p:nvSpPr>
          <p:cNvPr id="1206" name="PlaceHolder 2"/>
          <p:cNvSpPr>
            <a:spLocks noGrp="1"/>
          </p:cNvSpPr>
          <p:nvPr>
            <p:ph type="body"/>
          </p:nvPr>
        </p:nvSpPr>
        <p:spPr>
          <a:xfrm>
            <a:off x="685800" y="4416120"/>
            <a:ext cx="548640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FF994-8E37-478B-B066-9475DB8018E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104840" y="696960"/>
            <a:ext cx="4648320" cy="3486240"/>
          </a:xfrm>
          <a:prstGeom prst="rect">
            <a:avLst/>
          </a:prstGeom>
          <a:ln w="0">
            <a:noFill/>
          </a:ln>
        </p:spPr>
      </p:sp>
      <p:sp>
        <p:nvSpPr>
          <p:cNvPr id="1209" name="PlaceHolder 2"/>
          <p:cNvSpPr>
            <a:spLocks noGrp="1"/>
          </p:cNvSpPr>
          <p:nvPr>
            <p:ph type="body"/>
          </p:nvPr>
        </p:nvSpPr>
        <p:spPr>
          <a:xfrm>
            <a:off x="685800" y="4416120"/>
            <a:ext cx="5486400" cy="397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3933D9-2768-4295-BED8-CFF1BCF4F7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71485B5F-326F-44CF-A557-A285F28F060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EC50E8E3-E896-4D54-87F9-AC0BECDF940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E7C00FF1-9C41-49EC-9CA4-B9DA7589292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A685E661-79D6-4839-A98C-9C4D14B3215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0F584BE6-89D8-47D9-9FFA-CDE27E42A99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619996E5-7D1D-443C-A437-0E308A04461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9769CDDA-341B-411A-BDC2-2BE27315938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BDCCA143-B1DE-4465-971B-900BBB9AAB5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0612EEE4-52A6-49B0-847A-0E3A6FB989B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C4BB3FDD-463D-46C0-B04D-7D87CFCB8DD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7BB815F-91E9-4E4C-AE30-84EBF72422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4EDC40C4-7BB6-4C6C-A380-73835324560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01B7FF94-47AF-480A-9844-8AF50798BD3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E34966A3-6506-45EF-AE88-3FDC1B97FDB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7F2F48E9-EDE4-438A-97C2-949DA446B3A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E20BA958-A79B-4A8E-9064-3FDDA98D2C9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3C122282-06B3-465A-90DA-5AE53094B39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066BBFE9-9AB6-45A9-97C2-935184D4CD5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8C338671-B2BF-46D9-9955-2AAFA781C15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6FA74FE0-CC58-418A-BA18-7221CBFDC4E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8184C241-C141-492F-B827-1BB04A9EB79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B7FDFE20-97AA-49AB-8E1C-963EFE5A7D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49B00A9F-E178-4696-A9F3-6F98C2D4E25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5889A05A-CBA3-4F47-BB99-6ADF2BC7C7A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9DA06B5-3915-4673-B855-85540CE7BA1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53FBA3A0-3D3B-4416-9247-B334261F160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08505CDD-CC7E-4A73-B54D-AAD025404EA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0917D5A0-4CC9-4C3E-98E4-6E17433BD66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8FE17E6C-171B-4139-93AB-13BA0F7142A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2E6A77DC-668F-4A26-BB6C-1ED0DCBD2EC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640B064D-69C5-4873-A99F-72C3E3A778D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825E0225-8278-42A2-A6E3-BDB6F0B1961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E6CE9087-D4BC-4759-B0D0-1527DDBEE8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55E888F1-2B6D-42BA-9C13-2A050007D31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FF5D4D44-380C-4F26-BA07-71C3770AD08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55CE29AB-5029-404E-82FC-D20995B0B7F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8A36842-59FD-4713-8FE3-6C45A9A55B8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AEBF29F5-C22B-4F38-9887-F7FA423BAD0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E5897B1A-79A4-4209-98E1-F086935FF83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9E661F3F-B870-43F9-AD25-9AE225E0AF2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23674D90-CEE8-4046-8369-6763066DA45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8F4572D8-5731-45CA-9F12-6F21AF84760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841E3A73-F389-4026-A209-59AFC7AC8B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275BCC1B-8E37-4505-A91E-3D46891ADE0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D4CCE8EC-96F7-48E9-A1B5-642317539DE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EBCB9D28-D884-4435-A965-7EF11B09E6F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996764EA-FDCC-49C4-A11C-4BE7E412564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CB60D103-F948-4BB7-AD33-D2F4462CF1C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622CDB0C-08C1-4EB4-9657-7CEC5E435D8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AE54F189-EBB7-409D-8055-3AA0EE28590C}"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0A237E53-2D03-428C-8FC8-21229670CF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02FA7E8A-B7BF-4AE3-8B75-9722C9B5726C}"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0558BB03-9ED9-430C-B9F5-4FA4843159E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A564A64E-63EA-419E-B9E2-ACBB1FF7E75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AD24EB22-21CF-40D3-BDF2-CDE1AE1857A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C025B625-4D4A-412B-8AE8-BD42C3D7394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149D1A62-F2DA-46F0-9A41-5CEE1DEEBE9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85EDA76A-C641-44FD-86F2-D49938D0778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762B72CD-0B5B-4FE9-9DC3-AFD30380B61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5D707F62-BBD1-4399-8432-56F8227F130B}"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7185F4D-9A8D-434F-954E-B7032C333272}"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F5CFFF78-AD6A-4C8B-99A0-040F8EA284CE}"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0F391C22-B8D2-45C7-B811-CD7F5521C95B}"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300B520F-B268-44BE-95EB-B1743B3EFB94}"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F8D74D96-6B32-4F02-A440-8F9B3EA8620B}"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C6717576-B802-4AEF-9BB3-84454256F01E}"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2E8AA7D3-D647-4194-B2B8-D3862D0446E9}"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940EE7AC-6E1E-4F40-A834-B080ED2FA633}"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B488D975-3A06-4C20-8E64-C97CB884D5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352036B3-B99A-428E-9AE0-3ED322903844}"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B28E7E2F-1C4F-428A-838A-AAAD4EC2521E}"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29F1FBE0-7308-4371-9DB8-519E37D8CA82}"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0C432084-D5D2-44DE-9C40-2FAC5B3E412A}"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3D7A8420-E075-43E0-8945-1FFDDDD324DF}"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0A8D8B8E-F329-41AE-A5B8-F279806E833F}"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C7D65B5B-AC8B-4F2A-AE6E-765E9401A0CA}"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50B91055-FDFE-4589-99A7-1A1FF25C43D3}"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3C2D5077-A28E-4347-A266-0967A5115B02}"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E332F973-4BC8-4139-869F-D6B5AEEFBC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144D52D9-0732-43BA-B3DD-A706140A48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45B7E045-CB87-4BCE-B78C-33EF7B292ACA}"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9F91928C-3176-454D-B935-71AA834253A3}"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8C683584-CCE2-45A7-89D8-3C1FDC6EDCBB}"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B9727DDA-8178-40F0-BF1A-12EC211BF935}"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43CF7904-BFA9-4651-8FBE-069AD456E783}"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1EF2B0E-77F2-456A-AD88-AB9033732B92}"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C1CED8A7-6471-4C05-9FED-C9C8EF780FBE}"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60C47A07-1F04-43C4-84F2-71A9B1016C7F}"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BC31E511-CE5E-4027-8945-D2BA72D1C4DC}"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B1544632-2625-473C-9BE4-CC67E469BE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BAABF8F3-584A-4DFE-927C-FDC8EEE2E1BF}"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3AE22B51-B0B3-430D-BBE0-4B57E26A14A3}"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A49CEBFF-0169-4D36-9E8B-76E2BFD101B7}"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0B852F3C-AC1D-4A80-8069-7AEF8D2F9AC1}"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580064D9-6E10-474E-ABE2-5D6F613CF076}"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ACD76D79-6E65-4AC6-8CB2-CB7E611ECFD4}"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87C83330-FE66-4430-91F8-01D0DAD4387D}"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7E8468BB-04D6-43FE-9D62-344AD4E48758}"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E3C3E740-D3DC-40F7-A888-CBF1F5AC5D8D}"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2467FA0C-A6BB-4480-ADB9-8E20CB29EB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F5B00DB9-2868-42F7-8E77-6059E89F6BF8}"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ADB78DF5-FD83-409E-9F11-4968E487651C}"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B1DBE9B7-0555-4CCE-A366-88F73E4B9591}"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8AFE6421-11BC-4DAE-8D53-C990CA73A419}"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9A62F481-5AF6-4AF2-A6C4-F57E3ADD2A92}"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F608EF1B-4E78-42E8-B509-E962C3902CAF}"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7F8EA7EE-5493-4AD4-8D2F-C54DE9FE1F72}"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E329F534-7026-407A-AFA7-35E6AC2B6DE3}"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1983C024-7764-43FF-BF68-B3D979A6A54A}"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74FDBBD-9EDD-40A3-81D6-E72D9BB8AC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0CFF6363-6EAB-4B35-82EA-D3EC7CC9C090}"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39C6E98B-229A-4DA4-8DAB-A866CE151804}"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EBF31EFB-F796-4494-AEB0-7D209C2D9DC4}"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C0CA5CBC-4D3A-43FF-B370-EEB80B23AC17}"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EE4FC3BA-270A-49A8-93FF-E2F8FD8418A6}"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E8A1F8DC-8314-4755-A106-774FD59E3F70}"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164BC8C9-9168-44B5-A904-82D879AB3AEC}"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078C615B-2B22-445C-8487-36561454FFD6}"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D3DBBC8E-5C5B-4A05-8B42-2CB490367538}"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713F7869-DFED-445A-837A-59E5D9319B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4F5A7219-626A-4CED-812E-032EBCDB8E80}"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7520A1EC-809D-407E-8946-F21A90FFFA36}"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F7C45CEA-F261-4F26-97C4-889467AC12AA}"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794F99F9-D6CA-490A-9384-A9CBD397BBA8}"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CE67A88F-1D5C-48E7-945A-314505782092}"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98D5AD49-0DAE-4D26-98B7-F41916F90889}"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4C0C02AB-55D2-4ACF-92EA-026934152C7F}"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F8560F98-4D97-405C-8F66-3AD22DCF56C8}"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506D152F-9C63-4F08-B6AE-5605EC642D95}"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925D8574-F114-4F59-9321-29D14EBC3D8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8E9E53-11BA-4DBA-B7D4-99E90300FD32}"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E76E49F4-A048-4D2A-9BC4-B0FA9789B0BD}"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7C7158FB-4936-49C7-82CF-4CF95DA3A6CE}"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42B4BAB2-F39D-4614-960D-F3DE9A6B5963}"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BFED2DA6-0546-4A67-B6CB-DEB696A2C7D5}"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5A3D3D63-F839-4A21-9A19-FE9EF917D543}"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7BEA4C41-535B-42F8-8A64-0DD73874654A}"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9853C78D-5866-4448-B0A1-6147C8180FBE}"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A51FA117-4865-44AB-9E10-C5E02F447293}"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4EA16562-29DB-4FED-8F55-D8A3B6DAFF15}"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145A107D-65DE-4A95-A27B-31F7754BB47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8B539F91-E5AD-4CB7-A002-BCF10D4EA30A}"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693DA954-C31D-415D-82D4-90147D64AB5C}"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7976FC23-41C4-401B-BB92-6AD1BC1EE0F0}"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79235D1F-A05E-480F-8F5F-3C83129FFEEA}"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B9D2E3CF-B0C6-45EF-8A0A-66DF7F79FDE4}"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11864C30-DBEB-4801-B6EA-7A09E42AF38F}"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60EBD56C-F8E6-4576-BB9F-2E77D5959ABC}"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233E4A5D-65CD-4F81-B880-C11A7C0C274F}"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92A399A7-734B-4806-BDA2-AAED99ECBB43}"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503B266D-0C06-459A-87E8-6C96024E5A43}"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A90F9C88-338A-450B-8BE7-8D3D704E90A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5A9797FF-103D-41D7-9F8B-EC3BAA19B819}"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B69A08B7-5588-4AE8-867D-6040FCB809D3}"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66C31ED5-AC11-400A-911F-947425F7C915}"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FC057D4C-6BDB-40D4-85AB-93F1738C8678}"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F38400BE-54AA-4DE5-ADD1-EB2AC0A3C3F3}"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A9FB8D94-9CF1-42D5-81D1-CFF3418DE6A3}"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D7657A9B-15A5-4D9D-97E0-4DC161BAE82F}"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E303B72A-BD18-4A20-8948-6BE62E0DC8A0}"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A355F913-2EB4-4314-80A9-0E64D0EF2E3A}"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398D93C-07E6-408E-B881-D60E8301AD5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8438E4D-46BB-4395-961D-6046ECC3C1F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68394239-9066-4094-9099-F4DEED6EABAD}"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311B47B-01E3-4C30-B666-32E70C7805E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1D019D1-BBFA-484A-A25D-0E38FCD3805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F32AD28-9014-4927-96E9-B00DBC443C5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B496860-B1A7-42B9-A23A-882580583B1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BAB3E2F-E3DC-4B9D-8D9F-034C4A46451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A092F21-1C10-4F81-8514-D09858E1243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2AC7883-57F7-40AD-8A8F-3F819DCF3E8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B9023329-F8B7-48AA-8F83-16091C80F092}"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5D5ADBA-5FF2-447E-88E3-D271936B0539}"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EC3A7698-5D2F-4A40-9F0E-07A962FD5B61}"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EB5A1E03-A7B6-4E1C-B7BD-47D1F1541EF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2804CA20-68BA-4C2F-BEF5-14AA9ABBF03E}"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67E906C5-E8AA-4FC4-919E-BE43244D2AF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37CD5DC0-CE2B-49CB-B01D-4702D577905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95C49FFF-216E-4C38-89F4-7B18CD9B032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AF51D7C3-A54D-4308-ADED-640F950587A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C0B68FEF-0A41-467C-A28E-8E76EE0C5FE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DF1C6CBA-4F15-4BE2-88C9-B234DCACC4C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F1D4225E-90DC-4096-B6D7-4DDDEFB5E59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3D64499-D6FB-4460-9C5F-8036ABCF94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83555165-A608-4BBD-8D10-E56805297FF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A44365D1-DB6C-42A4-B478-7119ECF4674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BAF1BD71-FD6C-4735-8726-002D6D4B89D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EA071221-6D2E-4014-B1D5-9198E702BDB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004B7D19-8EF4-4961-8FB8-D9D67B37BBC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DE4CE0B5-9A02-4495-BE72-9EBADA16C53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7451AE3B-F427-4F9D-A934-31902DBB679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9B8B7BB0-7502-4897-9A00-40F3780618B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CA20611D-14D6-4738-8FE3-193B666CCF9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DE071838-566F-4D39-9C36-6859C44070F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87D8DC3E-2AEA-41E8-8C4E-CB9136E321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EAA22F19-2101-4389-84EB-98C9AC47F84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0489CDA2-F04D-464A-A19F-41738DA7D12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3194C0-A778-4E18-BC4C-3433B9E86DC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7D7DBCEC-F01E-405D-9E76-C14654A0D62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5FC54D23-1CD9-4D37-9F5F-22B801EABFB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A392B8E1-AFCC-4BDC-B44B-CA14CFC9837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249E2AE0-B182-4D51-81B5-E816FFCB2EC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EE773F24-37A9-49DF-B2E3-B932A23D2C9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1F09026A-0C7E-4348-8911-9B16D8E532A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833EA640-C574-4954-A1D8-FE2538169D8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FD53B66E-E75C-4C47-A0AC-3A3EA90611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11F6DA41-8150-4392-A784-B31AA1B6BB9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A8F883D1-6508-4ACF-AA76-276A591B7AB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3A8D2359-E629-4209-8486-5D4B45FF101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F92E8376-5F84-4C6A-902A-1342E6DD7AE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14AA37C-0CD3-4DCC-9886-3C3EB782A6F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02C87090-9F17-4C62-A862-D0327D5C9CF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272C2F33-ACC1-4AAE-8101-20A1281239A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9F018AE8-2C08-4E3D-99D3-E270399999C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F03DB8C2-8D92-46AF-843E-B85D7BE3492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E194C880-A931-4C3E-847E-053EC51DC85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EDA14AB3-162A-417D-9E87-23721E75B2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8DE6F796-04CC-4339-94B2-187FAA2977B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57B10F67-1432-4D4D-A6CC-CD5BD2C2372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0286BD3D-90E0-4399-A34E-B280BCF6582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D0CB67F8-BAF4-4E7E-8C8A-360D7E80749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74A7FFF4-CA6E-478C-B180-06183521406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14314A32-484B-4A51-970D-FFC923EF5C8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2AA0496-7B4D-45EF-8C57-24AC2B83247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1AB5B3AD-8DAA-450A-85DB-AE3C5F891CE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E3E723B7-3F72-4DBF-BE82-E0D53A3417B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B7C0DB28-8D7C-4472-84F5-67213F56D79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7E7EB063-1ADD-47F1-B8D9-11DAB46731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E465A7A2-BDF7-4F46-B0EC-A29C41D1961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735BB569-B018-4F68-AF9E-9F9EF4C7785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3EE69EDB-7706-4387-A1B9-4CD35CDED91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C719EE7C-2432-4569-BD97-F83C0AB074D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624FE451-8121-4341-A8DE-CC5A51EF848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B9982785-96B1-431E-995C-5F48567221B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3ED679EC-52A4-45E6-AD75-3E6BC2C56C1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DD023481-8608-43C2-92D3-9D39B1F0924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ED2F5B2-C228-415D-9F89-086B3D73229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7445C725-2A4C-4737-A277-FCD89B7545A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55F845A3-97EA-4D3F-A38D-D33FB048AC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9921A-C2F0-4C5B-82EF-CD035768AF1B}"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0BFB3-BA92-479E-B8E7-C58DAEE2CE8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0080A-7D77-4951-9976-69EC9A30E57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375FA-93B1-407A-AA95-4D1547FC41E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092240" y="6550200"/>
            <a:ext cx="243828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257C5-F203-4493-A484-458FDA37D23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4B401-C151-4337-B42D-6103D46A82BA}"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111320" y="65419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BF12E-BEF1-4711-80A8-10B68909974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092240" y="65437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FE96B-1FFB-40C2-BE93-49717CBF782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0AD7C-02C0-4FE3-A2FD-B3765C1B14F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092240" y="652788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46BD0-E2EF-43E2-BA87-C2B3A6F3499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A629F-5547-480F-8317-FE01FA318FF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125360" y="65516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727EA-CE60-4EE4-8185-B83F4829D6C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BECEB-3108-41CC-8D1B-FBBDB26F96C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2C4C7-E154-44B0-A92B-6A45724AF9F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90"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2"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3352680" y="3268800"/>
            <a:ext cx="243864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TextBox 7"/>
          <p:cNvSpPr/>
          <p:nvPr/>
        </p:nvSpPr>
        <p:spPr>
          <a:xfrm>
            <a:off x="110160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45A05-ED7F-4725-9EFB-B1E8EA2F568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9CE13-FE94-4431-A5EB-E68C6CAF7FE5}"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4" name="Group 6"/>
          <p:cNvGrpSpPr/>
          <p:nvPr/>
        </p:nvGrpSpPr>
        <p:grpSpPr>
          <a:xfrm>
            <a:off x="771480" y="6550200"/>
            <a:ext cx="8372520" cy="320400"/>
            <a:chOff x="771480" y="6550200"/>
            <a:chExt cx="8372520" cy="320400"/>
          </a:xfrm>
        </p:grpSpPr>
        <p:sp>
          <p:nvSpPr>
            <p:cNvPr id="125"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7" name="TextBox 9"/>
          <p:cNvSpPr/>
          <p:nvPr/>
        </p:nvSpPr>
        <p:spPr>
          <a:xfrm>
            <a:off x="1095480" y="65246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092240" y="653400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F7A6A-D743-48B4-B18D-F55FF72E7E8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87381-B2C6-4C25-9435-1FCB43371C0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07316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2005F-8F23-4A75-9767-7C3D9F6AF62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08252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52C77-7199-4B42-9BE2-368577C8F95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39C0E-B7F5-465C-95A8-94E59335103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6"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7" name="Picture 4" descr="C:\Users\SAP\Desktop\SAP_iTunesCover_square_01.jpg"/>
          <p:cNvPicPr/>
          <p:nvPr/>
        </p:nvPicPr>
        <p:blipFill>
          <a:blip r:embed="rId1"/>
          <a:stretch/>
        </p:blipFill>
        <p:spPr>
          <a:xfrm>
            <a:off x="7696080" y="21096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C0B5D-6F70-4822-8010-7C113ADF5DC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4"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8D7BD-5036-4490-A6FB-2DF04B3BA83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75634-1E8C-4FD8-AC22-946847F2773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8"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9"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10"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1"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2" name="Group 2"/>
          <p:cNvGrpSpPr/>
          <p:nvPr/>
        </p:nvGrpSpPr>
        <p:grpSpPr>
          <a:xfrm>
            <a:off x="4538520" y="1695600"/>
            <a:ext cx="549360" cy="5029560"/>
            <a:chOff x="4538520" y="1695600"/>
            <a:chExt cx="549360" cy="5029560"/>
          </a:xfrm>
        </p:grpSpPr>
        <p:cxnSp>
          <p:nvCxnSpPr>
            <p:cNvPr id="1113" name="Shape 138"/>
            <p:cNvCxnSpPr/>
            <p:nvPr/>
          </p:nvCxnSpPr>
          <p:spPr>
            <a:xfrm flipH="1">
              <a:off x="4784040" y="1695600"/>
              <a:ext cx="1080" cy="5029920"/>
            </a:xfrm>
            <a:prstGeom prst="straightConnector1">
              <a:avLst/>
            </a:prstGeom>
            <a:ln w="19080">
              <a:solidFill>
                <a:srgbClr val="0e291a"/>
              </a:solidFill>
              <a:miter/>
            </a:ln>
          </p:spPr>
        </p:cxnSp>
        <p:sp>
          <p:nvSpPr>
            <p:cNvPr id="1114"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6"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7"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8"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20"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EE4BB-5F0D-4FF6-8B6C-E8B0E304911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3"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C57CB-D9DC-4344-AA17-4DD27B7914C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6"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D0538-36DF-49AB-A355-F8CCD75EE91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96013-DE2B-4074-B8CA-3525C3F0B39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1"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6B247-245A-408F-B397-FB13D37A256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4"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F5D33-9619-4102-A7CE-533FC2202B2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7"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5A45E-7A54-426A-B7E6-AD53187D1F2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9"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8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8D8E6-81D8-48E7-81B6-815D9A4706A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40" name="Group 2"/>
          <p:cNvGrpSpPr/>
          <p:nvPr/>
        </p:nvGrpSpPr>
        <p:grpSpPr>
          <a:xfrm>
            <a:off x="204840" y="507960"/>
            <a:ext cx="5065560" cy="3533760"/>
            <a:chOff x="204840" y="507960"/>
            <a:chExt cx="5065560" cy="3533760"/>
          </a:xfrm>
        </p:grpSpPr>
        <p:grpSp>
          <p:nvGrpSpPr>
            <p:cNvPr id="1141" name="Group 1"/>
            <p:cNvGrpSpPr/>
            <p:nvPr/>
          </p:nvGrpSpPr>
          <p:grpSpPr>
            <a:xfrm>
              <a:off x="204840" y="507960"/>
              <a:ext cx="5065560" cy="3533760"/>
              <a:chOff x="204840" y="507960"/>
              <a:chExt cx="5065560" cy="3533760"/>
            </a:xfrm>
          </p:grpSpPr>
          <p:sp>
            <p:nvSpPr>
              <p:cNvPr id="1142"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3"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5"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6"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9437F-6498-472E-8D85-E3FFB6DD847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9"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50" name="Shape 99"/>
          <p:cNvGrpSpPr/>
          <p:nvPr/>
        </p:nvGrpSpPr>
        <p:grpSpPr>
          <a:xfrm>
            <a:off x="5791320" y="1500120"/>
            <a:ext cx="2193840" cy="4363200"/>
            <a:chOff x="5791320" y="1500120"/>
            <a:chExt cx="2193840" cy="4363200"/>
          </a:xfrm>
        </p:grpSpPr>
        <p:sp>
          <p:nvSpPr>
            <p:cNvPr id="1151"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2"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3"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4"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5"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6"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C6F43-6A8D-4435-8680-D2A9D670077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9" name="Shape 112"/>
          <p:cNvGrpSpPr/>
          <p:nvPr/>
        </p:nvGrpSpPr>
        <p:grpSpPr>
          <a:xfrm>
            <a:off x="2209680" y="2133720"/>
            <a:ext cx="4724640" cy="1802160"/>
            <a:chOff x="2209680" y="2133720"/>
            <a:chExt cx="4724640" cy="1802160"/>
          </a:xfrm>
        </p:grpSpPr>
        <p:sp>
          <p:nvSpPr>
            <p:cNvPr id="1160"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1" name="Shape 114"/>
            <p:cNvGrpSpPr/>
            <p:nvPr/>
          </p:nvGrpSpPr>
          <p:grpSpPr>
            <a:xfrm>
              <a:off x="2819160" y="3188160"/>
              <a:ext cx="914400" cy="747720"/>
              <a:chOff x="2819160" y="3188160"/>
              <a:chExt cx="914400" cy="747720"/>
            </a:xfrm>
          </p:grpSpPr>
          <p:sp>
            <p:nvSpPr>
              <p:cNvPr id="1162"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3"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4" name="Shape 117"/>
            <p:cNvGrpSpPr/>
            <p:nvPr/>
          </p:nvGrpSpPr>
          <p:grpSpPr>
            <a:xfrm>
              <a:off x="3886200" y="3188160"/>
              <a:ext cx="990720" cy="747720"/>
              <a:chOff x="3886200" y="3188160"/>
              <a:chExt cx="990720" cy="747720"/>
            </a:xfrm>
          </p:grpSpPr>
          <p:sp>
            <p:nvSpPr>
              <p:cNvPr id="1165"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6"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7" name="Shape 120"/>
            <p:cNvGrpSpPr/>
            <p:nvPr/>
          </p:nvGrpSpPr>
          <p:grpSpPr>
            <a:xfrm>
              <a:off x="4876920" y="3188160"/>
              <a:ext cx="2057400" cy="747360"/>
              <a:chOff x="4876920" y="3188160"/>
              <a:chExt cx="2057400" cy="747360"/>
            </a:xfrm>
          </p:grpSpPr>
          <p:sp>
            <p:nvSpPr>
              <p:cNvPr id="1168"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9"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7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9FF43-B921-4C55-9EDF-9180530D615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2" name="Shape 129"/>
          <p:cNvGrpSpPr/>
          <p:nvPr/>
        </p:nvGrpSpPr>
        <p:grpSpPr>
          <a:xfrm>
            <a:off x="1638360" y="2093760"/>
            <a:ext cx="5867280" cy="1901880"/>
            <a:chOff x="1638360" y="2093760"/>
            <a:chExt cx="5867280" cy="1901880"/>
          </a:xfrm>
        </p:grpSpPr>
        <p:sp>
          <p:nvSpPr>
            <p:cNvPr id="1173"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4" name="Shape 131"/>
            <p:cNvGrpSpPr/>
            <p:nvPr/>
          </p:nvGrpSpPr>
          <p:grpSpPr>
            <a:xfrm>
              <a:off x="1942920" y="3160800"/>
              <a:ext cx="1188720" cy="747720"/>
              <a:chOff x="1942920" y="3160800"/>
              <a:chExt cx="1188720" cy="747720"/>
            </a:xfrm>
          </p:grpSpPr>
          <p:sp>
            <p:nvSpPr>
              <p:cNvPr id="1175"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6"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7" name="Shape 134"/>
            <p:cNvGrpSpPr/>
            <p:nvPr/>
          </p:nvGrpSpPr>
          <p:grpSpPr>
            <a:xfrm>
              <a:off x="3520440" y="3160800"/>
              <a:ext cx="1287720" cy="747720"/>
              <a:chOff x="3520440" y="3160800"/>
              <a:chExt cx="1287720" cy="747720"/>
            </a:xfrm>
          </p:grpSpPr>
          <p:sp>
            <p:nvSpPr>
              <p:cNvPr id="1178"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9"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80" name="Shape 137"/>
            <p:cNvGrpSpPr/>
            <p:nvPr/>
          </p:nvGrpSpPr>
          <p:grpSpPr>
            <a:xfrm>
              <a:off x="5372280" y="3160800"/>
              <a:ext cx="2133360" cy="834840"/>
              <a:chOff x="5372280" y="3160800"/>
              <a:chExt cx="2133360" cy="834840"/>
            </a:xfrm>
          </p:grpSpPr>
          <p:sp>
            <p:nvSpPr>
              <p:cNvPr id="1181"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2"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26BE7-955B-42AA-B446-6B489570B5C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2"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a:t>
            </a:r>
            <a:r>
              <a:rPr b="1" lang="en-US" sz="2800" spc="-1" strike="noStrike">
                <a:solidFill>
                  <a:srgbClr val="262626"/>
                </a:solidFill>
                <a:latin typeface="Calibri"/>
                <a:ea typeface="Arial"/>
              </a:rPr>
              <a:t> academic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a:t>
            </a:r>
            <a:r>
              <a:rPr b="1" lang="en-US" sz="2800" spc="-1" strike="noStrike">
                <a:solidFill>
                  <a:srgbClr val="262626"/>
                </a:solidFill>
                <a:latin typeface="Calibri"/>
                <a:ea typeface="Arial"/>
              </a:rPr>
              <a:t> 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996D4-B1A1-4FFD-80FD-B44048019A1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2">
                                            <p:txEl>
                                              <p:pRg st="0" end="0"/>
                                            </p:txEl>
                                          </p:spTgt>
                                        </p:tgtEl>
                                        <p:attrNameLst>
                                          <p:attrName>style.visibility</p:attrName>
                                        </p:attrNameLst>
                                      </p:cBhvr>
                                      <p:to>
                                        <p:strVal val="visible"/>
                                      </p:to>
                                    </p:set>
                                    <p:animEffect filter="fade" transition="in">
                                      <p:cBhvr additive="repl">
                                        <p:cTn id="7" dur="1"/>
                                        <p:tgtEl>
                                          <p:spTgt spid="108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2">
                                            <p:txEl>
                                              <p:pRg st="1" end="1"/>
                                            </p:txEl>
                                          </p:spTgt>
                                        </p:tgtEl>
                                        <p:attrNameLst>
                                          <p:attrName>style.visibility</p:attrName>
                                        </p:attrNameLst>
                                      </p:cBhvr>
                                      <p:to>
                                        <p:strVal val="visible"/>
                                      </p:to>
                                    </p:set>
                                    <p:animEffect filter="fade" transition="in">
                                      <p:cBhvr additive="repl">
                                        <p:cTn id="12" dur="1"/>
                                        <p:tgtEl>
                                          <p:spTgt spid="108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2">
                                            <p:txEl>
                                              <p:pRg st="2" end="2"/>
                                            </p:txEl>
                                          </p:spTgt>
                                        </p:tgtEl>
                                        <p:attrNameLst>
                                          <p:attrName>style.visibility</p:attrName>
                                        </p:attrNameLst>
                                      </p:cBhvr>
                                      <p:to>
                                        <p:strVal val="visible"/>
                                      </p:to>
                                    </p:set>
                                    <p:animEffect filter="fade" transition="in">
                                      <p:cBhvr additive="repl">
                                        <p:cTn id="17" dur="1"/>
                                        <p:tgtEl>
                                          <p:spTgt spid="10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xt and academic language</a:t>
            </a:r>
            <a:endParaRPr b="1" lang="en-US" sz="3600" spc="-1" strike="noStrike">
              <a:solidFill>
                <a:srgbClr val="17375e"/>
              </a:solidFill>
              <a:latin typeface="Century Gothic"/>
            </a:endParaRPr>
          </a:p>
        </p:txBody>
      </p:sp>
      <p:sp>
        <p:nvSpPr>
          <p:cNvPr id="108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8DE85-3EBD-4D6E-9524-A654C899B7F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7"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79BF3-14AE-48F6-B9BC-C484054BE32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90"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04341-EC8D-4EED-97A3-1B287174600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3"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37282-80F9-4E4D-8748-2281CB38BB9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6"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9"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10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1313F-B974-465B-B36F-2DD9D7A845D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45Z</dcterms:modified>
  <cp:revision>44</cp:revision>
  <dc:subject/>
  <dc:title>Text-Dependent Questions</dc:title>
</cp:coreProperties>
</file>