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C7BB2B-7E50-4A1E-9DBB-7B98664CE1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29C8449B-D613-406D-AC32-51679FEA657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4C0A375F-BF3F-4491-838A-6766F631072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89E6F371-17BE-40C0-B793-F3404D7F72A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22CCCFBF-EECB-4B7F-B0CE-B5013E9BF56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3F815624-0E42-4A30-A43D-94066DC1AAF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8DAC892D-AD71-4A7A-B8A7-5913A7719F9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A388AF70-AE3D-4A60-AD4A-7630A9D9160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8A3C0BB0-1E37-4678-ACDC-58C926FC912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E3615A16-1D25-4CFD-AB22-448943CD1FF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D5D8BA56-6A60-4B7B-BE30-50A9A12D183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5076E725-1B60-4D7A-8388-041B89FBAC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335369D0-0D8E-4938-BD68-1DDD72F8CDC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9DA5B2F7-FD59-4BDB-B0C8-D13DBA93D5B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EFABD331-4AB3-4A33-96B8-08B87C8D5E1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E227DFA7-B9E8-4518-B878-673EFF1253E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CDD3F782-EF7B-48FB-9D4E-7AB0A7B251B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5A3A33FC-E2EC-4F39-86BC-A499A56157F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B785101B-F205-434A-8812-EE49AB0A815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D2921DA3-F43A-48A9-A824-2EDE37D9584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ECAC2C6A-BC2E-4903-B2EC-BFDDC0F35A7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72AE2CA9-C4E3-42AF-9617-3235C900A64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7535253C-F750-4F9F-B075-B758A422CC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7710E45A-D1E2-453A-A1FA-016808A5851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7EFDDC96-AADC-4D77-8106-95F5256714B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4A08BFB-ACCC-4C75-9C75-9579DDBA8C5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125D65E9-83AA-412C-B6CB-16163DDB96C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49FA3925-6634-49EA-ACA4-99B268B4DF5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1906DEC3-E1FE-496A-BAF7-13FEDA02D25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8CBAEDBD-F079-4477-A69A-88E065923E6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5EB1FA00-AF90-4345-AE91-348EF453BD2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0FA2F3B9-B637-4AF7-90FC-F684F09F1FB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A1CC88C1-CC43-4AC6-BE74-508D946A207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BCA9AE69-E17D-45E7-B7F5-295951BC2C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2A4FA213-604B-4945-A825-7DF0EA8B69D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543B36CF-1913-4413-BDB1-FB3E97C8331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2364DDF3-EBF0-4339-BB6F-CF8F9CDC767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D770B92-C038-4590-A022-17ECCE6E6BE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4853B43E-9EE6-4305-83AC-16CAD289B0A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F9E8B5A7-ADB2-4616-A62F-03EB6FC57EA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9CA8D65C-0BA4-4AB9-9094-142BBFE4E06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4E136607-6663-481E-825A-AFA670CFD7D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FFD06A2F-C497-4618-BF8D-3F4229F984A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9A0F8467-80AA-4152-8D64-938A665053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9B8F9E1C-E9F8-433D-BA97-953F7CC9A56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5037D9EB-2A62-4E55-8531-4176B828621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726C54CB-0D58-401A-A72C-6621F183028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8313C5EF-CEC7-440A-9358-2405A9E973C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F2D4DECA-D992-4C8A-88B6-A224FAD7B8D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BE14632-AE2B-458B-9D5D-D7170C595260}"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0B8665A4-8366-4010-98A2-E8D94C1FFEE0}"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CC9B2D20-5B38-4153-98FD-6B8BA20C56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64018DCA-E5B0-4D7B-B79D-F5ECCE06135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1EDA5AAF-2A44-42EB-8D01-231D2BA63919}"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6529C7ED-B17A-4233-9FDA-016238562F5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D0C5459C-7485-4C0B-AE1E-5C71346D6159}"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29D899BF-858C-48F0-939D-BF879E63EDD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23A96A8F-4FDA-40CD-A816-7725F1D7E799}"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FEF47E25-CB5C-4928-8810-6A4DFB7F932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C0A947A6-3321-4468-8CC0-94C668C539E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FE07F2BD-0F08-4989-A25F-689A974C43D8}"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69D02A1D-4AD0-4BE4-8921-6A599E82B748}"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D8B05CF9-37CC-4989-9BE9-4B8D68FDEEEB}"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6702870B-B108-4D60-A8D9-A6D7093DE937}"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E17C5838-E917-4478-89BD-3DC1360C2CD2}"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FA7081C5-5B24-4471-B783-87A4426B198C}"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8411F2FC-5CA4-47B0-AC13-2E2CE99578FB}"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67A45012-5F99-4DEA-8CE1-46CB016E31D4}"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7B6031AF-BE0F-4B47-8D2C-6769E42B1C61}"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50A1A093-AFAA-4002-A3BF-92983D3B52A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5F08303A-FAE1-4178-B594-1A15DB222652}"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05434BDA-51C1-4152-93A6-5DEB798C6DB8}"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60BD330F-6AAF-4A3B-97D9-08EE811E62AC}"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0F37184-996E-4BF7-825A-841E4F851DBC}"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7ADED59A-1B67-4994-95BD-2E96D5E07F0A}"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9A757D9A-5680-4A9F-96A7-F85EC41D618E}"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B9B52460-222F-488D-A27B-9AEB0570A1F4}"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2AD5D7FF-01F1-441A-9DED-FA493AB43984}"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EEF2FC12-A8E4-4E94-9989-42529A692AF2}"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8CDF72CF-B96C-4916-923A-4604163E25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92463720-6EF1-40B2-AD23-E3B252C64D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B687E933-B79E-464A-8C5B-417D754D0B48}"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7947BB62-04FB-4FE1-95BD-E2456BCFCB54}"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891167ED-5A05-484E-8BF7-FFACD20D2AA9}"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D01327BA-1A78-4638-ABD2-A6424880E853}"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41053ACA-F7B5-48F2-AE7A-1FA942EE6734}"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E4D30474-85F8-4077-B0DD-E84938E2BE31}"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F50B25DE-379C-4DD1-8082-52751B3DD839}"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785EB33E-FA4B-4B66-9EC4-D42F6DE3FB8B}"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0EA6F69C-BD3E-4BC2-A830-90C4768AE141}"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1A458C59-8571-49E3-890B-44CC6AC306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E5ABEC64-7AF5-4381-81E0-A4B22C05CA47}"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701F4068-DE89-4183-8DB6-9C9E98ABDB22}"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153D3C9B-E737-4A58-A8D8-E45075941BC8}"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0ED231E1-0A1F-432C-BE81-48B1F8AD3D45}"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7473DA08-D8F9-4FBE-8DE7-2C5D657ADDC6}"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90EFF9E0-F9A1-492F-920D-899B3DEBC320}"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4D5DE666-30DB-470A-8F60-38E3D6D202B0}"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020CE3FE-127E-4209-8612-24FA2617F6AF}"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5D6DFFA2-8A25-4A7B-8BCF-7D85C831E779}"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C2DFC3DB-F4AA-48E5-B038-C13CFA38EE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3B53CA89-97DC-42FE-A869-8B850591925D}"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DFA0DB32-B9E2-40AE-99E6-4F027BD1BEE4}"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3CA62CEC-F6E0-422A-9FFE-98C907514414}"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5F0EFD5B-A6B6-408D-A69A-2D7A32F8E582}"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B0E2F973-A1EC-4B88-B666-942F66FCFC84}"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C17D6B24-DBD2-48C2-90C9-CA71D8CE4ADE}"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DCB5355E-49C4-4A2C-8ACC-6CA5EC913290}"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B166ABFB-D0CF-4C66-BD71-AF90CAB7D083}"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C6F3BC75-AEE4-43F0-B884-CFB89B2A68A6}"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61B80C11-4547-44B9-8B59-DCF10C943CF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BAFAC8F9-47F1-49A9-8C4E-D027D5E2212B}"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11230D73-9E19-4A3D-A612-262A3D26A0A3}"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1FFF13DC-DFCB-4ADA-899A-082A2A8315F9}"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AB6698DA-4B9F-4378-96DF-833ED512D7C4}"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E5C93A72-E3CD-4E2F-A038-2FAF59E4FD24}"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5A6D576D-7775-449C-AE74-3F6B19707B5C}"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0CE88501-5EA1-462C-88DD-9D7896F2273F}"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ED5327DA-94BB-40E1-AEB2-776F68E8F9AD}"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D8C2355B-AD74-4DEF-8EAC-09A303391111}"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A99C13DF-FF38-4A73-B5FF-E7F98FBD6D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C8B14B92-1BD5-4EF2-B991-0130F56CB5C2}"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478DFAFA-051C-4B3A-8DCA-BC478A9B8024}"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194221AF-5460-4274-99BB-774303D222C7}"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1D17818F-5EE0-4CC7-88AB-589690D586A9}"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A586F4C7-7E1C-48EC-94AB-14966931BD24}"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5120702C-C718-4D02-BC96-879572828F46}"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E99A2A8C-655D-4257-A32C-9DD72C96F52A}"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584CF528-6AAF-4E24-8275-A6B03EA06ED5}"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307F604F-4807-44AE-AD46-9A8D69BC995F}"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0129AF83-17DC-4396-8ECD-B778E4B80DA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054F08-E7C1-4973-A872-1C314F58256A}"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8994CD67-E67F-4547-8F0E-3652A5219929}"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C6FA8AD4-B419-46D5-B085-C4B1293904D5}"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CD9E5C08-C1AF-4737-8B29-61298805EABB}"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FFC062F4-33DD-4DB8-B40F-E1867F94497D}"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390F4641-C598-4A08-955D-731334A3EDBE}"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6C90646C-9B4D-438C-BC3B-E5786631974E}"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798345F8-C6DA-4CC3-ABDE-E5DF7344A39E}"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A786C1AB-88D2-4B03-A9FE-670D0EE438B1}"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ABFFCFCA-6EE1-49A5-ABCF-96C9B3C5FC87}"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CD354DD3-EB10-4E3B-A902-7DBF6C429DA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6E0C3101-5761-48F1-B1CA-FA62A60DA8C1}"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075B36B9-6881-4C85-A92E-F12702C5280D}"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97D8714C-F1B3-4A60-B453-599A875A0CC8}"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A8F28963-35AE-44BB-A6E4-87A137CF88DB}"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F2D1712F-CD60-4BF7-99B6-5052C6F8AC51}"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8D813700-78F9-4B47-8DEE-3C599CDB1DAD}"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2006E1AC-2296-42A4-95F4-F2E80A4B67C2}"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C4900EB2-0CAB-4F2D-B44F-569DD96FB072}"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66E77F37-1C7B-4AE3-AF21-68E2A6E73DEF}"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30551D22-2581-4FFB-B4DA-D45E2ADBEB56}"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234C35AA-51CB-43DD-8A43-58421D9E30B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C949AC72-7D75-4506-A53D-F7E39D92D72E}"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C60A7963-C393-4390-9941-0F17ED62B7C7}"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C39C4F0B-F6F3-430D-A81A-E36CC4D879EC}"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19E5D397-C601-4EA4-B654-E88C734A3776}"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849B9128-AAE3-469E-84E2-CD0AA0CCE683}"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F6B8E135-3575-4F01-8FEF-299F9D517CD9}"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DD4D4EC7-10D8-41AF-9CB6-713A461CE10C}"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EA56C60E-EF40-4209-9B3B-567C3A334D6C}"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5C48D65C-6E20-4844-95D3-276BA95F77E4}"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52A2EE63-4407-4C78-93D0-75923DC8B8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303D5A34-6198-4916-B3F8-2EAEB8D76FC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D961D349-C9BF-4643-AE1E-83BFE00D406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4CF5662D-1AB4-4510-B3BF-1FD622295F0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3890B796-963C-411F-B51F-6E86FA2E9C7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82A95EBE-81ED-4DCD-9CE5-19F798F2463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10D009CB-793B-4581-B975-63F0761A7EF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6FF2846A-261B-4DD7-AD9C-B283659FCA3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64C079D6-5257-494F-B0F5-F91B9E44697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D0591CB-EE9D-452F-98C6-A4B15583D30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EBE2257A-1BE7-4DB1-AB55-CDEF13C09E7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1874D7B9-E032-40F9-B3DE-D4A642F0BF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23144FE9-3796-4EA6-8A4F-D8EC7BF21C0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998B4DE1-32E4-4892-8E60-9ADAE26BFC1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B4F204BC-9CE0-4D01-B2C2-CE01F37130E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B611D903-00D1-4F0F-AA98-2805A3F634A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A072BDCB-DE48-4415-9110-5479AE3B555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3B600241-F375-47D2-94C5-CBF61D884B2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B1C79CC8-7AA6-48C6-B7D6-3FE76DAA63B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FD07B48E-6A45-4D35-9362-594604C3843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CF6B1EE6-CBA6-46AC-B028-BA4610D9320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2939C0AC-0D64-4976-A971-2ACB1636EDA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36E622-112B-4867-B822-693D573EAA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04328658-B20F-49B8-B104-698C5322579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15960703-84AC-46FC-819A-D220B8BD070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B673B9AB-65BB-4FC1-BFC5-6F16008D901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DB5061C9-6B82-400E-950D-806D7341218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5CAA612D-5468-4142-AACB-E658B043F31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7A4CF12D-FEFC-4A80-8BF0-B806690155E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35B98E6B-4CDC-4CF7-9EBC-843B97CAB9D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B786E0B9-0497-49FC-B9FB-E95F825F0A6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EFFAD2BE-D94D-46A2-BCBB-A5BE9DB35E5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4776A28F-1FEE-4CA0-83F5-895511E41B8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6F82BCE7-1980-4282-B377-CEB3D35720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162CA0EF-E723-420D-BAAD-41DDDBBB644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D01F8439-4E6D-4402-99C2-332A3049CD3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A34CF1C-E08D-4ADB-9A32-D04251053FC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B7A28884-1676-4A95-83A5-6076862976E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F9B3D3C9-F098-4C39-BDFE-15298180114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80CE28C4-31BC-4B52-92C3-DF98E27CD8E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E1E7587D-B3BD-44E6-BA07-27C7734D54B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F6702F07-988A-4619-BA65-3F74FAAC67D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4BA6583D-5CC2-4199-9C72-4AC32B31531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378565A3-0F39-444B-9C75-0E1F0DB376A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DA75510C-5688-4175-8011-84968B5895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3D29FF2C-915E-4C8B-A84C-C9F613988E2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AA9242C6-971D-40CB-9611-0D5DA72651E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F5F3AADC-5945-4807-9A52-84A63142AC4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B233CB44-2DF3-4EA1-A91E-5500ABACB4B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4F0E077-2D8A-4B5E-B18F-12B55141F5E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02721D4A-DB6D-4315-9EBC-E88CE686A99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B3D29B15-CDAD-423A-93EF-6B9524310B4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5C3911B6-34F8-47A5-A723-745C3F2CB47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DE084B62-425D-4162-B345-FB8192C1500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C5AE7708-B365-4A2E-9200-3D51F99D0BA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E41F36EC-6C36-4908-8954-3D8CAEB632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29E2FDE4-E219-4548-87C4-BA6F6AA8753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8BEFF8E9-A82B-47CC-9F64-576C2559815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C9570385-8EFB-44C0-BAC4-EFC9A015237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18122B01-E80D-4521-98A3-CD2C1898844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91E5B3E3-86EE-41AF-8DB6-8C00C90E882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A8F3EAEC-2F93-46E5-BEF3-9BE7458A907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6B170F9-B724-4683-9EAB-0893281869F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B1D125F9-4DA2-4925-B2A2-63AF166A3D3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E9F9CE7E-D676-46A5-B7C1-0160551008C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1ECCFCDF-7039-4859-B3B1-3B60F993F3E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6C3EBB4E-D24E-4BDD-AF38-800AB32BE6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E0BFAB2A-2CD2-46C4-99F1-A60F2ADD32E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A782CEAD-71EE-4C81-96FC-6BC4502C778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691605E9-0FF5-4E3A-ADB4-3C37486C507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17F0C7F2-243D-41A7-A0BB-A5D0A54C937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1F7F800E-D96D-47F3-97F8-9C4A7583413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9C438D45-A42D-46B0-A09D-3D4A8C7EF83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430D33E5-F9FC-4701-AE22-53B1B953F28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CFB0C738-FB31-4C44-8648-A1CD6401F19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74F504E-BD9B-4805-8CF9-E2375DBD57D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EDD8BE79-4F28-4A8E-BC1F-73C042ABCE7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634FE646-2BFE-4CBC-96DD-78488ACC03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73657-ED41-4A37-BC94-B3EB0F8AC37D}"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447EA-B7BD-4915-A327-86B1E83C8E1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7BFFF-A669-4FE7-81C4-2C3DB48CF9E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6EE34-F7CC-440B-B7A7-0047D3E79C7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9F552-02D0-4950-A21F-A9B542C16B1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94249-1F0C-404A-91BC-7B4F5E6C0693}"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AA1E9-4AF2-438E-867F-FCE252BA8A9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B81EF-DF89-4974-A605-87A2A631046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3F76B-AE00-4986-AD0C-3191D4E9DCA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F6A91-C5A7-467F-8198-1465F34BCD8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77F2A-3567-4E22-8A0E-C413BD1F0B5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59FC2-7120-417B-8308-7E761C448B2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E070E-B018-49B1-B324-35A478594A2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0175D-45D1-4A85-BD6E-8B5504630FF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A19E2-7241-4675-A9F5-F02BC3B4377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FA026-FE9D-4960-B548-1D582A0AA5D9}"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4DA6B-F269-48E4-8102-B6C5A41D4CA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45B8F-0D68-4843-AD1E-1E661AE944C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247D5-95BB-45F1-A3B7-398EE1B3856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2B7ED-24E1-4A82-9342-C8591301EEA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5C45E-445A-4D9A-93D5-46E70976564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BEA40-C659-4100-9AE6-A2C3CE89DA7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666880"/>
            <a:ext cx="7696440" cy="13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04F09-CF0D-4400-9165-A1EE0110628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5E55B-3451-46C7-894F-C07C8EC7D69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7D3E8-F3A3-4D51-B8EC-530A44D7212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EA71B-E83E-4FD3-9983-9C99ECCF992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C8865-D4DE-47BB-80FF-EEA97F7D644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1CD53-8E16-45DB-862F-3F9B247D805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B995C-F16B-4795-94BF-06F3E32271F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47ECB-2D0A-43B4-8C91-2709908373B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D9B7E-830E-4F4F-95A0-2E6FB20D322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169B1-6BED-4AF9-B008-5C08B7F805D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4920"/>
            <a:ext cx="8137440" cy="4436640"/>
          </a:xfrm>
          <a:prstGeom prst="rect">
            <a:avLst/>
          </a:prstGeom>
          <a:noFill/>
          <a:ln w="0">
            <a:noFill/>
          </a:ln>
        </p:spPr>
        <p:txBody>
          <a:bodyPr anchor="t">
            <a:normAutofit/>
          </a:bodyPr>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s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mental</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iton</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C2113-12EB-4960-8AEC-AF0ECA365C4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2B91B-1D13-44B2-86E2-B6B14EB6E76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 </a:t>
            </a: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721FC-E912-484E-88A3-20BE5D8A312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0BEFC-6305-41C0-AB7F-B5E5221F66A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B417F-C1AB-40E6-876C-60665A98A02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4F2F1-D700-422B-934D-69C7579C36A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E0983-0B45-468F-8A6D-BDED07FEF17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60B3E-0F59-4B06-A194-9C24F1A31C4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D0619-F19F-490D-B56A-9CCB5467905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46Z</dcterms:modified>
  <cp:revision>36</cp:revision>
  <dc:subject/>
  <dc:title>Text-Dependent Questions</dc:title>
</cp:coreProperties>
</file>