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699C-F3B8-4641-A466-B640CF5CA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dule was last updated on February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A7F2-211D-4246-9000-E2431AF046E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26D3-455A-40C3-962A-4FC5A94DB47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782A-6233-4B80-B0AA-41F3360533E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46B3-B550-43FB-9403-5A82779160D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CF70-D69E-4F18-9519-60E64813283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147"/>
          <p:cNvSpPr/>
          <p:nvPr/>
        </p:nvSpPr>
        <p:spPr>
          <a:xfrm>
            <a:off x="3970440" y="9019080"/>
            <a:ext cx="3038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F159-AC34-4384-8CA1-37ADA737BAC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E1ED-5724-4F58-8861-B124B0496FC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25A2-4700-4940-81DF-AB9F36AD423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73D6-DB7E-4714-AF7E-23E3C951962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F2B3-4454-4D34-A8C7-950778193E4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0EF8-A613-4EE6-B60B-3B7801F12A4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A9CE-AE21-493B-B223-B619EED8F7B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A32D-7F52-4C3B-983B-1941C9DC30A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CB28-5DB0-429D-8529-EF347959484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FD90-BA52-40B5-AE5F-FF61FA3DB5A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CD4B-79F4-4533-B34A-F9F1A0FCAE3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6F6A-8D90-48A5-A69A-FF77EFEA58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8E05-EB18-4A78-82EA-478AE10EFD9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14C2-CBC1-4BEE-BEDA-62B075CD88F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4A43-EEE6-4C2C-90C6-29ED04CC2BF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5E51-0BD5-4F6F-AE9E-B48D5E6B805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608F-B47F-4F14-86E3-6DB107F10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7C77-24D1-49FE-B84D-851F291006E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CA8E4A-9AD1-4FDD-8008-BC87383FB7A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65DB94-322B-4B26-BC09-D0A6A799013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AB7765-497B-46AB-B701-3950BA23EDA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7D4AFB-90D7-40CA-B158-03BDD50EEA7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B4C0CD-C740-4538-8455-ADD45F570F1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F346D6-D62D-4CC1-9CFA-5A49E2F71D0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A89148-1B93-4A10-8335-2E0F3A4745F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25D9E1-8908-44B9-8094-5F3FEB492FA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8D7EF4-0CE1-4316-9017-260A37E6F55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58A87-DA9F-4DBA-A373-C6CBC289D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A5E9-4371-4368-945D-C66DC630531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6F499-CC24-4B27-86AB-BA509A457DA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9F9C3-CA17-4AC3-A065-77B36CF0E7C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D105A-57EF-46D3-940B-0D54EEE6E4E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2A1D8-71A9-4C0E-A6E1-8C3DC2561CA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17A7F-EABF-41AE-A224-2A79A588523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30C79-12DD-4C99-8A6C-3B7FD8B9290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6D01EB-6D60-4686-A138-F0B1E9C2540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C52217-0CCE-4B62-9B8F-2652EE2E850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3177E-6B1E-48F1-9599-5924E459786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92287-E476-4D58-B400-A4459AE5D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8E2F-816E-4FBA-B290-D2927F53000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4A7B5-38DA-4A9E-A1EA-23CB1508EC1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2DC65-452D-411F-965B-CC4BFB574CE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B861A-2406-42D4-AEFB-4E9573223B0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1B83B-7538-45B8-BB8E-1D2AC1F90F0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EEDB0-89BE-4C23-9C89-AD9A8B30C12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CA8D5-6E08-4E40-85E6-76ED8926054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776C6-A938-4CA6-9B65-4C6B9848D76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3D9B9-4D64-4347-9E3A-9BD5153774D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FCFBD-832E-474F-86AC-F815411E49F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76C9B-18E9-4A49-99FC-2B8FBD0A01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5853A-DF92-4A1C-B638-F14142CDC0F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88A87-F610-4027-A81B-F07884DB7A5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423AE-BBEE-4123-B0CF-6CF41085025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91E589-A18D-457E-A094-BE800118775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F63839-A2AD-4E8D-96E0-7E86349504B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FE961E-3CD7-4A3B-A9F6-A2F748C6BCF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732C6A-638D-447B-90D1-11BDCCD8E2D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47EE71-4128-4DCE-BF9D-C13FF2D3D28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0EEDAD-32D3-4CC5-94FF-A46B480032C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8C7363-F634-42D3-9702-2D531CD6C7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2E93BC-1F99-4CE8-B6AD-124312CDD00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B808E7-B60D-48A3-B7B7-782C3B54002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56CA08-96C5-4D2D-878D-6EC5E878F23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12C5B9-2AC7-4BB7-A1A8-285F89293E3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A15E0E-02AD-4EFE-AE6C-933D12CFC2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9830-A31E-4BCA-82BA-712477CDE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3D7FF-040B-43A8-AF57-EA84EF0424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049DC-542A-41E1-AAFC-D7B67C182E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FF804-7969-4DA9-B5D5-C45FF89644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8E57-24E6-4460-83A6-134942146D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CC37-5F1D-4206-916A-C91FF295AF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BBAE-8B54-4EE7-A594-C3448F9158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28A2A-2C3A-48DE-AA9C-1DEFA44526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58F5C-024E-4623-9722-0F57A67C71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B06A-8677-4F97-9128-B813920BF0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C00BC-4AA3-48DC-93C2-EFE24D6B7A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F64F4-CAFA-410B-A92B-D6BAB21EC6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C8D24-6F49-412C-AE95-C6525CBB6B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E4DFB-AF6F-438A-BB15-330EBA932CA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7EF87-E882-46D3-941D-6F7D52C4413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ADD-F22F-4C26-8891-C6D9CD8E3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A1659-8ACA-43D9-B855-FE838489697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459F-B954-4459-81A6-16E05A0949C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DDD-C6D7-4081-9F2F-6507580CF63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A57-9288-4B5B-B87B-D64F85B2609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921-52F8-4EF6-BD27-38656BEF445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42E-319C-4CCD-8C5A-C9BA7B19DAE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07D7-5AB9-4C11-A3B6-CFA0257D9EA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7492-A3FA-44B7-9D15-DD3152C7047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6DC2-D033-4746-99AF-F0E895AF15C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705-E245-41A6-9FFE-6A2335864F8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A162-4E52-4D84-AA97-187830EA6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1429-9CC5-4A71-8F5B-359D985E37E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ADC-0201-40F4-9265-967C5B6818B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F99B8-2269-44FA-8A94-24A7BD9C151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85FE8-B77F-4894-AED4-CF8CF9C4103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CA632-D125-4523-BC2B-A507665C98B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614C1-502C-4FD7-A4F8-F417B57A6BC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295AC-0E55-4AF6-B30B-2B59F1D5E2F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F64F1-05E3-4146-AF04-90BCA144F72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E9747-1A87-49F9-9A6F-38FDFF6F3E9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6AC7B-0EE7-4798-B3C9-AF47836DB40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C812D-0E58-4405-8EE3-7ECC5D888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7821-001F-490D-B9BA-833400ACC56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9B3BC-36A2-4B7E-8330-43B84AD0C0B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00745-A2C9-4C7D-A209-EA932E8473D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768D1-C64F-4457-B4DC-9DC6EBD3E25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11576-1A1B-4DC6-94CA-7BE53E93CE0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4AFBB-5BFC-4C1C-91B7-148A052E6C8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883B7-8693-49EA-8E4C-B1DE8ACA8E4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7C885-4AD6-4AAE-8E10-59830805C18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26B6E-5FED-4156-9B2D-8C23E2F3ABA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48CC3-14F7-4DC1-81F5-91D86484F37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1A440-ECC9-4D34-A79A-7561264F6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DB43-2CE8-4BC0-952A-3FF95823A38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FB23F-D2A1-4C9D-9311-022081F7E88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D9247-45DB-4874-91DD-6E717448D88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791A2-B443-4624-9F33-95D844D982C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3F570-4892-481A-97EB-D32A181E2FF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A7925-D8C9-46F2-907B-5C2F3B77F15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6A30-4C32-48E0-9B5F-AB0E6822B0F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6BC2-A7AC-49A6-BA90-80B4D400AA8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67D1-296C-44D6-98A8-DF566C9DA3C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AC48-67BA-4D71-8B16-C5AEBFD19A0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0477-A318-4B37-9692-E4F887B83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F962-E0B6-4ED1-A0AC-7D919A9780E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B29D-188F-44B1-BCC4-A21F9B1A1BC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DAEA-C949-4FB5-8637-9ECFA0E07A9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9E07-707E-4073-9842-848C0F52FDF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1C4B-0672-481E-A573-D2232A326C0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971E-E3B9-400F-A7C6-AFA9C0836A7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2E09-067D-42AB-9BDD-8F02A313F8C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5C1A-420F-4F08-B025-2AA30752BF7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1E3331-7896-4C32-AE55-57A36F99748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ED30E1-2F11-41CA-A0DB-432D763CB42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CF650A-FEAE-4050-B08F-C0F5DFB63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324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3930-30F2-4EE9-96AE-4DD7D30FB0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8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8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BD7E-77F4-4026-9492-4DBCAA4D7B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27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9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93B9-2D2B-4652-9D43-6F8BDC6A52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7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10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B1FB-A85D-42B2-9C98-2482A5AFD9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4032360"/>
            <a:ext cx="9144000" cy="158760"/>
          </a:xfrm>
          <a:prstGeom prst="rect">
            <a:avLst/>
          </a:prstGeom>
          <a:solidFill>
            <a:srgbClr val="1e7143"/>
          </a:solidFill>
          <a:ln w="9360">
            <a:solidFill>
              <a:srgbClr val="1e71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79" name="Rectangle 6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ight Triangle 7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92892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423C-0D6C-41DD-8C45-103D4A28D1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983280" y="6502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EBB4-31A0-48B1-96C0-D6E2C0EFF318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124" name="Rectangle 7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ight Triangle 8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166" name="Rectangle 6"/>
            <p:cNvSpPr/>
            <p:nvPr/>
          </p:nvSpPr>
          <p:spPr>
            <a:xfrm>
              <a:off x="1098360" y="6541920"/>
              <a:ext cx="8045640" cy="3207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ight Triangle 7"/>
            <p:cNvSpPr/>
            <p:nvPr/>
          </p:nvSpPr>
          <p:spPr>
            <a:xfrm rot="16200000">
              <a:off x="771120" y="6541560"/>
              <a:ext cx="3207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3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5D21-B22D-4710-8EB2-266B927853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210" name="Rectangle 6"/>
            <p:cNvSpPr/>
            <p:nvPr/>
          </p:nvSpPr>
          <p:spPr>
            <a:xfrm>
              <a:off x="1098360" y="6543360"/>
              <a:ext cx="8045640" cy="31932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ight Triangle 7"/>
            <p:cNvSpPr/>
            <p:nvPr/>
          </p:nvSpPr>
          <p:spPr>
            <a:xfrm rot="16200000">
              <a:off x="771840" y="6540840"/>
              <a:ext cx="31932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4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9E56-4FB7-43C1-B6AE-008169609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5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5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C82B-D9DE-408D-99DC-2828156F4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98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6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1ED2-2032-41AE-9CAE-2E0D26103B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4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7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B761-9237-49A9-B1DC-6D89A4454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65400"/>
            <a:ext cx="769608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3e27"/>
                </a:solidFill>
                <a:latin typeface="Century Gothic"/>
              </a:rPr>
              <a:t>Using the Publishers’ Criteria for ELA/Literacy to Better Understand the Standards</a:t>
            </a:r>
            <a:endParaRPr b="1" lang="en-US" sz="36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4271760"/>
            <a:ext cx="6400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22" name="Picture 4" descr="C:\Users\SAP\Desktop\SAP_iTunesCover_square_01.jpg"/>
          <p:cNvPicPr/>
          <p:nvPr/>
        </p:nvPicPr>
        <p:blipFill>
          <a:blip r:embed="rId1"/>
          <a:stretch/>
        </p:blipFill>
        <p:spPr>
          <a:xfrm>
            <a:off x="7658280" y="2286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471A-E4CB-4040-9E3F-033B3CEE4BE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457200" y="2509920"/>
            <a:ext cx="8201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6-12, ELA programs include substantially more literary nonfiction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quality of the texts is high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texts and text types named in the standards are included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anchor texts are selected for especially careful read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533F-5A25-4158-9E7B-62558F0B8ECC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do the current reading selection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in our instructional setting align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to the expectations of the Common Core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o is engaged in conversations about text selection in our distric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are content area teachers engaged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22CF-1D32-45C1-B06F-C956D9E576B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High-Quality Text-Dependent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significant portion of the tasks and questions are text-dependent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igh-quality sequences of text-dependent questions elicit sustained attention to the specifics of the text and their impac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the use of textual evi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tructional design cultivates student interest and engagement in reading rich texts carefully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rovide opportunities to build knowledge through text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attend to analyzing the arguments and information central to informational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974C-7BAA-41E7-B09E-B0F9D466086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Non-Examples and Example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929280" y="654192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9134-097C-4FD3-90CB-B9B0F0A2739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43040"/>
            <a:ext cx="4022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Casey at the Bat,” Casey strikes out. Describe a time when you failed at something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Letter from a Birmingham Jail,” Dr. King discusses nonviolent protest. Discuss, in writing, a time when you wanted to fight against something that you felt was unfair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The Gettysburg Address” Lincoln says the nation is dedicated to the proposition that all men are created equal. Why is equality an important value to promote?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760" y="1642680"/>
            <a:ext cx="3841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makes Casey’s experiences at bat humorous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can you infer from King’s letter about the letter that he received?  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The Gettysburg Address” mentions the year 1776. According to Lincoln’s speech, why is this year significant to the events described in the speech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Shape 139"/>
          <p:cNvSpPr/>
          <p:nvPr/>
        </p:nvSpPr>
        <p:spPr>
          <a:xfrm>
            <a:off x="228600" y="61228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57200" y="1247760"/>
            <a:ext cx="402264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Not 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4538520" y="1349280"/>
            <a:ext cx="549360" cy="5029560"/>
            <a:chOff x="4538520" y="1349280"/>
            <a:chExt cx="549360" cy="5029560"/>
          </a:xfrm>
        </p:grpSpPr>
        <p:cxnSp>
          <p:nvCxnSpPr>
            <p:cNvPr id="565" name="Shape 138"/>
            <p:cNvCxnSpPr/>
            <p:nvPr/>
          </p:nvCxnSpPr>
          <p:spPr>
            <a:xfrm flipH="1">
              <a:off x="4784040" y="1349280"/>
              <a:ext cx="1080" cy="5029920"/>
            </a:xfrm>
            <a:prstGeom prst="straightConnector1">
              <a:avLst/>
            </a:prstGeom>
            <a:ln w="19080">
              <a:solidFill>
                <a:srgbClr val="0e291a"/>
              </a:solidFill>
              <a:miter/>
            </a:ln>
          </p:spPr>
        </p:cxnSp>
        <p:sp>
          <p:nvSpPr>
            <p:cNvPr id="566" name="Shape 140"/>
            <p:cNvSpPr/>
            <p:nvPr/>
          </p:nvSpPr>
          <p:spPr>
            <a:xfrm flipH="1" rot="10800000">
              <a:off x="4538520" y="186516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Shape 140"/>
            <p:cNvSpPr/>
            <p:nvPr/>
          </p:nvSpPr>
          <p:spPr>
            <a:xfrm flipH="1" rot="10800000">
              <a:off x="4538520" y="310032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Shape 140"/>
            <p:cNvSpPr/>
            <p:nvPr/>
          </p:nvSpPr>
          <p:spPr>
            <a:xfrm flipH="1" rot="10800000">
              <a:off x="4538520" y="4995720"/>
              <a:ext cx="549360" cy="366480"/>
            </a:xfrm>
            <a:prstGeom prst="rightArrow">
              <a:avLst>
                <a:gd name="adj1" fmla="val 50000"/>
                <a:gd name="adj2" fmla="val 50099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TextBox 14"/>
          <p:cNvSpPr/>
          <p:nvPr/>
        </p:nvSpPr>
        <p:spPr>
          <a:xfrm>
            <a:off x="5145120" y="1247760"/>
            <a:ext cx="384156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ultivating Students’ Ability to Read Complex Texts Independent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caffolds enable all student to experience rather than avoid the complexity of a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 strategies support comprehension of specific texts, focus on building knowled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 for whole-group, small-group, and individual instruction cultivates responsibility and indepen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careful comprehension of the text firs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the text the focus of instruc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offer assessment opportunities that genuinely measure progres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4DB9-48FA-4A0C-855B-3C0B89CBC298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Academic Vocabulary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ier 2” words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esent across content areas (in contrast to domain-specific words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50F1-A58F-4E31-839A-01ED8C6CF6EA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What is our current practice of vocabulary instruction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Is it aligned to the requirements of the Common Core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college and career readines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access to complex text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How are we supporting English Language Learners with vocabulary acquisition through complex text?   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2DE6-B515-4D9E-BB91-11D221821CFF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focus on forming arguments as well as writing to inform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elementary school 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middle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high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2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CCD8-3174-4CBD-9711-098CE4D3DAC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focus on forming arguments as well as informative writ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it clear that student writing should be responsive to the needs of the audience and the particulars of the text in ques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ents are given extensive practice with short, focused research projec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5A2A-8D93-4C60-A73E-30CC029DD82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cebreaker Ques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is the intention of the Publishers’ Criteria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o is it intended for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can it support these different audiences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5757-B3E4-42BC-86CE-5DD7DB3F477E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Putting it all together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four strands of ELA– reading, writing, speaking and listening– are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mean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 be woven together. This is as true in instructional materials as in curriculum mapp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 three shifts are meant to be in play at o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re is no either/or here: good materials need all of thi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e wary of materials and approaches that seek to segregate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What’s In and What’s Out?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IN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Leveled texts (only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any ‘ol tex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Solely literatur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llection of unrelated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to-self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writing without sourc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literary terminolog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p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end goa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(peripheral and detach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676520"/>
            <a:ext cx="4268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aily encounters w/complex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exts worthy of close atten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Balance of literary and info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herent sequences of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dependent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evidence-based analys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academic vocabular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reading &amp; 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mean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</a:t>
            </a:r>
            <a:br>
              <a:rPr sz="2000"/>
            </a:b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(central and integrat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560" y="1371600"/>
            <a:ext cx="6777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t all boils down to. . 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Content Placeholder 2"/>
          <p:cNvSpPr/>
          <p:nvPr/>
        </p:nvSpPr>
        <p:spPr>
          <a:xfrm>
            <a:off x="1042920" y="2362320"/>
            <a:ext cx="6777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Texts Worth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Questions Worth Answer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Goals for this Sess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losely examine the Publishers’ Criteria in an effort to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a deeper understanding of the Common Core State Standards and the shifts they requi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tandards’ implications for instructional material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dge materials for alignment and reflect on the appropriate use of existing classroom resources and strategi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5DAC-2872-40BB-8802-7F9FCABE0FA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ELA/Literacy:  3 shift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practice wit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mplex te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its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language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, writing, and speaking grounded in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evidence from text,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oth literary and informational</a:t>
            </a:r>
            <a:br>
              <a:rPr sz="2400"/>
            </a:b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Building knowledg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roug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ntent-rich nonfiction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Publishers’ Criteria for the Common Core State Standards in English Language Arts and Literacy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ed to guide publishers and curriculum developers as they work to ensure alignment with the CCS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cuses on the most significant elements of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t intended to dictate classroom practi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rised of two documents: grades K-2 and 3-12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imed to support the responsibilities of both producers and purchasers of instructional material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09D8-1169-4B8B-978A-A9711F9A365D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Document Organization 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 section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Text Sel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Writing to Sources and Research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7B62-0301-4535-BC89-50B446C861F1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. 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ign with grade by grade complexity requirements outlined in the Standard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ive all students access to and support with grade-level complex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shorter, challenging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novels, plays, and other full-length reading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e regular independent read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350D-AA20-4D7A-AC71-6ABA413A3965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Features of Complex Tex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948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tle and/or frequent transi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ultiple and/or subtle themes and purpos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nsity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ss common settings, topics or ev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repetition, overlap or similarity in words and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lex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common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words, sentences, or paragraphs that review or pull  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ngs together for the stud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nger paragraph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y text structure which is less narrative and/or mix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passive vo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24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at practices and materials are currently     in place in our instructional setting to support  </a:t>
            </a:r>
            <a:r>
              <a:rPr b="0" i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ll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students in accessing appropriately     complex tex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ere do we have need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(materials, PD, assessment tools)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1157-5DA7-458D-AD42-0009F621E30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0:06:53Z</dcterms:created>
  <dc:creator>Sandra</dc:creator>
  <dc:description/>
  <dc:language>en-US</dc:language>
  <cp:lastModifiedBy>Pascale Joseph</cp:lastModifiedBy>
  <cp:lastPrinted>2013-04-08T14:38:34Z</cp:lastPrinted>
  <dcterms:modified xsi:type="dcterms:W3CDTF">2020-01-23T19:22:26Z</dcterms:modified>
  <cp:revision>112</cp:revision>
  <dc:subject/>
  <dc:title>Using the Publishers’ Criteria for ELA/Literacy to better understand the Standards</dc:title>
</cp:coreProperties>
</file>