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dt" idx="1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move the slide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ftr" idx="1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 type="sldNum" idx="1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8CF78-C536-481A-B1C9-76DE39BF8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odule was last updated on February 201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6BF0C-D08E-41A0-AE45-B6D99AE220E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D7DAB-2F02-48DB-B8E1-9A674AB647F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B50AD-035F-4F4D-B126-72ACF6F64D2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DB49F-9E79-474B-BCCB-C98ACC003B5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31C6C-4611-4E9D-9593-2D6838243A6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28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Shape 147"/>
          <p:cNvSpPr/>
          <p:nvPr/>
        </p:nvSpPr>
        <p:spPr>
          <a:xfrm>
            <a:off x="3970440" y="9019080"/>
            <a:ext cx="303840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628BB-8CD1-4326-AF27-FDEF7C7185B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93132-D338-4018-BD10-2F0F2FBB1EE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559B9-078E-4DEA-A3DD-73AE44833C2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686C2-BADC-4F45-8B54-E308FEB2D10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043E9-94C9-4C1F-8ADF-72C8681CFBB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C0788-5190-4E40-BEC8-473D90C80B8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9C72B-762C-4725-9ED8-14E0ED2A6F1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3882F-02C1-4D01-A144-7F6620BF663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7500B-29AC-46B9-A620-98B8AD3B163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49933-FAC7-49F8-98C7-FA77EA47E44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3A775-4166-4ED9-8ED3-BC147E34547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C434E-C926-4169-B632-71BBA42BD39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2C77A-CDB3-4724-944E-6AB72282358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07AF9-E287-4184-ADB9-0493BBBF116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7BE40-922F-4763-A7DA-A8624D9484D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6F9AC-139D-4A68-9321-0939029F856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2CD24-1299-4009-888D-CA3DF8986E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92819-60BC-4AE7-8C89-CB19BE02CD2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ED5A7D-5BEB-4FC5-AA13-2B40084D85D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EDF3F6-1786-4A8D-B8FA-CB1C6A0C20C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AF28B6-DD8B-4F6C-BE82-6D5139EAAF4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53A134-AB7A-4A76-82B4-9A733DC4227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D832E4-6754-4FC2-9689-B05F0A1AE3D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46D7BD-E4A3-48FC-B220-5A03226353D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8432EF-4076-4B0B-A0C9-42C9C8615B6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571B4C-B69F-4A4C-BDBC-2A79B9D7117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895BFF-57F4-4469-BBEF-749F1393E40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1672DD-DB44-4E47-9FB2-AA58CED772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9B075-EBF5-4192-875E-97B084B246B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F0BE36-9B23-4B0D-BD2E-66BA6C99229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081BD6-353B-4632-95EF-CE31B8F8306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68179F-D177-441F-9B68-22042F23484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B77C75-7CD0-4854-A6C0-C2DD10A2B96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2FE246-8EFD-4C52-B88D-8DDC5FF544D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274E0E-C0FC-42B7-9159-1DBF5C558C1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6799E2-0C27-431E-AC88-9B38FB37FE9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40F6C0-750F-45BC-AB68-9EB97CBC0B9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FBE51A-54CE-4B02-86F1-24DD2F6A204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96CD9F-4640-4568-8A0D-715AC2C434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E9546-A9C8-45F7-990B-3092A7C9339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2F998C-1B45-417F-921C-897164DFFD1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C9F29-90C1-4E3B-9A0E-9FE27EC6D83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CC669-0150-416B-BA26-4367DDEB69F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A7267-212B-4265-A698-7504C743B62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E98DD-46B9-4000-A174-46D4F8813DA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E4F98-FBF2-4F89-9FFA-EB72CB373BF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77AF7-BDF5-4467-9741-6C0A11AD832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071D8-6267-4370-83AC-F877658DE5F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3435F-6DE9-40DA-A039-17765138326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67DDF-4092-48C4-BCFE-3505C8FF80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DAE00-70BD-45BD-951E-C7758F20724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9BCFD-1DE4-46E1-898A-D91A9FD5AFC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81F15-143E-42B6-BE2F-BB8A1B00D3B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083A2A-0DF1-49DB-AE0B-B1D6F98D02D2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95A2E7-1820-4220-AB70-95D7D5185A4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AF9959-B767-4861-9A3D-C4A44D80551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081C65-0BBB-471E-B406-354B501DB5D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33492F-2916-4EC0-9CA7-E367DA602FF7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03058E-D0BA-4CE3-A237-2EC620A3497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188DFD-7B0F-408C-8805-B4810E2E3EE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0F45A3-008F-4DB1-B28E-36B192DD65A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EEE318-93BD-417A-A66F-406B8379DF85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06B943-AA44-4166-B21E-83804F1E8A9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A3FDDD-E05E-4AF3-941B-C7B2BCE9906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8BF097-8B3E-4124-BFD0-9CEFC6DAD46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8CC34-35C7-4304-873C-07DA885211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00978-A604-4C36-9D16-1F0CE8E2F1C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89545-2A0E-4BE1-94D3-B1D068BFB0E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37E0B-A18E-4535-A1D3-3F56494957B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BB938-2CFA-422F-BD7B-37C46DFFD24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282A7-9B1F-4146-9A1B-989A084D31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D62C0-BB1B-487E-B4FA-1224CC10E2C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799F5-9C92-4DC7-A5FF-C581CED817F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92E67-1E8F-4F4D-BFB7-287779964F0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AC32E-CBDF-453F-BD36-87A1E31434C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AF58A-7140-4DB9-8395-C69D88AE4B0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07F96-DB6A-4985-BFAF-81AC379BC73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41B3A-35CF-4C9B-B745-F8BB986AB36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6A517-8055-4BF6-BE69-4CDBA97B9EC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D7FFE-271E-4446-9DDD-3E2940BBE26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5BF8-C570-4B7B-9FC0-06FE3FE1E9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EB28C-710D-4F95-B602-E37BA31B73B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4E37-F8A5-4842-A74C-ED612F4C620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81B5-7B65-4A64-8F80-59FEA194FEE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DF0F-FE72-42F6-8FBD-D7A435BB978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65AC-90B3-4E23-81FD-66EC3AA0018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7210-B1DF-4073-959D-725551CE6EE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DBE1-6486-4B10-8D5D-02445564048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2169-B9C0-4C06-A5F8-6B4384992DF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358A-CB9D-4F6D-A4F7-021E06BAB37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67CB-87C7-4E2E-8B31-09A7D33CB18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4857-A7D4-45A1-9379-159197A326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7C2B7-CDAA-4FBB-A8A6-2688322793B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796F-86D7-4350-80B7-6622020ADA9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7AC72D-C329-4F95-8499-055145D9834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48597B-0D7C-4259-BCEE-50281D03B8C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553DB5-D701-428E-BD49-5362BB7BC8E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6FA33D-2E5E-406A-AA68-009DCC25C2B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4C1D23-67E0-4BFC-BD15-EC4218317BF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02A6F8-EC44-4756-A984-77F2ADC6E3D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78EDB7-A43B-4814-8AC1-DE2BD85376F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779DF9-060D-4999-BFD6-03DC2DB62B1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0C7C97-788B-42B3-B735-03B0A55A03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526CF-BE97-4B87-81DC-FBF6A4248CA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358CC0-BA2C-46B8-B58D-D5577EB418E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AAEA47-9E4D-4DB4-81DD-4464498FC10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D4B46B-DBE8-4B78-915B-6D8F7008BFF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1AB6BE-588A-43FE-94E5-0C682EA05A4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3F6E14-B08D-45F8-815E-4F2EE169142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7CCAAC-18D4-4E7E-9D55-6E4B7476521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14B346-0F81-4302-BD73-C47FA253F91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AA58B6-2D37-4579-9628-587DC08470B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548C7D-0FB5-4F6D-9785-DB30E268023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02702B-BF0B-4A9C-8E6C-17EDCB3A7E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F5436-FD36-46CD-A13B-E6F54226532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AA29B8-3CF4-429C-A513-2A93B73BBD9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507016-3AD3-4EF4-AD32-EB01A938106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23727E-7A4A-42B5-8BE5-C5E9E01BB67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EB1D11-E0B7-48FD-9375-62EE5052E88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CC5991-2482-4877-A75F-30F56F51EA4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EEC86-122D-493E-B7F9-E7D4CC5F120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6A25B-C953-42C6-B21F-E407083FA49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4A597-849E-42E4-8BFE-297AA993926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A9A91-7A7B-4F87-BF75-0AC558789FF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71AA5-3365-43B5-93C7-38C236F108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28C2F-FDA3-4DC8-9DAF-EA1A028ED2A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2C874-04F3-4A79-9211-53DC8562FFE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8F2F5-EA49-462E-AE66-7630C1FE869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ECFFE-0D02-436A-A522-55E73EC61CE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0D5C9-4D2D-4F28-91E0-721CF1533A0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A95D4-0F31-47DC-941F-0D8EA683B57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C53CA-E60C-4C3E-8E0B-1B06B3D297E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AA2C4-BA7A-470E-A9B1-B2CFB35A054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346EDA-9B71-4437-A3BC-E7FA5A5A259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10B9FD-CA4B-4618-90FB-145B4F7D49F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B59DAA-D997-4707-B83F-132908550F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23240" y="64753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65E4-84E9-4DA4-9F7B-AD91DB0832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384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6" name="TextBox 8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sldNum" idx="8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041CD-5E79-4DFD-9F9D-7F20BE31A4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427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9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TextBox 9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sldNum" idx="9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8D89-605E-45F3-B732-F8CDC9B1EE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471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3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sldNum" idx="10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3FED6-15EA-4F6B-9991-8F8D22D887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4"/>
          <p:cNvSpPr/>
          <p:nvPr/>
        </p:nvSpPr>
        <p:spPr>
          <a:xfrm>
            <a:off x="0" y="4032360"/>
            <a:ext cx="9144000" cy="158760"/>
          </a:xfrm>
          <a:prstGeom prst="rect">
            <a:avLst/>
          </a:prstGeom>
          <a:solidFill>
            <a:srgbClr val="1e7143"/>
          </a:solidFill>
          <a:ln w="9360">
            <a:solidFill>
              <a:srgbClr val="1e7143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79" name="Rectangle 6"/>
            <p:cNvSpPr/>
            <p:nvPr/>
          </p:nvSpPr>
          <p:spPr>
            <a:xfrm>
              <a:off x="1098360" y="6550200"/>
              <a:ext cx="8045640" cy="32040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Right Triangle 7"/>
            <p:cNvSpPr/>
            <p:nvPr/>
          </p:nvSpPr>
          <p:spPr>
            <a:xfrm rot="16200000">
              <a:off x="771480" y="6550200"/>
              <a:ext cx="32040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9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2"/>
          </p:nvPr>
        </p:nvSpPr>
        <p:spPr>
          <a:xfrm>
            <a:off x="692892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9F176-A94D-40BE-BF8D-E27775A606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6983280" y="65023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926F8-3E99-4C5F-A013-D6321C2401CE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Group 6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124" name="Rectangle 7"/>
            <p:cNvSpPr/>
            <p:nvPr/>
          </p:nvSpPr>
          <p:spPr>
            <a:xfrm>
              <a:off x="1098360" y="6550200"/>
              <a:ext cx="8045640" cy="32040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Right Triangle 8"/>
            <p:cNvSpPr/>
            <p:nvPr/>
          </p:nvSpPr>
          <p:spPr>
            <a:xfrm rot="16200000">
              <a:off x="771480" y="6550200"/>
              <a:ext cx="32040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TextBox 9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4"/>
          <p:cNvGrpSpPr/>
          <p:nvPr/>
        </p:nvGrpSpPr>
        <p:grpSpPr>
          <a:xfrm>
            <a:off x="771480" y="6541560"/>
            <a:ext cx="8372520" cy="321120"/>
            <a:chOff x="771480" y="6541560"/>
            <a:chExt cx="8372520" cy="321120"/>
          </a:xfrm>
        </p:grpSpPr>
        <p:sp>
          <p:nvSpPr>
            <p:cNvPr id="166" name="Rectangle 6"/>
            <p:cNvSpPr/>
            <p:nvPr/>
          </p:nvSpPr>
          <p:spPr>
            <a:xfrm>
              <a:off x="1098360" y="6541920"/>
              <a:ext cx="8045640" cy="3207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Right Triangle 7"/>
            <p:cNvSpPr/>
            <p:nvPr/>
          </p:nvSpPr>
          <p:spPr>
            <a:xfrm rot="16200000">
              <a:off x="771120" y="6541560"/>
              <a:ext cx="3207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8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3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7FB63-D47E-4F94-88FA-9E5976E71B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Group 4"/>
          <p:cNvGrpSpPr/>
          <p:nvPr/>
        </p:nvGrpSpPr>
        <p:grpSpPr>
          <a:xfrm>
            <a:off x="771480" y="6541560"/>
            <a:ext cx="8372520" cy="321120"/>
            <a:chOff x="771480" y="6541560"/>
            <a:chExt cx="8372520" cy="321120"/>
          </a:xfrm>
        </p:grpSpPr>
        <p:sp>
          <p:nvSpPr>
            <p:cNvPr id="210" name="Rectangle 6"/>
            <p:cNvSpPr/>
            <p:nvPr/>
          </p:nvSpPr>
          <p:spPr>
            <a:xfrm>
              <a:off x="1098360" y="6543360"/>
              <a:ext cx="8045640" cy="31932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Right Triangle 7"/>
            <p:cNvSpPr/>
            <p:nvPr/>
          </p:nvSpPr>
          <p:spPr>
            <a:xfrm rot="16200000">
              <a:off x="771840" y="6540840"/>
              <a:ext cx="31932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2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Num" idx="4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38D05-AC48-46DA-986C-FAF4793563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254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6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Num" idx="5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C170-5541-48DF-87D7-637AE78A35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298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0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sldNum" idx="6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3C8F0-8482-4917-9AA3-0EBF237342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341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3" name="TextBox 8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sldNum" idx="7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AEC14-7915-4106-8B13-C28F65F385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2165400"/>
            <a:ext cx="7696080" cy="179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3e27"/>
                </a:solidFill>
                <a:latin typeface="Century Gothic"/>
              </a:rPr>
              <a:t>Using the Publishers’ Criteria for ELA/Literacy to Better Understand the Standards</a:t>
            </a:r>
            <a:endParaRPr b="1" lang="en-US" sz="36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685800" y="4271760"/>
            <a:ext cx="64008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522" name="Picture 4" descr="C:\Users\SAP\Desktop\SAP_iTunesCover_square_01.jpg"/>
          <p:cNvPicPr/>
          <p:nvPr/>
        </p:nvPicPr>
        <p:blipFill>
          <a:blip r:embed="rId1"/>
          <a:stretch/>
        </p:blipFill>
        <p:spPr>
          <a:xfrm>
            <a:off x="7658280" y="22860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Text Select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ange and Quality of Tex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grades 3-5, literacy programs  include equal measures of literary and informational texts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94369-B7C9-4B6C-8C11-903A076C8E26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8" name="Picture 2" descr=""/>
          <p:cNvPicPr/>
          <p:nvPr/>
        </p:nvPicPr>
        <p:blipFill>
          <a:blip r:embed="rId1"/>
          <a:stretch/>
        </p:blipFill>
        <p:spPr>
          <a:xfrm>
            <a:off x="457200" y="2509920"/>
            <a:ext cx="8201160" cy="39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Text Select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ange and Quality of Tex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grades 3-5, literacy programs  include equal measures of literary and informational texts.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grades 6-12, ELA programs include substantially more literary nonfiction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quality of the texts is high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fic texts and text types named in the standards are included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fic anchor texts are selected for especially careful reading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A3C65-2C10-4D4F-BAD2-84EF091A9C7A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Time to Reflect…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ange and Quality of Tex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How do the current reading selections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in our instructional setting align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to the expectations of the Common Core?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Who is engaged in conversations about text selection in our district? 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How are content area teachers engaged?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156DB-F1AC-4E9B-B282-FA7532DDB8A7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Questions and Tasks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56840" y="11426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High-Quality Text-Dependent Questions and Tas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 significant portion of the tasks and questions are text-dependent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High-quality sequences of text-dependent questions elicit sustained attention to the specifics of the text and their impac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Questions and tasks require the use of textual evidenc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tructional design cultivates student interest and engagement in reading rich texts carefully.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provide opportunities to build knowledge through text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Questions and tasks attend to analyzing the arguments and information central to informational tex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69384-F987-463A-B164-23F1296895F4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460080"/>
            <a:ext cx="8229600" cy="5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Non-Examples and Examples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59" name="Slide Number Placeholder 5"/>
          <p:cNvSpPr/>
          <p:nvPr/>
        </p:nvSpPr>
        <p:spPr>
          <a:xfrm>
            <a:off x="6929280" y="654192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3C2ED-E07A-489E-A8DF-71A1A0A6EF4D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1643040"/>
            <a:ext cx="402264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 “Casey at the Bat,” Casey strikes out. Describe a time when you failed at something.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 “Letter from a Birmingham Jail,” Dr. King discusses nonviolent protest. Discuss, in writing, a time when you wanted to fight against something that you felt was unfair.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 “The Gettysburg Address” Lincoln says the nation is dedicated to the proposition that all men are created equal. Why is equality an important value to promote?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5144760" y="1642680"/>
            <a:ext cx="384156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Arial"/>
              </a:rPr>
              <a:t>What makes Casey’s experiences at bat humorous?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Arial"/>
              </a:rPr>
              <a:t>What can you infer from King’s letter about the letter that he received?  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Arial"/>
              </a:rPr>
              <a:t>The Gettysburg Address” mentions the year 1776. According to Lincoln’s speech, why is this year significant to the events described in the speech?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2" name="Shape 139"/>
          <p:cNvSpPr/>
          <p:nvPr/>
        </p:nvSpPr>
        <p:spPr>
          <a:xfrm>
            <a:off x="228600" y="61228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TextBox 1"/>
          <p:cNvSpPr/>
          <p:nvPr/>
        </p:nvSpPr>
        <p:spPr>
          <a:xfrm>
            <a:off x="457200" y="1247760"/>
            <a:ext cx="4022640" cy="366840"/>
          </a:xfrm>
          <a:prstGeom prst="rect">
            <a:avLst/>
          </a:prstGeom>
          <a:solidFill>
            <a:srgbClr val="ccf2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Arial"/>
              </a:rPr>
              <a:t>Not Text-Depend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2"/>
          <p:cNvGrpSpPr/>
          <p:nvPr/>
        </p:nvGrpSpPr>
        <p:grpSpPr>
          <a:xfrm>
            <a:off x="4538520" y="1349280"/>
            <a:ext cx="549360" cy="5029560"/>
            <a:chOff x="4538520" y="1349280"/>
            <a:chExt cx="549360" cy="5029560"/>
          </a:xfrm>
        </p:grpSpPr>
        <p:cxnSp>
          <p:nvCxnSpPr>
            <p:cNvPr id="565" name="Shape 138"/>
            <p:cNvCxnSpPr/>
            <p:nvPr/>
          </p:nvCxnSpPr>
          <p:spPr>
            <a:xfrm flipH="1">
              <a:off x="4784040" y="1349280"/>
              <a:ext cx="1080" cy="5029920"/>
            </a:xfrm>
            <a:prstGeom prst="straightConnector1">
              <a:avLst/>
            </a:prstGeom>
            <a:ln w="19080">
              <a:solidFill>
                <a:srgbClr val="0e291a"/>
              </a:solidFill>
              <a:miter/>
            </a:ln>
          </p:spPr>
        </p:cxnSp>
        <p:sp>
          <p:nvSpPr>
            <p:cNvPr id="566" name="Shape 140"/>
            <p:cNvSpPr/>
            <p:nvPr/>
          </p:nvSpPr>
          <p:spPr>
            <a:xfrm flipH="1" rot="10800000">
              <a:off x="4538520" y="1865160"/>
              <a:ext cx="549360" cy="365040"/>
            </a:xfrm>
            <a:prstGeom prst="rightArrow">
              <a:avLst>
                <a:gd name="adj1" fmla="val 50000"/>
                <a:gd name="adj2" fmla="val 50074"/>
              </a:avLst>
            </a:prstGeom>
            <a:solidFill>
              <a:srgbClr val="4cc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Shape 140"/>
            <p:cNvSpPr/>
            <p:nvPr/>
          </p:nvSpPr>
          <p:spPr>
            <a:xfrm flipH="1" rot="10800000">
              <a:off x="4538520" y="3100320"/>
              <a:ext cx="549360" cy="365040"/>
            </a:xfrm>
            <a:prstGeom prst="rightArrow">
              <a:avLst>
                <a:gd name="adj1" fmla="val 50000"/>
                <a:gd name="adj2" fmla="val 50074"/>
              </a:avLst>
            </a:prstGeom>
            <a:solidFill>
              <a:srgbClr val="4cc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Shape 140"/>
            <p:cNvSpPr/>
            <p:nvPr/>
          </p:nvSpPr>
          <p:spPr>
            <a:xfrm flipH="1" rot="10800000">
              <a:off x="4538520" y="4995720"/>
              <a:ext cx="549360" cy="366480"/>
            </a:xfrm>
            <a:prstGeom prst="rightArrow">
              <a:avLst>
                <a:gd name="adj1" fmla="val 50000"/>
                <a:gd name="adj2" fmla="val 50099"/>
              </a:avLst>
            </a:prstGeom>
            <a:solidFill>
              <a:srgbClr val="4cc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9" name="TextBox 14"/>
          <p:cNvSpPr/>
          <p:nvPr/>
        </p:nvSpPr>
        <p:spPr>
          <a:xfrm>
            <a:off x="5145120" y="1247760"/>
            <a:ext cx="3841560" cy="366840"/>
          </a:xfrm>
          <a:prstGeom prst="rect">
            <a:avLst/>
          </a:prstGeom>
          <a:solidFill>
            <a:srgbClr val="ccf2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Arial"/>
              </a:rPr>
              <a:t>Text-Depend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Questions and Tasks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Cultivating Students’ Ability to Read Complex Texts Independent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caffolds enable all student to experience rather than avoid the complexity of a tex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ading strategies support comprehension of specific texts, focus on building knowled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Design for whole-group, small-group, and individual instruction cultivates responsibility and independenc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Questions and tasks require careful comprehension of the text firs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make the text the focus of instruction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offer assessment opportunities that genuinely measure progres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9F163-4670-477E-9388-C33105BC2AB1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Academic Vocabulary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ier 2” words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Present across content areas (in contrast to domain-specific words)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1F629-CF31-4B25-B78B-46ADCDB7D5F0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Time to Reflect…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Academic Vocabular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What is our current practice of vocabulary instruction?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Is it aligned to the requirements of the Common Core?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Does it support college and career readiness?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Does it support access to complex text?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How are we supporting English Language Learners with vocabulary acquisition through complex text?   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3C939-EB7E-4672-86B2-8163EA8F97DC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53e27"/>
                </a:solidFill>
                <a:latin typeface="Century Gothic"/>
              </a:rPr>
              <a:t>Key Criteria for Writing to Sources and Research</a:t>
            </a:r>
            <a:endParaRPr b="1" lang="en-US" sz="25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Materials portray writing to sources as key task.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Materials focus on forming arguments as well as writing to inform.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In elementary school 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0% writing to argue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5% writing to explain/inform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5% narrative writing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In middle school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5% writing to argue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5% writing to explain/inform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0% narrative writing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In high school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40% writing to argue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40% writing to explain/inform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20% narrative writing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F38EC-453E-44A6-8A75-58F96869B094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53e27"/>
                </a:solidFill>
                <a:latin typeface="Century Gothic"/>
              </a:rPr>
              <a:t>Key Criteria for Writing to Sources and Research</a:t>
            </a:r>
            <a:endParaRPr b="1" lang="en-US" sz="25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portray writing to sources as key task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focus on forming arguments as well as informative writing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make it clear that student writing should be responsive to the needs of the audience and the particulars of the text in question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tudents are given extensive practice with short, focused research projects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29E38-1C5A-4199-8067-41673A1C7408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Icebreaker Quest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hat is the intention of the Publishers’ Criteria?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ho is it intended for?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ow can it support these different audiences?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54132-4DC8-4621-868F-9059E8DB9879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Putting it all together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four strands of ELA– reading, writing, speaking and listening– are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mean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o be woven together. This is as true in instructional materials as in curriculum mapping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ll three shifts are meant to be in play at onc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re is no either/or here: good materials need all of thi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Be wary of materials and approaches that seek to segregate the standard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entury Gothic"/>
              </a:rPr>
              <a:t>What’s In and What’s Out?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688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62626"/>
                </a:solidFill>
                <a:uFillTx/>
                <a:latin typeface="Calibri"/>
              </a:rPr>
              <a:t>IN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47960" y="10663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62626"/>
                </a:solidFill>
                <a:uFillTx/>
                <a:latin typeface="Calibri"/>
              </a:rPr>
              <a:t>OU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4644720" y="1676520"/>
            <a:ext cx="404172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Leveled texts (only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any ‘ol text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Solely literature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Collection of unrelated text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Mostly text-to-self question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Mainly writing without source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Accent on literary terminology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Emphasis on pre-reading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strategies (as end goal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foundations (peripheral and detached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228600" y="1676520"/>
            <a:ext cx="42688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Daily encounters w/complex text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Texts worthy of close attention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Balance of literary and info text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Coherent sequences of text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Mostly text-dependent question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Mainly evidence-based analyse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Accent on academic vocabulary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Emphasis on reading &amp; re-reading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strategies (as means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foundations </a:t>
            </a:r>
            <a:br>
              <a:rPr sz="2000"/>
            </a:b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(central and integrated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304560" y="1371600"/>
            <a:ext cx="6777000" cy="11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It all boils down to. . .</a:t>
            </a: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3" name="Content Placeholder 2"/>
          <p:cNvSpPr/>
          <p:nvPr/>
        </p:nvSpPr>
        <p:spPr>
          <a:xfrm>
            <a:off x="1042920" y="2362320"/>
            <a:ext cx="6777000" cy="30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8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  <a:ea typeface="Arial"/>
              </a:rPr>
              <a:t>Texts Worth Reading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8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  <a:ea typeface="Arial"/>
              </a:rPr>
              <a:t>and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8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  <a:ea typeface="Arial"/>
              </a:rPr>
              <a:t>Questions Worth Answering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Goals for this Sess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will closely examine the Publishers’ Criteria in an effort to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in a deeper understanding of the Common Core State Standards and the shifts they require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cuss the Standards’ implications for instructional material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udge materials for alignment and reflect on the appropriate use of existing classroom resources and strategi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8847B-572D-458B-884C-85B302FC5183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ELA/Literacy:  3 shifts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60912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5440" indent="-514440">
              <a:spcBef>
                <a:spcPts val="180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practice with 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complex te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its 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academic language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595440" indent="-514440">
              <a:spcBef>
                <a:spcPts val="180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ading, writing, and speaking grounded in 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evidence from text,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both literary and informational</a:t>
            </a:r>
            <a:br>
              <a:rPr sz="2400"/>
            </a:br>
            <a:r>
              <a:rPr b="1" lang="en-US" sz="2400" spc="-1" strike="noStrike" u="sng">
                <a:solidFill>
                  <a:srgbClr val="262626"/>
                </a:solidFill>
                <a:uFillTx/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595440" indent="-514440">
              <a:spcBef>
                <a:spcPts val="180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Building knowledg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rough 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content-rich nonfiction</a:t>
            </a:r>
            <a:br>
              <a:rPr sz="2400"/>
            </a:b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53e27"/>
                </a:solidFill>
                <a:latin typeface="Century Gothic"/>
              </a:rPr>
              <a:t>Publishers’ Criteria for the Common Core State Standards in English Language Arts and Literacy</a:t>
            </a:r>
            <a:endParaRPr b="1" lang="en-US" sz="25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Designed to guide publishers and curriculum developers as they work to ensure alignment with the CCSS.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cuses on the most significant elements of the Standard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Not intended to dictate classroom practic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prised of two documents: grades K-2 and 3-12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imed to support the responsibilities of both producers and purchasers of instructional materials.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40AF8-32CA-464F-8114-3167381A1DF5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Document Organization 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 section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Key Criteria for Text Selectio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Key Criteria for Questions and Tas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Key Criteria for Academic Vocabular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Key Criteria for Writing to Sources and Research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6F790-01BE-4FE6-B683-1EA8EF924307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I. Key Criteria for Text Select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Text Complexit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lign with grade by grade complexity requirements outlined in the Standard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Give all students access to and support with grade-level complex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clude shorter, challenging tex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clude novels, plays, and other full-length reading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crease regular independent reading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67605-A129-4F29-A1B6-E5ED2024568E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Features of Complex Tex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609480" y="114300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ubtle and/or frequent transit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ultiple and/or subtle themes and purpos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Density of informatio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ess common settings, topics or even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ack of repetition, overlap or similarity in words and sent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plex sent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ncommon vocabular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ack of words, sentences, or paragraphs that review or pull  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ngs together for the stud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onger paragraph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y text structure which is less narrative and/or mix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tructur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 of passive voi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24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Time to reflect…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Text Complexit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   </a:t>
            </a: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What practices and materials are currently     in place in our instructional setting to support  </a:t>
            </a:r>
            <a:r>
              <a:rPr b="0" i="1" lang="en-US" sz="3200" spc="-1" strike="noStrike" u="sng">
                <a:solidFill>
                  <a:srgbClr val="262626"/>
                </a:solidFill>
                <a:uFillTx/>
                <a:latin typeface="Calibri"/>
              </a:rPr>
              <a:t>all</a:t>
            </a: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 students in accessing appropriately     complex text? 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Where do we have needs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(materials, PD, assessment tools)?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C7037-0D2A-4227-8D74-C3FEA9A53A68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2T00:06:53Z</dcterms:created>
  <dc:creator>Sandra</dc:creator>
  <dc:description/>
  <dc:language>en-US</dc:language>
  <cp:lastModifiedBy>Pascale Joseph</cp:lastModifiedBy>
  <cp:lastPrinted>2013-04-08T14:38:34Z</cp:lastPrinted>
  <dcterms:modified xsi:type="dcterms:W3CDTF">2020-01-23T19:22:26Z</dcterms:modified>
  <cp:revision>112</cp:revision>
  <dc:subject/>
  <dc:title>Using the Publishers’ Criteria for ELA/Literacy to better understand the Standards</dc:title>
</cp:coreProperties>
</file>