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dt" idx="1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1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 type="sldNum" idx="1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268F-3A95-46A2-A338-3665A5805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dule was last updated on February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CBDE-A16D-4CE8-923E-69CB88BFE2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7C42-2516-4B20-9FA3-114F8D9D39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8AAF-6CC2-4DCD-A5A3-7DA6B580C33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2A0D-D8EA-4B9C-AE59-10A2E720174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332A-2A6B-4183-8AD7-2F710750FF4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28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147"/>
          <p:cNvSpPr/>
          <p:nvPr/>
        </p:nvSpPr>
        <p:spPr>
          <a:xfrm>
            <a:off x="3970440" y="9019080"/>
            <a:ext cx="303840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79DA-15D0-4FFF-BA77-C2A5E4432F8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9B64-61C3-4CEC-ADE8-B1507124541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CFA1-7FFD-4BB4-8BE2-FD4899E73E3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0166-AAB5-4468-81C0-355EED994BC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EDEE-60A8-4A35-B11B-2893D3BF85B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4F5E-5BCE-4C37-9510-A1193605400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5EAB-358E-47BD-B57E-B27E0285B11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88B3-ADE2-435E-A9AC-E78DE53ACDB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C75A-F685-4093-864B-875FE515DDE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19F0-9C2A-4DBC-B05A-DFE38539BC4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1211-C66C-49FE-9B6D-CD5C78B5569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FAA8-36A3-4B90-BA35-B4A4636DCD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5542-F9CC-46D5-AF03-99761CBC39C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7B2F-F7F8-494F-A762-7D8D1A15B9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CF63-9F9F-4E0D-A664-8A444A83003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A809-C389-4747-BD4A-CDA8A646050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98E2-BF73-4C10-9362-5FE7AECA0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9B65-B113-42F2-98B7-0996F9FF2F1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898EA-9192-4CD2-852D-752D4BD1FD2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03DE78-465F-42DB-934A-9CDE8466AD9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38E37F-E863-49ED-8A22-B9052DACB7E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72A5F-47F2-439C-B145-EEAE6B3041D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69393C-5127-448A-B89E-442F3F579EA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5A9A7-92B7-46A9-A726-57D2DD039A5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ED3831-A270-4BE0-9958-5F8A279918E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6FAFA0-3A8A-4CB4-9CB1-1DFD97BF418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C3B2C6-3A11-4B55-9F3E-68236B29D2C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F0144-2C00-4279-A55C-CB229F9C5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9C14-3FC4-41F8-85C2-E179112B770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6D0EE-D4A3-4005-B96F-FD16EB06DEF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3CBF1-7631-4F7B-8ED7-4161859B0F6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88AE8A-D0B5-4544-9B44-8D76A35284A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65B2D6-6BD2-4E0B-A956-00434763CA5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3A5B4-BC67-4471-9199-DFFACF423E4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E6331-29FE-4EBC-9D3F-BE2CA8ADB17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D16654-BC08-4987-8381-ADE050B12F1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CD96C-A89C-4EC6-AAF9-FD3CE64B780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7C5B6-D35A-40D4-9F75-3B267377A74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A3ADB-5977-4A6B-8C03-34F7D1A81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58BD-4CE1-451C-9E26-8AE15FDB08B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F8069-1098-4217-994F-5C1A85FA15D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AAB1F-BD3D-48C4-9B99-EE91B9D826B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77214-E824-47DF-81CE-C8160EC28A7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70734-6B3E-463A-B5D8-3E1086A6A24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DDE9C-D91B-4508-A57A-094AB871B05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4F517-F37F-4202-B13F-5A4EC4F2A49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40C3C-4B93-4B8C-BC59-A40E2D6D949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EE7A1-B599-4A75-A28D-241AEEAF59F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B9E11-BAA0-48FA-82BF-2FDCF6C24FD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3971A-C9DE-47FD-B54D-B7A1558BC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CFACA-CAFB-4F76-864C-041D4E8D2E5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764B7-BAA5-4484-8CFA-0C372254A52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F7516-D45E-4136-A93D-C0C55D71616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5AAD6F-10E0-4845-8988-0A1908284E7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B58205-3CFB-463F-9CF1-47F3F3362B6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6D422A-C2B5-46D2-B931-E2CE437B3F6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0567D0-1621-40BD-BB62-08B37E76A92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860A29-D568-4B0D-8391-8212A8169F1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371CCD-C65F-4A9B-9FED-5BC85B61F8B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FD9CD6-6215-4986-878D-B8A4C38CE5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888F11-1F55-4D59-98D5-BC64F968AA8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E81AA9-DF65-47BC-A655-835BEB4F348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21BF8-9116-4507-AD48-C3889C3668D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458B38-29D1-42DD-A825-FCB5DD83963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037374-9907-418E-856E-2161FCB37D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F698-41F8-4E8E-BC23-064611C0B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DAE00-17D3-435C-82EB-1BAB811432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3B283-6C3A-44FC-A2CB-211CBB21F2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10381-8D23-42CA-A2F4-68E3D11837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7FA2-10F2-4DA8-9246-4EF285BF16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911FC-E501-4B4E-A493-E7B90D161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B428-78A9-42E7-B52A-AE9A17B538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BA32-5C90-4664-9057-89DF7F0BC6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26F7-EFB0-4EDC-9157-1C4CA4CC0D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378A2-DF2F-4EAB-A233-BE477F398D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D252F-F865-4FF5-9D38-C33F4EE6DE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AFB1-B259-49D7-9E36-5B0DABF5CF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EF885-6F59-4343-81C9-BD6C88E2B3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49C6F-8D19-4D98-9570-E50BA589C54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9869-7D8A-47AA-B370-A6D5D1D7F7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C984-76A3-4511-8FCE-7C211D4E9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F99F0-6B4E-4176-93E9-FC77E701804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F1C-62A9-4FA7-8CC4-49D2EC58F35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E1F-EBCA-44A7-AE8B-FD7E95A5604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1F62-4236-4223-8517-1A47FA91EBD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5D1C-6EA4-463E-9C52-5EDE82565EE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D0C-247B-4D11-BFFD-2BF2F56A1E0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59B6-568A-4FB3-9F77-7A0E4ADC069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752E-CE16-4AC8-A4B5-07AA1E6E3E1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617-FEC2-4963-9B25-0C0D5403D60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7CB2-6B66-4109-9D6F-3FA80CB4242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7EEB-71F8-49BD-9F76-D75E6BA3E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ABC1-887B-40EC-A22D-9BDD6368258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C37-2FAA-4A20-8ABA-6C164DC0AD0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674D1-1395-499E-ABCD-6A18CDD6A8C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C47B8-C88F-4C3A-9EDB-51AA2DAF760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3FDD6-D7A4-4E90-B898-C848C4E703F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782C9-BD9B-4158-8503-61A6A6F3195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DD0BB-2027-4F82-A5E9-41FF8C34AF1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932D8-530C-4DC4-BC8B-0DD9574A39E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37233-28DF-4BD0-BDBF-FEBCCDD5132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F7D83-725A-4C51-8FDE-72336854635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5F16A-2E83-4CD8-86E7-306ABC759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38BF-297E-4223-94DA-4F0D51613AA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9010B-E1EB-42CB-8A1A-79AB3DCE634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D5684-D90B-442C-9E83-451339F49A2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F03C51-1313-4864-8328-9C9DB41DD51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20639-52A0-4407-B45B-53B60A424C2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C1C69-320E-4751-80CA-4810FA1F8CC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A2931-4A57-4608-908B-BDA78A9B2D0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B2A10-C613-4A9D-9A05-05CC7172025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F5CEC-FEEB-4EEE-9FD6-3864233F8FE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B7A84-6DB2-4B92-A349-5C088FC9B36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BDDC7-C123-4128-B51A-59DA170C6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106C-A57F-4609-B662-B3B5E8A7E03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953D8-22B0-4408-AD46-A02AD243627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F943D-4D82-4377-A75F-3B357FD505B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B6E0E-02C9-4E84-AAD8-65572F635A3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77471-FB5D-478A-B0F8-18B008E75B4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2AD22-3229-404E-B15D-6677C2FCBBC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6B15-C822-4712-A7F5-885057D7555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FE2D-BFD1-4044-B5C5-09F65B60E9E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E0A9-963F-4861-BF2E-79A0A4494EF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533D-CC4F-488F-AD68-E12BB101B67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A7BE-7471-4D65-A4D7-771BDC461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7DCA-8888-4978-AA44-5D139D92631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9836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208F-5739-42B9-8561-6C6127D1567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4F9C-1A14-4464-A0EA-85CBC725830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FD34-9782-4304-9FE0-A97DD0619D3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89B2-1AA5-4FAB-B9EE-2BFEB3F3836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B477-B2E0-4253-BC95-3978970B67B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998B-5820-46AE-9491-6235FD84A05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03BD-2F3A-4FD9-AA48-EF84C964862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CA1269-48CD-4734-A9FB-F357FFAA3F1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4F229E-537F-445D-ACC8-AAB70FC537C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7BB1D5-0885-4116-B7FB-795DB08D6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23240" y="64753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09C5-D8D3-4BF5-83AF-746F2C5A35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8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6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8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66D0-7C93-4CC8-B4CD-8DDDB516B1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27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9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37BA-A105-41F4-A5B0-340634AC8A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47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10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2AD8-5568-48E7-BA2D-8EA9D6DD1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0" y="4032360"/>
            <a:ext cx="9144000" cy="158760"/>
          </a:xfrm>
          <a:prstGeom prst="rect">
            <a:avLst/>
          </a:prstGeom>
          <a:solidFill>
            <a:srgbClr val="1e7143"/>
          </a:solidFill>
          <a:ln w="9360">
            <a:solidFill>
              <a:srgbClr val="1e71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79" name="Rectangle 6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Right Triangle 7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2"/>
          </p:nvPr>
        </p:nvSpPr>
        <p:spPr>
          <a:xfrm>
            <a:off x="692892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341B-173C-4D98-A688-2B1835F28E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983280" y="65023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0736-BB7B-4EB0-BBF6-0B786B587CD2}" type="slidenum">
              <a:rPr b="0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124" name="Rectangle 7"/>
            <p:cNvSpPr/>
            <p:nvPr/>
          </p:nvSpPr>
          <p:spPr>
            <a:xfrm>
              <a:off x="1098360" y="6550200"/>
              <a:ext cx="8045640" cy="32040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Right Triangle 8"/>
            <p:cNvSpPr/>
            <p:nvPr/>
          </p:nvSpPr>
          <p:spPr>
            <a:xfrm rot="16200000">
              <a:off x="771480" y="6550200"/>
              <a:ext cx="32040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166" name="Rectangle 6"/>
            <p:cNvSpPr/>
            <p:nvPr/>
          </p:nvSpPr>
          <p:spPr>
            <a:xfrm>
              <a:off x="1098360" y="6541920"/>
              <a:ext cx="8045640" cy="3207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ight Triangle 7"/>
            <p:cNvSpPr/>
            <p:nvPr/>
          </p:nvSpPr>
          <p:spPr>
            <a:xfrm rot="16200000">
              <a:off x="771120" y="6541560"/>
              <a:ext cx="3207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3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2608-452A-4915-A03C-91D6824EE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"/>
          <p:cNvGrpSpPr/>
          <p:nvPr/>
        </p:nvGrpSpPr>
        <p:grpSpPr>
          <a:xfrm>
            <a:off x="771480" y="6541560"/>
            <a:ext cx="8372520" cy="321120"/>
            <a:chOff x="771480" y="6541560"/>
            <a:chExt cx="8372520" cy="321120"/>
          </a:xfrm>
        </p:grpSpPr>
        <p:sp>
          <p:nvSpPr>
            <p:cNvPr id="210" name="Rectangle 6"/>
            <p:cNvSpPr/>
            <p:nvPr/>
          </p:nvSpPr>
          <p:spPr>
            <a:xfrm>
              <a:off x="1098360" y="6543360"/>
              <a:ext cx="8045640" cy="31932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ight Triangle 7"/>
            <p:cNvSpPr/>
            <p:nvPr/>
          </p:nvSpPr>
          <p:spPr>
            <a:xfrm rot="16200000">
              <a:off x="771840" y="6540840"/>
              <a:ext cx="31932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4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53A2-7B58-428C-BDB0-9DB229686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54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Straight Connector 8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19080">
            <a:solidFill>
              <a:srgbClr val="1c52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5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BC5C-8BEB-4CDC-9B67-CD29EDA8DC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298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TextBox 7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sldNum" idx="6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8CEE-149C-4234-A456-CB799F026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4"/>
          <p:cNvGrpSpPr/>
          <p:nvPr/>
        </p:nvGrpSpPr>
        <p:grpSpPr>
          <a:xfrm>
            <a:off x="771480" y="6550200"/>
            <a:ext cx="8372520" cy="320400"/>
            <a:chOff x="771480" y="6550200"/>
            <a:chExt cx="8372520" cy="320400"/>
          </a:xfrm>
        </p:grpSpPr>
        <p:sp>
          <p:nvSpPr>
            <p:cNvPr id="341" name="Rectangle 6"/>
            <p:cNvSpPr/>
            <p:nvPr/>
          </p:nvSpPr>
          <p:spPr>
            <a:xfrm>
              <a:off x="1098360" y="6551640"/>
              <a:ext cx="8045640" cy="318960"/>
            </a:xfrm>
            <a:prstGeom prst="rect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ight Triangle 7"/>
            <p:cNvSpPr/>
            <p:nvPr/>
          </p:nvSpPr>
          <p:spPr>
            <a:xfrm rot="16200000">
              <a:off x="772200" y="6549480"/>
              <a:ext cx="318960" cy="320400"/>
            </a:xfrm>
            <a:prstGeom prst="rtTriangle">
              <a:avLst/>
            </a:prstGeom>
            <a:solidFill>
              <a:srgbClr val="1e7143"/>
            </a:solidFill>
            <a:ln w="25560">
              <a:solidFill>
                <a:srgbClr val="1e71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TextBox 8"/>
          <p:cNvSpPr/>
          <p:nvPr/>
        </p:nvSpPr>
        <p:spPr>
          <a:xfrm>
            <a:off x="1219320" y="6537240"/>
            <a:ext cx="24382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hievethecore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2" marL="343080" indent="-343080">
              <a:spcBef>
                <a:spcPts val="700"/>
              </a:spcBef>
              <a:buClr>
                <a:srgbClr val="262626"/>
              </a:buClr>
              <a:buFont typeface="Calibri"/>
              <a:buChar char="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3" marL="343080" indent="-343080">
              <a:spcBef>
                <a:spcPts val="700"/>
              </a:spcBef>
              <a:buClr>
                <a:srgbClr val="26262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4" marL="343080" indent="-343080">
              <a:spcBef>
                <a:spcPts val="700"/>
              </a:spcBef>
              <a:buClr>
                <a:srgbClr val="26262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Num" idx="7"/>
          </p:nvPr>
        </p:nvSpPr>
        <p:spPr>
          <a:xfrm>
            <a:off x="6928920" y="654156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C8FC-6B2B-4AC0-88DD-F310DE8EC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65400"/>
            <a:ext cx="7696080" cy="17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53e27"/>
                </a:solidFill>
                <a:latin typeface="Century Gothic"/>
              </a:rPr>
              <a:t>Using the Publishers’ Criteria for ELA/Literacy to Better Understand the Standards</a:t>
            </a:r>
            <a:endParaRPr b="1" lang="en-US" sz="36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685800" y="4271760"/>
            <a:ext cx="6400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522" name="Picture 4" descr="C:\Users\SAP\Desktop\SAP_iTunesCover_square_01.jpg"/>
          <p:cNvPicPr/>
          <p:nvPr/>
        </p:nvPicPr>
        <p:blipFill>
          <a:blip r:embed="rId1"/>
          <a:stretch/>
        </p:blipFill>
        <p:spPr>
          <a:xfrm>
            <a:off x="7658280" y="2286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8870-1812-4A94-83F1-D60551BC051B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2" descr=""/>
          <p:cNvPicPr/>
          <p:nvPr/>
        </p:nvPicPr>
        <p:blipFill>
          <a:blip r:embed="rId1"/>
          <a:stretch/>
        </p:blipFill>
        <p:spPr>
          <a:xfrm>
            <a:off x="457200" y="2509920"/>
            <a:ext cx="820116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3-5, literacy programs  include equal measures of literary and informational text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 grades 6-12, ELA programs include substantially more literary nonfiction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quality of the texts is high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texts and text types named in the standards are included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pecific anchor texts are selected for especially careful read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DFFF-4661-4119-B8E6-A0F49D2C7CE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Range and Quality of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do the current reading selection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in our instructional setting align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to the expectations of the Common Core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o is engaged in conversations about text selection in our distric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How are content area teachers engaged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7C09-8FDC-443C-8466-22C7163D399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High-Quality Text-Dependent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 significant portion of the tasks and questions are text-dependent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High-quality sequences of text-dependent questions elicit sustained attention to the specifics of the text and their impac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the use of textual evi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structional design cultivates student interest and engagement in reading rich texts carefully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rovide opportunities to build knowledge through text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attend to analyzing the arguments and information central to informational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7452-FDAC-4D40-9443-1A9DEF9EBC1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6008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Non-Examples and Example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6929280" y="654192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64AA-77FA-483C-8E2C-78CC66EF4D8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643040"/>
            <a:ext cx="40226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Casey at the Bat,” Casey strikes out. Describe a time when you failed at something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Letter from a Birmingham Jail,” Dr. King discusses nonviolent protest. Discuss, in writing, a time when you wanted to fight against something that you felt was unfair.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 “The Gettysburg Address” Lincoln says the nation is dedicated to the proposition that all men are created equal. Why is equality an important value to promote?</a:t>
            </a:r>
            <a:endParaRPr b="0" lang="en-US" sz="1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144760" y="1642680"/>
            <a:ext cx="384156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makes Casey’s experiences at bat humorous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What can you infer from King’s letter about the letter that he received?  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  <a:p>
            <a:pPr indent="0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The Gettysburg Address” mentions the year 1776. According to Lincoln’s speech, why is this year significant to the events described in the speech?</a:t>
            </a:r>
            <a:endParaRPr b="0" lang="en-US" sz="17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62" name="Shape 139"/>
          <p:cNvSpPr/>
          <p:nvPr/>
        </p:nvSpPr>
        <p:spPr>
          <a:xfrm>
            <a:off x="228600" y="612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TextBox 1"/>
          <p:cNvSpPr/>
          <p:nvPr/>
        </p:nvSpPr>
        <p:spPr>
          <a:xfrm>
            <a:off x="457200" y="1247760"/>
            <a:ext cx="402264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Not 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2"/>
          <p:cNvGrpSpPr/>
          <p:nvPr/>
        </p:nvGrpSpPr>
        <p:grpSpPr>
          <a:xfrm>
            <a:off x="4538520" y="1349280"/>
            <a:ext cx="549360" cy="5029560"/>
            <a:chOff x="4538520" y="1349280"/>
            <a:chExt cx="549360" cy="5029560"/>
          </a:xfrm>
        </p:grpSpPr>
        <p:cxnSp>
          <p:nvCxnSpPr>
            <p:cNvPr id="565" name="Shape 138"/>
            <p:cNvCxnSpPr/>
            <p:nvPr/>
          </p:nvCxnSpPr>
          <p:spPr>
            <a:xfrm flipH="1">
              <a:off x="4784040" y="1349280"/>
              <a:ext cx="1080" cy="5029920"/>
            </a:xfrm>
            <a:prstGeom prst="straightConnector1">
              <a:avLst/>
            </a:prstGeom>
            <a:ln w="19080">
              <a:solidFill>
                <a:srgbClr val="0e291a"/>
              </a:solidFill>
              <a:miter/>
            </a:ln>
          </p:spPr>
        </p:cxnSp>
        <p:sp>
          <p:nvSpPr>
            <p:cNvPr id="566" name="Shape 140"/>
            <p:cNvSpPr/>
            <p:nvPr/>
          </p:nvSpPr>
          <p:spPr>
            <a:xfrm flipH="1" rot="10800000">
              <a:off x="4538520" y="186516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Shape 140"/>
            <p:cNvSpPr/>
            <p:nvPr/>
          </p:nvSpPr>
          <p:spPr>
            <a:xfrm flipH="1" rot="10800000">
              <a:off x="4538520" y="3100320"/>
              <a:ext cx="549360" cy="365040"/>
            </a:xfrm>
            <a:prstGeom prst="rightArrow">
              <a:avLst>
                <a:gd name="adj1" fmla="val 50000"/>
                <a:gd name="adj2" fmla="val 50074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Shape 140"/>
            <p:cNvSpPr/>
            <p:nvPr/>
          </p:nvSpPr>
          <p:spPr>
            <a:xfrm flipH="1" rot="10800000">
              <a:off x="4538520" y="4995720"/>
              <a:ext cx="549360" cy="366480"/>
            </a:xfrm>
            <a:prstGeom prst="rightArrow">
              <a:avLst>
                <a:gd name="adj1" fmla="val 50000"/>
                <a:gd name="adj2" fmla="val 50099"/>
              </a:avLst>
            </a:prstGeom>
            <a:solidFill>
              <a:srgbClr val="4cc2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9" name="TextBox 14"/>
          <p:cNvSpPr/>
          <p:nvPr/>
        </p:nvSpPr>
        <p:spPr>
          <a:xfrm>
            <a:off x="5145120" y="1247760"/>
            <a:ext cx="3841560" cy="366840"/>
          </a:xfrm>
          <a:prstGeom prst="rect">
            <a:avLst/>
          </a:prstGeom>
          <a:solidFill>
            <a:srgbClr val="ccf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Arial"/>
              </a:rPr>
              <a:t>Text-Depen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Questions and Task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ultivating Students’ Ability to Read Complex Texts Independentl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caffolds enable all student to experience rather than avoid the complexity of a tex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 strategies support comprehension of specific texts, focus on building knowledg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 for whole-group, small-group, and individual instruction cultivates responsibility and independe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Questions and tasks require careful comprehension of the text first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the text the focus of instruc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offer assessment opportunities that genuinely measure progres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5C58-970A-4EEC-A053-AC2706623293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Key Criteria for Academic Vocabulary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ier 2” words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Present across content areas (in contrast to domain-specific words)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DCC1-7611-4D4B-A5E6-B841EB7F0126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What is our current practice of vocabulary instruction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Is it aligned to the requirements of the Common Core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college and career readiness?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Does it support access to complex text?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62626"/>
                </a:solidFill>
                <a:latin typeface="Calibri"/>
              </a:rPr>
              <a:t>How are we supporting English Language Learners with vocabulary acquisition through complex text?    </a:t>
            </a:r>
            <a:endParaRPr b="0" lang="en-US" sz="28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23FD-E2D5-438C-9F64-434149B8A988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Materials focus on forming arguments as well as writing to inform.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elementary school 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middle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5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3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In high school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argue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40% writing to explain/inform</a:t>
            </a:r>
            <a:br>
              <a:rPr sz="2200"/>
            </a:b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</a:rPr>
              <a:t>20% narrative writing</a:t>
            </a: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lnSpc>
                <a:spcPct val="90000"/>
              </a:lnSpc>
              <a:spcBef>
                <a:spcPts val="550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B588-72A7-4E85-A2B8-5124B6AA7F84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Key Criteria for Writing to Sources and Research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portray writing to sources as key task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focus on forming arguments as well as informative writ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aterials make it clear that student writing should be responsive to the needs of the audience and the particulars of the text in question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udents are given extensive practice with short, focused research projects.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185D-7214-4706-B3C0-5D1E2D375877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cebreaker Ques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is the intention of the Publishers’ Criteria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o is it intended for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ow can it support these different audiences?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7E97-413B-4CF1-B7D1-3C74F256F80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Putting it all together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5335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 four strands of ELA– reading, writing, speaking and listening– are </a:t>
            </a:r>
            <a:r>
              <a:rPr b="0" i="1" lang="en-US" sz="2400" spc="-1" strike="noStrike">
                <a:solidFill>
                  <a:srgbClr val="262626"/>
                </a:solidFill>
                <a:latin typeface="Calibri"/>
              </a:rPr>
              <a:t>mean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o be woven together. This is as true in instructional materials as in curriculum mapping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l three shifts are meant to be in play at on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ere is no either/or here: good materials need all of thi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e wary of materials and approaches that seek to segregate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entury Gothic"/>
              </a:rPr>
              <a:t>What’s In and What’s Out?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688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IN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47960" y="106632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OU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Leveled texts (only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any ‘ol text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Solely literature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llection of unrelated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to-self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writing without sourc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literary terminolog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p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end goal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(peripheral and detach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676520"/>
            <a:ext cx="42688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Daily encounters w/complex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Texts worthy of close attention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Balance of literary and info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Coherent sequences of text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ostly text-dependent question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Mainly evidence-based analyses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Accent on academic vocabulary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Emphasis on reading &amp; re-reading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strategies (as means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Reading foundations </a:t>
            </a:r>
            <a:br>
              <a:rPr sz="2000"/>
            </a:br>
            <a:r>
              <a:rPr b="1" lang="en-US" sz="2000" spc="-1" strike="noStrike">
                <a:solidFill>
                  <a:srgbClr val="262626"/>
                </a:solidFill>
                <a:latin typeface="Calibri"/>
              </a:rPr>
              <a:t>(central and integrated)</a:t>
            </a: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304560" y="1371600"/>
            <a:ext cx="6777000" cy="11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t all boils down to. . .</a:t>
            </a:r>
            <a:endParaRPr b="0" lang="en-US" sz="36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93" name="Content Placeholder 2"/>
          <p:cNvSpPr/>
          <p:nvPr/>
        </p:nvSpPr>
        <p:spPr>
          <a:xfrm>
            <a:off x="1042920" y="2362320"/>
            <a:ext cx="67770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Texts Worth Read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Arial"/>
              </a:rPr>
              <a:t>Questions Worth Answering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Goals for this Sess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will closely examine the Publishers’ Criteria in an effort to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in a deeper understanding of the Common Core State Standards and the shifts they require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the Standards’ implications for instructional material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dge materials for alignment and reflect on the appropriate use of existing classroom resources and strategi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02B3-B705-41D5-9217-3DDAD8F804A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ELA/Literacy:  3 shifts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6091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gular practice wit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mplex text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d its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academic language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Reading, writing, and speaking grounded in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evidence from text,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both literary and informational</a:t>
            </a:r>
            <a:br>
              <a:rPr sz="2400"/>
            </a:br>
            <a:r>
              <a:rPr b="1" lang="en-US" sz="2400" spc="-1" strike="noStrike" u="sng">
                <a:solidFill>
                  <a:srgbClr val="262626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595440" indent="-514440">
              <a:spcBef>
                <a:spcPts val="1800"/>
              </a:spcBef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Building knowledge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rough 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content-rich nonfiction</a:t>
            </a:r>
            <a:br>
              <a:rPr sz="2400"/>
            </a:b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53e27"/>
                </a:solidFill>
                <a:latin typeface="Century Gothic"/>
              </a:rPr>
              <a:t>Publishers’ Criteria for the Common Core State Standards in English Language Arts and Literacy</a:t>
            </a:r>
            <a:endParaRPr b="1" lang="en-US" sz="25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signed to guide publishers and curriculum developers as they work to ensure alignment with the CCS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cuses on the most significant elements of the Standards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Not intended to dictate classroom practice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rised of two documents: grades K-2 and 3-12.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marL="343080" indent="-343080">
              <a:spcBef>
                <a:spcPts val="29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imed to support the responsibilities of both producers and purchasers of instructional materials.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B5DA-6DEB-4FEF-AE36-9481D1F1FC80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Document Organization 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Four sections: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Text Selec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Questions and Task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Academic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62626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Key Criteria for Writing to Sources and Research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6545-4ED3-4A56-A586-6002DDF11CBD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I. Key Criteria for Text Selection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lign with grade by grade complexity requirements outlined in the Standard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Give all students access to and support with grade-level complex tex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shorter, challenging tex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lude novels, plays, and other full-length reading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buClr>
                <a:srgbClr val="262626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Increase regular independent reading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lvl="1" marL="120024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C298-47EF-476C-8CC8-935DCFD00379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Features of Complex Text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0948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ubtle and/or frequent transition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Multiple and/or subtle themes and purpos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Density of information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ess common settings, topics or event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repetition, overlap or similarity in words and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Complex sentenc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ncommon vocabular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ack of words, sentences, or paragraphs that review or pull   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things together for the student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Longer paragraph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Any text structure which is less narrative and/or mixes 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structures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6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bri"/>
              </a:rPr>
              <a:t>Use of passive voice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indent="276120">
              <a:lnSpc>
                <a:spcPct val="90000"/>
              </a:lnSpc>
              <a:spcBef>
                <a:spcPts val="24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2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Century Gothic"/>
              </a:rPr>
              <a:t>Time to reflect…</a:t>
            </a:r>
            <a:endParaRPr b="1" lang="en-US" sz="2800" spc="-1" strike="noStrike">
              <a:solidFill>
                <a:srgbClr val="17375e"/>
              </a:solidFill>
              <a:latin typeface="Century Gothic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Text Complexity</a:t>
            </a: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  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at practices and materials are currently     in place in our instructional setting to support  </a:t>
            </a:r>
            <a:r>
              <a:rPr b="0" i="1" lang="en-US" sz="3200" spc="-1" strike="noStrike" u="sng">
                <a:solidFill>
                  <a:srgbClr val="262626"/>
                </a:solidFill>
                <a:uFillTx/>
                <a:latin typeface="Calibri"/>
              </a:rPr>
              <a:t>all</a:t>
            </a: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 students in accessing appropriately     complex text? 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Where do we have needs 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62626"/>
                </a:solidFill>
                <a:latin typeface="Calibri"/>
              </a:rPr>
              <a:t>(materials, PD, assessment tools)?</a:t>
            </a:r>
            <a:endParaRPr b="0" lang="en-US" sz="3200" spc="-1" strike="noStrike">
              <a:solidFill>
                <a:srgbClr val="262626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6929280" y="6550200"/>
            <a:ext cx="2133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3B7C-07A0-49C3-98E1-1BD20B8F90CF}" type="slidenum">
              <a:rPr b="0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00:06:53Z</dcterms:created>
  <dc:creator>Sandra</dc:creator>
  <dc:description/>
  <dc:language>en-US</dc:language>
  <cp:lastModifiedBy>Pascale Joseph</cp:lastModifiedBy>
  <cp:lastPrinted>2013-04-08T14:38:34Z</cp:lastPrinted>
  <dcterms:modified xsi:type="dcterms:W3CDTF">2020-01-23T19:22:26Z</dcterms:modified>
  <cp:revision>112</cp:revision>
  <dc:subject/>
  <dc:title>Using the Publishers’ Criteria for ELA/Literacy to better understand the Standards</dc:title>
</cp:coreProperties>
</file>