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1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move the slide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1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 type="sldNum" idx="1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9BF2-782A-485E-B327-6B5E50D4F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dule was last updated on February 20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4D5C-3093-447B-9976-84D76285993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55E3-A995-443C-9B23-2CB241B9C40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DAEA-960E-4A88-A803-6518E8C70CF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3E9B-2829-4A5B-90B8-94566AB9D51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C8DD-6985-4DE1-A9C9-B748799A253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28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147"/>
          <p:cNvSpPr/>
          <p:nvPr/>
        </p:nvSpPr>
        <p:spPr>
          <a:xfrm>
            <a:off x="3970440" y="9019080"/>
            <a:ext cx="30384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408D-ED85-47D3-9F92-050987BF4C0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004E-2AE2-4DDD-BD77-14909DF6BB5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8ED0-5BDB-4B6E-ADA6-60FCCEE668E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EF0A-85E8-485D-8AED-78139C1DFC0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FBE3-1E19-4097-A182-1971915027D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2E66-BBB1-49A2-A9C0-3D39E3E71D5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B581-117C-4126-9090-F0A4D34DA59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B88A-2452-4EFC-8B2A-83A1AD377EE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3C2A-5E53-4973-81CC-2EE2A91B5D3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7854-A955-4A6E-97B2-8D99EF70353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28D9-2F67-4789-865B-BD2455A7435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0E5E-72A9-4493-8480-EBADCDB44D9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37E8-F094-4553-A153-C332F0527E7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5AAC-7881-4713-9064-11DD2725BB4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AE6D-3B20-41E2-8093-91685C3BE26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09D8-49FC-4096-8B89-E6489931ABE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DC5F5-00DB-4D06-9A1C-E6EE17E80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3BFC9-7B85-4F79-AE3E-30ED0C2F825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4A62A1-371F-4266-B0EB-BC40E1A0B54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029693-C378-4F60-AC29-FE0222AF461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844896-BC5F-4962-90F3-85F90975059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EB1594-173B-4006-80B8-D1455800B23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E81174-B239-4461-8210-A3B4CA01F66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8091EA-C1C7-4046-88EF-316933AC26C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ED8942-3ADE-4537-A9A4-A85A078FD25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45AA42-EF69-4D8E-8061-17603E01B40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D4AA27-17B4-4A77-ACBE-82A4A37EA51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DE0BDE-7AD2-4389-A6F0-6CC6636EC4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4606-E1D0-44B5-8B67-4F27762B1B7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349AD0-A784-4109-A32C-3A8A5AD733C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4DF1A-EF7B-4866-ACF5-60D057A3AE6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BFDA3-CFC1-4C98-9D80-A13D44980B8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9619B4-EA9E-418B-8247-6867944F69D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5AD5AB-FD16-4BD0-BD94-A9FE94B9CCD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E3CD41-ACDE-42AF-9F77-ABB08788A60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C8761B-DA22-4F3B-8ABC-E55EAD24B92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F620E4-C500-42D9-98EB-8D938811BD4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E555FF-5E80-4525-AF71-AD7FDFD0C4E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9AA60C-0C37-42FF-92A2-E867FA96A2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A5FD1-D212-4DD4-8C3D-BE7FDE3300A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E03ED-716F-4CBE-9863-EA1F46C0533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7E83E-D8E6-49A3-9123-504FB36FCF5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49B3F-E695-43E4-B309-9BE727E289D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0822C-F91A-4DD2-A410-4848BB31551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1C447-F54F-427A-878C-27B5D34F035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47072-D858-4C69-BE8A-9E737904D93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EA5E2-48D7-410E-8C10-046AD0C5E00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5BF71-BA61-4F5D-B262-DC638365C39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97A65-BFCB-4007-BD83-89430D6E403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C55BC-D220-4785-AB68-0736924BD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71C58-688A-4CFB-9341-FE6770F248B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F9765-F381-45C6-97B7-DAB966974B5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E2A6A-C44F-4DD1-92C1-E109A088DCB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D09474-A3D9-4159-8EDE-14757E6D072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2BBA93-7862-4AC3-9388-10C0E77727D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D415AA-16FF-4185-A865-23B34DE260D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90E379-55BA-4546-81A6-940E0E8934D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490024-1BBF-40D3-B3F0-8C72FCD7448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D7A284-AFDF-4C15-BA2D-7B0E77E0B5F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9464A5-1681-42A5-929C-6778C68571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959F25-0BED-4E95-8ED8-74960B618EC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20B610-A0C6-4A89-8187-4A0EF0145C8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575B4D-E5E3-4166-904F-F4A3300685C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29486C-9035-4F49-AFAE-ADB11DEE6C3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E50E28-DEFA-4050-85A4-39CB571E9C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4F750-90A5-49C0-A7C0-11FC4F2768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BE4E3-E190-4B91-B804-FDD1FC2ECA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93F72-5F4E-4200-AF3E-E6E1D02AE3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5570C-22D6-46DA-958B-52A4889921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04E8B-C914-43FC-B17E-E6EA4908D2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A27A6-F32C-48D3-A6BD-92C226C988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08096-6D9B-467E-8740-98E52BA25E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A2126-3385-4588-9E04-0867D0D0D6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1847A-9946-4264-837E-35109A2484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14327-9EEB-46AD-A484-DD775C1E67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0EA9E-021B-4264-9896-6FC7177902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DB5A8-E723-49AA-9806-C224074DD0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08001-89D1-40DC-B75D-109C609A9A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A143D-8E73-4915-88B0-3786B073718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6D5F5-55EC-45FA-AD01-709C7AF5439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C67C-2C46-46A1-930A-E1380906E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BDA9C-6F49-4E89-99C3-E97BF9F938C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A123-B693-4D19-8E24-3381E733CD0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040A-A0FD-4F02-BBDB-599F8CB0CB1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C1AA-50D4-45A5-9A25-E84F7244DE4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9AA2-CAD8-44A0-8B73-A500740A8AF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54A7-D853-434F-A519-740193BE017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2449-2106-45F2-A229-09B90A699C2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D792-5278-41CE-848E-1464D2D170E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A5F6-E3FE-4817-9FB0-7515D5AFB22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813F-1CF6-4DF7-92EB-D6B2E9E6234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AA66-9D7D-44A7-A601-00D718DED3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6CF39-77C6-49F8-A2DA-D135C04DE9F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F237-38B1-4553-8EC1-BD27ADB694B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6EE0E-99A6-4284-9327-AB9986CCE95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30056-B12C-44EB-B1F7-6CD380753D3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9BC99-897F-4AC7-8C6F-863C42C3E90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0824A-0EE3-41EB-AE4B-958F68A65DB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019AC-DBDA-493A-849E-A84CB563E37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C8DBD-1BFF-4A41-95F0-15838E765FB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60468-F1FD-4E5B-A8FB-895DA39D8D8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E6585-F8EE-403E-B4E7-6A8E01C0DB1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54F80-C128-4A2A-B2BA-C093580AD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DA111-34A8-4D04-A6AA-3FA24B6B71E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6903F-A6B9-4E45-B282-FECD8B34A4D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618F0-785A-4BEC-BE33-D2C7D7D5C05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6F111-9DBE-45F1-8FB2-231C8765DFB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9E88F-582D-41BA-A32A-5B6840EFCC8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300BA-DB22-4A53-ADD2-A2C9A44BD71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36777-96C2-4B02-869E-FAF062286C7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D35FF-C433-4B2D-A020-E329FBDCE9B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56E3D-05AE-469C-9AFE-8AB8B21E65B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C9D9B-458B-41BF-825D-BA6E0FFC620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353E3-820D-40D5-803B-957B5530C9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71D2-2889-40D5-A4DD-76B588590BD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47E1E-D319-4EC0-8AFB-78300C81107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62568-ECC8-4EBD-9AC7-D97E3F4112D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200AD-EAFB-4DC4-AAA7-77FDD77B02F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46B56-A222-4321-A26E-2E61950A853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2D4ED-320C-4E2B-928D-B6764624248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7BC2-ACF9-45E2-9D9D-B4126AD0ED4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AB78-482F-46DB-95D3-A3E068A0800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2886-7918-4F1D-B76E-736F6E096BB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54BF-5130-4B39-A6F8-3268E8FE195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845A-1580-4FC8-96EB-9644AA20E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77FEB-7C25-420A-9627-E7168243E39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D169-9A4A-4607-A247-3D724411B0F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280D-3C37-4980-A199-D7EFA215CE4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679E-CF03-46EA-906B-518429B2158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9C83-75CF-412E-995C-47BE75BE0F2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F7CC-4CF2-41B5-AF94-4D606B541CA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B4FA-7AA5-4853-98AC-DCF51F4FDD2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F126-BF25-44E9-A64D-78817F49539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66B4EF-C2B9-4118-A9B2-A59D894C78E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A31597-4A1F-4951-8BD2-C78249B48BC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AB6DB6-40BF-486F-BF18-206432BEC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23240" y="6475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94F8-3ACF-4D65-BEE9-17B40848E7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8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8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A151-14AC-4D74-9AC6-36034E47A9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27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9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9608-F13C-4D5F-AC17-86FEA021A7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7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10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160E-101F-4594-86F4-1A76D4FF8D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0" y="4032360"/>
            <a:ext cx="9144000" cy="158760"/>
          </a:xfrm>
          <a:prstGeom prst="rect">
            <a:avLst/>
          </a:prstGeom>
          <a:solidFill>
            <a:srgbClr val="1e7143"/>
          </a:solidFill>
          <a:ln w="9360">
            <a:solidFill>
              <a:srgbClr val="1e71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79" name="Rectangle 6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ight Triangle 7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2"/>
          </p:nvPr>
        </p:nvSpPr>
        <p:spPr>
          <a:xfrm>
            <a:off x="692892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0609-B9C7-4983-BCCC-B6E3C27349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983280" y="6502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081D-6822-4DA9-8CFD-AD846C9AB0D2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6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124" name="Rectangle 7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ight Triangle 8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166" name="Rectangle 6"/>
            <p:cNvSpPr/>
            <p:nvPr/>
          </p:nvSpPr>
          <p:spPr>
            <a:xfrm>
              <a:off x="1098360" y="6541920"/>
              <a:ext cx="8045640" cy="3207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ight Triangle 7"/>
            <p:cNvSpPr/>
            <p:nvPr/>
          </p:nvSpPr>
          <p:spPr>
            <a:xfrm rot="16200000">
              <a:off x="771120" y="6541560"/>
              <a:ext cx="3207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3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B25A-DE1B-43CB-8D22-81DD4DDB39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210" name="Rectangle 6"/>
            <p:cNvSpPr/>
            <p:nvPr/>
          </p:nvSpPr>
          <p:spPr>
            <a:xfrm>
              <a:off x="1098360" y="6543360"/>
              <a:ext cx="8045640" cy="31932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ight Triangle 7"/>
            <p:cNvSpPr/>
            <p:nvPr/>
          </p:nvSpPr>
          <p:spPr>
            <a:xfrm rot="16200000">
              <a:off x="771840" y="6540840"/>
              <a:ext cx="31932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4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0F87-9CCA-4715-9802-DDBF16F229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5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5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60B0-B48D-43A1-8B44-2636A126BB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98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6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AC2A-5FC5-47AB-920C-E04998BA2C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4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3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7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B6F6-0AF4-4026-B864-0D8F6949B1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165400"/>
            <a:ext cx="769608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3e27"/>
                </a:solidFill>
                <a:latin typeface="Century Gothic"/>
              </a:rPr>
              <a:t>Using the Publishers’ Criteria for ELA/Literacy to Better Understand the Standards</a:t>
            </a:r>
            <a:endParaRPr b="1" lang="en-US" sz="36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4271760"/>
            <a:ext cx="6400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22" name="Picture 4" descr="C:\Users\SAP\Desktop\SAP_iTunesCover_square_01.jpg"/>
          <p:cNvPicPr/>
          <p:nvPr/>
        </p:nvPicPr>
        <p:blipFill>
          <a:blip r:embed="rId1"/>
          <a:stretch/>
        </p:blipFill>
        <p:spPr>
          <a:xfrm>
            <a:off x="7658280" y="2286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76E8-A9A1-4A29-A359-F8A75A8E4BFF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457200" y="2509920"/>
            <a:ext cx="820116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6-12, ELA programs include substantially more literary nonfiction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quality of the texts is high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texts and text types named in the standards are included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anchor texts are selected for especially careful read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466A-F452-453C-818F-270D993B3B4E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do the current reading selection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in our instructional setting align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to the expectations of the Common Core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o is engaged in conversations about text selection in our distric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are content area teachers engaged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E94C-89C3-42BF-A59D-FFF1CB38591B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High-Quality Text-Dependent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significant portion of the tasks and questions are text-dependent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igh-quality sequences of text-dependent questions elicit sustained attention to the specifics of the text and their impac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the use of textual evi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tructional design cultivates student interest and engagement in reading rich texts carefully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rovide opportunities to build knowledge through text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attend to analyzing the arguments and information central to informational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AF63-1B04-4F81-A009-AB062674ADCD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Non-Examples and Example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6929280" y="654192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7C26-F413-46A9-B2EA-299BD5B8DC7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43040"/>
            <a:ext cx="40226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Casey at the Bat,” Casey strikes out. Describe a time when you failed at something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Letter from a Birmingham Jail,” Dr. King discusses nonviolent protest. Discuss, in writing, a time when you wanted to fight against something that you felt was unfair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The Gettysburg Address” Lincoln says the nation is dedicated to the proposition that all men are created equal. Why is equality an important value to promote?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4760" y="1642680"/>
            <a:ext cx="3841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makes Casey’s experiences at bat humorous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can you infer from King’s letter about the letter that he received?  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The Gettysburg Address” mentions the year 1776. According to Lincoln’s speech, why is this year significant to the events described in the speech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Shape 139"/>
          <p:cNvSpPr/>
          <p:nvPr/>
        </p:nvSpPr>
        <p:spPr>
          <a:xfrm>
            <a:off x="228600" y="61228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1"/>
          <p:cNvSpPr/>
          <p:nvPr/>
        </p:nvSpPr>
        <p:spPr>
          <a:xfrm>
            <a:off x="457200" y="1247760"/>
            <a:ext cx="402264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Not 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2"/>
          <p:cNvGrpSpPr/>
          <p:nvPr/>
        </p:nvGrpSpPr>
        <p:grpSpPr>
          <a:xfrm>
            <a:off x="4538520" y="1349280"/>
            <a:ext cx="549360" cy="5029560"/>
            <a:chOff x="4538520" y="1349280"/>
            <a:chExt cx="549360" cy="5029560"/>
          </a:xfrm>
        </p:grpSpPr>
        <p:cxnSp>
          <p:nvCxnSpPr>
            <p:cNvPr id="565" name="Shape 138"/>
            <p:cNvCxnSpPr/>
            <p:nvPr/>
          </p:nvCxnSpPr>
          <p:spPr>
            <a:xfrm flipH="1">
              <a:off x="4784040" y="1349280"/>
              <a:ext cx="1080" cy="5029920"/>
            </a:xfrm>
            <a:prstGeom prst="straightConnector1">
              <a:avLst/>
            </a:prstGeom>
            <a:ln w="19080">
              <a:solidFill>
                <a:srgbClr val="0e291a"/>
              </a:solidFill>
              <a:miter/>
            </a:ln>
          </p:spPr>
        </p:cxnSp>
        <p:sp>
          <p:nvSpPr>
            <p:cNvPr id="566" name="Shape 140"/>
            <p:cNvSpPr/>
            <p:nvPr/>
          </p:nvSpPr>
          <p:spPr>
            <a:xfrm flipH="1" rot="10800000">
              <a:off x="4538520" y="186516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Shape 140"/>
            <p:cNvSpPr/>
            <p:nvPr/>
          </p:nvSpPr>
          <p:spPr>
            <a:xfrm flipH="1" rot="10800000">
              <a:off x="4538520" y="310032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Shape 140"/>
            <p:cNvSpPr/>
            <p:nvPr/>
          </p:nvSpPr>
          <p:spPr>
            <a:xfrm flipH="1" rot="10800000">
              <a:off x="4538520" y="4995720"/>
              <a:ext cx="549360" cy="366480"/>
            </a:xfrm>
            <a:prstGeom prst="rightArrow">
              <a:avLst>
                <a:gd name="adj1" fmla="val 50000"/>
                <a:gd name="adj2" fmla="val 50099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TextBox 14"/>
          <p:cNvSpPr/>
          <p:nvPr/>
        </p:nvSpPr>
        <p:spPr>
          <a:xfrm>
            <a:off x="5145120" y="1247760"/>
            <a:ext cx="384156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ultivating Students’ Ability to Read Complex Texts Independent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caffolds enable all student to experience rather than avoid the complexity of a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 strategies support comprehension of specific texts, focus on building knowled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 for whole-group, small-group, and individual instruction cultivates responsibility and indepen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careful comprehension of the text firs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the text the focus of instruc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offer assessment opportunities that genuinely measure progres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28EB-81F5-40FF-B7D3-F96CA063E586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Academic Vocabulary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ier 2” words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resent across content areas (in contrast to domain-specific words)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CEFB-135D-4B64-BBC1-B8E8234E5E88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What is our current practice of vocabulary instruction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Is it aligned to the requirements of the Common Core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college and career readiness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access to complex text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How are we supporting English Language Learners with vocabulary acquisition through complex text?   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734D-53A9-4704-9DDF-0047A5170E94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focus on forming arguments as well as writing to inform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elementary school 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middle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high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2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7D02-D7A7-4402-BCB5-66B2487ACC88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focus on forming arguments as well as informative writ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it clear that student writing should be responsive to the needs of the audience and the particulars of the text in ques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udents are given extensive practice with short, focused research projec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8BDC-862E-4E8E-BA54-DBFB28AD03FB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cebreaker Ques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is the intention of the Publishers’ Criteria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o is it intended for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w can it support these different audiences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B969-C9FA-48E4-B734-01F2883CB9BC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Putting it all together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four strands of ELA– reading, writing, speaking and listening– are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mean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o be woven together. This is as true in instructional materials as in curriculum mapp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l three shifts are meant to be in play at o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re is no either/or here: good materials need all of thi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e wary of materials and approaches that seek to segregate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Gothic"/>
              </a:rPr>
              <a:t>What’s In and What’s Out?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68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IN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OU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Leveled texts (only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any ‘ol tex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Solely literature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llection of unrelated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to-self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writing without sourc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literary terminolog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p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end goa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(peripheral and detach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28600" y="1676520"/>
            <a:ext cx="4268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Daily encounters w/complex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Texts worthy of close attention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Balance of literary and info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herent sequences of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dependent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evidence-based analys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academic vocabular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reading &amp; 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means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</a:t>
            </a:r>
            <a:br>
              <a:rPr sz="2000"/>
            </a:b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(central and integrat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04560" y="1371600"/>
            <a:ext cx="67770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It all boils down to. . .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Content Placeholder 2"/>
          <p:cNvSpPr/>
          <p:nvPr/>
        </p:nvSpPr>
        <p:spPr>
          <a:xfrm>
            <a:off x="1042920" y="2362320"/>
            <a:ext cx="6777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Texts Worth Read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Questions Worth Answering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Goals for this Sess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closely examine the Publishers’ Criteria in an effort to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in a deeper understanding of the Common Core State Standards and the shifts they require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the Standards’ implications for instructional material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dge materials for alignment and reflect on the appropriate use of existing classroom resources and strategi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AEA2-46F8-4155-AF24-374DF6717DBF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ELA/Literacy:  3 shift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091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practice wit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mplex te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its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language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, writing, and speaking grounded in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evidence from text,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oth literary and informational</a:t>
            </a:r>
            <a:br>
              <a:rPr sz="2400"/>
            </a:b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Building knowledg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roug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ntent-rich nonfiction</a:t>
            </a:r>
            <a:br>
              <a:rPr sz="2400"/>
            </a:b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Publishers’ Criteria for the Common Core State Standards in English Language Arts and Literacy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ed to guide publishers and curriculum developers as they work to ensure alignment with the CCS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cuses on the most significant elements of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ot intended to dictate classroom practi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rised of two documents: grades K-2 and 3-12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imed to support the responsibilities of both producers and purchasers of instructional material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A5EE-0E6E-4697-889D-54C79785CF5D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Document Organization 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 section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Text Selec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Writing to Sources and Research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C7AC-2CA0-44DB-92B3-849F8402CD8E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. 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ign with grade by grade complexity requirements outlined in the Standard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Give all students access to and support with grade-level complex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shorter, challenging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novels, plays, and other full-length reading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rease regular independent reading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2769-B18E-48FB-94FA-1D5844EBFDA8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Features of Complex Tex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0948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ubtle and/or frequent transit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ultiple and/or subtle themes and purpos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nsity of inform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ess common settings, topics or even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repetition, overlap or similarity in words and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lex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ncommon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words, sentences, or paragraphs that review or pull  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ngs together for the stud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onger paragraph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y text structure which is less narrative and/or mix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ructur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 of passive voi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24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  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at practices and materials are currently     in place in our instructional setting to support  </a:t>
            </a:r>
            <a:r>
              <a:rPr b="0" i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all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students in accessing appropriately     complex tex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ere do we have need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(materials, PD, assessment tools)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5EC0-EB9F-4DBF-950C-BD82EA34E8A1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00:06:53Z</dcterms:created>
  <dc:creator>Sandra</dc:creator>
  <dc:description/>
  <dc:language>en-US</dc:language>
  <cp:lastModifiedBy>Pascale Joseph</cp:lastModifiedBy>
  <cp:lastPrinted>2013-04-08T14:38:34Z</cp:lastPrinted>
  <dcterms:modified xsi:type="dcterms:W3CDTF">2020-01-23T19:22:26Z</dcterms:modified>
  <cp:revision>112</cp:revision>
  <dc:subject/>
  <dc:title>Using the Publishers’ Criteria for ELA/Literacy to better understand the Standards</dc:title>
</cp:coreProperties>
</file>