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3296B-0C5F-4B08-8E5F-6FD770644F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041BB-9DA6-4CDF-B9CD-E28C0B4F4C4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BE5B5-E31D-476A-80DA-40DD7D5F900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D4753-3972-4AFA-ABFA-FC44749B6BB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430FF-0273-4306-93A9-E7E495145B9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8216F-A452-44FD-B40C-2C5F5624190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2B893-9EAB-49A0-9257-9B3233B39D3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4C2DC-BAFD-4C21-A5E2-22B42502895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9010A-F445-4903-8C27-3B6AB152166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6492-B48F-4EA4-98F9-A30B2F19825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11F47-E764-4088-83EC-6F4675B026F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70EFC-DBDA-41CF-913D-405B7092A41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DFAF9-9CA1-46BC-94C4-30E07F95DA0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BCB9B-263E-4324-9A8F-A36DE63DCE2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F020C-F3E6-4D66-9E93-AD2AEC84BD8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8AAF2-8E8B-4B5F-A923-F3978C9FB11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24BF2-E6E2-42CE-92B6-3E2EF33EF21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B04BE-8DA6-4816-A55E-515E1298164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BE931-D6D7-4028-8B39-CA86DA26BC8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101C1-E48C-4101-820E-6E6866D544D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44128-ADCB-4470-A144-4B0964340FB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46875-1123-4EC3-85D7-453BD55AD71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4EDD0-F6EE-4343-908A-AC3B0240D37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E9278-334A-4C63-9A2D-673994B248A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12801-B044-4D6F-94B8-4D471220509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8B4C1-F81D-4E26-9290-01BF0452E1D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34750-85BF-4FAB-9799-0E8B909A316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3D80B-51A2-4F63-B55D-F4966638150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B1063-9B43-4D12-8B85-2B755BD0F1C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05800-170E-47D0-8AF1-2502C57DB06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1BDCE-89F7-41AF-8277-27A1CF93826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01643-D3DB-4485-BD55-BE77EDB9812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29F91-80FB-4B68-A023-393973CD501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3356E-8A04-43AA-B370-E2F3E53EE81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DF559-BE61-4776-B65B-89DF59371C8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1EAFF-D3F7-44CF-92EC-DCCB064587C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67DDA7-EF3D-4F82-8957-CE696647DA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EA94BBB2-B166-4B35-8A55-05ED18F8351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1183880F-37B9-4E21-A013-CCBA9D891A3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CE0A42EB-8B0C-42CC-9925-3AA427E523E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AD7ABD63-036B-449E-B4F6-A525E5F50FB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3076AB49-48DB-4F89-A971-F547E3754F1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BF95482A-75C6-4420-8CA4-8A649F75250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AFF6A963-83DB-41F5-9530-8CCC3F58434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CB722C99-230F-473C-B919-8FD2FA4D5E5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195B834F-2333-4DD0-90FD-E2D986E302B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2030C7D9-E6C9-4306-88D6-2D217EBD0BA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53A4938-CF19-46AB-94A6-3A96F584D8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F65ECC20-3A73-4D91-989B-56DFE9B15FE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BED93568-BC4E-4AE6-9A56-84BA54D0547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6DE343C6-9FF4-4B72-BACD-66F7C2A26F0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BC2C6035-DEB7-4682-936C-DF425A07F43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5472A7A7-715D-44CE-9717-7999BCD0488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D884E615-1356-4763-A4B8-E12C78A685F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9FAA10A-DA95-499C-86FD-B01846EB5C4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5D500537-DA2F-4FB5-8007-D1DE2522828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8760D672-49E4-429D-BCF9-24C0FD36FEA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11FE0BBC-E4E8-437C-9179-82C56947E6B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CE74223A-AF28-4BE4-85ED-2FF590BCE3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F7AD02A2-4774-4E11-B9C9-F8179CE9260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AA140EAC-87B0-4DC8-8AAF-EAB0CA96734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2F88450-B222-41F0-94EE-491FA0EBFAA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C80F2DF4-4400-4486-AF4B-2078556260B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425C687B-D247-4450-89D2-D5838C2B02D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7B882FE7-B90A-46A6-845A-9C4AA520644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216F1094-4DBF-4CFF-93E5-75E5944381E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FF39A5A1-5660-43CB-8BB5-248ED02A19A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25E1EF5-31BE-4B53-BEEA-8EAA451DD82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18DC5D31-F993-4B13-8044-31953E0E8B9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45594DE8-BF55-41FE-95E0-60CF94262A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3CEF06-8E4F-4B8E-B2F5-D4850136D91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F68A922E-DF88-485B-998F-D823A080A9A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D802E92D-00C9-46D5-A936-6E35AECBED5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30FE375E-68F4-4325-A960-2D14CBC15C2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570DF37-E1C5-4A5A-B747-31E2AB95854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4CA23321-DAFF-4066-9D2C-55BB82750C2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DD8E4432-BE8C-4557-83F0-D5D8CA82063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14C8B34F-00EB-4ACF-9C2A-88ECDB59713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C6E5D0CA-8BE7-48A0-AA37-01E4D790DF2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5D90DEA1-CFF2-48D3-BF47-74B4CC39725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68B41477-1695-4F53-A8B8-0F44BC9E8E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3624E22A-0C24-49E9-BAB7-88C3F199E0A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10F8B67B-F38B-4701-9897-1A0C9DB9F31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4648CF9E-043B-4A10-8F63-7510226DFB3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55C090A3-D858-4C27-8C8A-4D16EDB4BA6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ECB6F8BD-D005-4D51-A015-5CF44F0842F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C22DE5D0-8230-499B-B915-A9C8995A4D4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6DE7F6F-FDBC-42F3-9ECC-265317EF84D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17CB1913-0D33-4712-9984-2FBCB58BEE5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8F4CB93C-0B70-47A6-9F62-F53ECB466E7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E0168FB1-40F3-426D-AE5E-5C4D8554C052}"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953E262B-A2F2-4304-B4AA-9D33A56314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C3B38705-C193-4385-91A4-FCAD709B5ACA}"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B6642E1D-C52A-43D9-A8AE-258AA4EF82E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3987DA9C-C0F8-4FC1-96CE-DD3F51117DC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59B0B75C-C4D5-41DE-95EC-D11AF803148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00DAA76F-5C00-4454-86FD-CB649E75FA6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C8B85F5A-63DE-45DA-B0B2-9774E761AC5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180C64D5-9344-44A1-8A4B-0E72CC1219C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42A5CD15-3170-4D5B-9967-44B9AF8481B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1E089FF-34EA-4750-8AAD-65C67C18E31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8900907D-9D98-4581-B57A-DB3BA87A034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DAE04DC7-73E0-4CD7-8684-B69637B39C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5482052A-343B-4181-80D9-8CB040260A12}"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70409FE4-2706-4D17-8121-951F99020D4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92E68F15-8404-46F2-90B9-7C849FA68B3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1696D810-58FF-445E-9443-3C8AC21DD6D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C06466FB-EC8A-454E-ACBA-CB911870D85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07F43FD3-67B4-4A01-9E3F-7D427A5739B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0BAAAC3D-37DA-4036-94F9-2E283162871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9CDDB7C7-24C8-40DF-BA8A-A8D901BBD86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614C7FD7-5706-49F3-A384-D025CAC4770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B9EBFF15-C9D0-40AC-A1ED-84785957CCEE}"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CD776F7B-B7BA-4DFF-B4F6-E1ABEFFCB9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76E4CB3D-2E92-419A-A334-887086B8EEC8}"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CDC7F804-85D8-4EDE-8E37-427AEF8C46E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CA5EBD3E-43E7-4D1F-8F1E-3423186379A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6D49393B-B9A1-4C18-A2B8-B64BBEDEBE8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FBCF6F0F-A41E-41F1-B0B5-92AFF52E50C2}"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ED69CB67-451F-4D49-8D7E-C31F30F32A8F}"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351CE81D-2F91-4B3B-A251-185605AFDBC7}"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21E5EE8-1B4E-4BBB-ABFE-49F94A0CB11C}"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5E74CB38-7D70-41BA-977E-3502D157821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8DF89942-9C87-4BDF-8AEF-B24FD1F7F561}"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BDD540C4-B9A1-409F-B370-4B8109A2A6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CC1838AB-4437-49B9-99AB-1F39EF47F734}"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F6F6A19A-16AE-4DE9-A2B7-FE6A4E00F91D}"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E2E17EF5-7AE3-45F0-9E86-3A87F58E7E92}"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6864627-93E3-4FC6-BA70-03B42B36017B}"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30291A40-EF24-427F-9977-1861A88EB7D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8A68764B-E9F3-4FD5-B952-46B5225B884E}"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B9C3964E-878C-4088-B83F-9ACB4C1326E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C90DC1BA-C784-4BEF-AC31-6596C0B798B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F754336D-B435-4DFD-82AA-800D4412513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D9C28C80-69A9-43C1-836D-1C410C5F7E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5404BAC9-EEE1-42F7-986F-68F7F60337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EBDB8E61-AE78-4966-B3A2-857F8DBCC59C}"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FE8BB6FD-0AB2-4CE1-9712-C86A8782A92B}"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27B0D49-52CF-48CB-B492-49D23488AAD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4DF93116-BE09-4136-99BC-CFD9B7EB815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100F3B1E-595E-4ECB-9797-DCF8CF4A92D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CCE2BEAA-BA39-410A-84CB-7C6C634D193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19F7DD64-2E56-4A8C-9275-9500DDA67062}"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88612691-C29F-45A3-9F30-9089C284615A}"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06CE7C42-6290-4030-B311-4BEFD53F8250}"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BDBDC59D-B5D2-44A6-B437-1C9EE67720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98396DEA-6173-4420-B9A1-A93ABB128272}"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DC96E1AD-6556-48AB-860F-6B5A65E802CB}"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431B0667-EC91-4799-954F-FF7DA0A6D27F}"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DB141314-A231-4707-82D1-1A5994D1CA39}"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3AAF458A-1396-456F-8158-2903BFCF31BC}"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E7CEC9F7-785E-4C0A-B3ED-150EEED3E00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81BABDFE-C887-42CB-8CF0-AC98AFDEB8FD}"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806435A8-C9B0-4710-B0D3-C7589AEF44B8}"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7A1BB1F7-EC09-4F48-8C98-CFE28DAF757C}"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0513C782-99C8-4262-920B-A243A485F693}"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472A460-850F-40ED-AAA6-6CA06C5AF6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557206AA-9DDE-4250-804D-4337D8D44E5D}"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141275F2-9754-4E31-8120-66ACEFA3E78A}"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F35FFACC-3D1D-4366-B247-4B5E0BD9CDA8}"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E66F1307-AC57-4A73-A299-A8E3F429CB0E}"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5E7D4A35-15E4-41AD-BC73-13C8DECB11B1}"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6F18AE19-F340-4483-ACB0-1CD07F3D97A0}"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FB60CFA0-3DD8-45D3-A6F6-D87C02E6E48D}"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571C791D-4172-408B-9AA3-7C06954067B6}"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44BE5680-261E-49BA-B56A-3CE27012C57A}"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8E5BB077-14D1-4C14-A800-2B3C2ECCF46E}"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C2824AC9-6769-4469-8447-069CDEFF8B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7E0A5666-CDAE-460D-B9CF-F020D6BFE5D4}"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F039845D-9CD8-4272-B11A-F6F126291C37}"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16780D97-13BE-4FBF-8A90-DA0E81CFEE14}"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363B3D39-E78C-4A66-99AE-980D6300CFBC}"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3E0BE5BC-3B11-4D63-B952-A2DD6DC45F0A}"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2D347524-CDD9-4964-980C-02F29CFDC437}"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089F0957-7160-48F2-B3C9-DFE19CEB2210}"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541E563B-DB6D-426B-8FE0-5FBEA9D525A7}"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17C16237-A88D-472F-9F2C-601F9EDFCD04}"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CCD0A556-666B-4FDC-90F0-9AE1520DF49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786214AE-270B-4343-91CE-8A3C69D23EB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AB78381-8B0B-4AD9-AF0A-FB68D1B333E2}"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818DECF8-7934-48FE-BFBB-0EAEE04351B2}"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5C04B1D1-F02B-48F7-BBEA-584326FBF755}"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219AA612-FB49-454D-AA27-D568715CF2B0}"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692455D-BF5C-430F-920D-B635CF87D7CC}"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6DCC55DF-94DC-40E8-85E2-61453C4C09FE}"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CA206956-1362-44AD-AB5F-D1B72BDE1F37}"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5FE2A4BA-D582-41F4-B773-0EF05BE062F1}"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4F6B2D4E-5EE6-416E-9623-582D00119B3F}"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975E814E-5CDF-44AD-9AEA-12F86EC55B80}"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EB64EF3B-6E20-4769-AE94-94B6D626182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970D0BF5-EE7A-4BE8-82AB-DBB4D57F7675}"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3DBB7744-5C8E-4C62-800A-A1570B89F3EE}"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0204764E-FE5F-4445-8D49-A929242D8FD7}"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924C15D5-87D9-4417-8F39-BD156D64C508}"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E77CFAFF-95B1-4D30-99C5-B510A1CEE311}"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593CA291-85D6-43B8-B87D-22E9CFA8652B}"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10E89DF1-0599-4FD3-A593-D7D689775D99}"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07775D08-B45D-4FF6-AF3B-DEE4697528F7}"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60461123-97D6-499D-9869-F87DE8D8ADCB}"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A0947178-16EB-4390-A1B3-CA31EEDCDEAE}"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D75F628E-5F99-42E5-83C3-CF72CEA1034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BFED197F-7957-454E-960E-169647421E5B}"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C270FCE5-21B7-444D-AFA5-9D7E035AE59F}"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DEF2CFF7-4BC9-4490-8A2E-583DF35F3B3C}"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23FBF326-C594-4D62-A00B-3CBAF90D5153}"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6B7CA14E-3148-431A-838D-9C58803F3913}"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5089627B-9128-4D48-A743-08B585A0151C}"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C4BDEA5D-4F30-4BB2-B569-0E22501E1C63}"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769F83A2-8E8F-4947-A24E-3336F0D37C11}"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1A4EB0BF-2BE4-43EB-B7F4-A04D4933FF31}"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9961611E-18F1-40CC-9FBA-3ACA7552ADD7}"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CC90AA41-7A27-4715-9CB5-9A3BD42E5FC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23218030-894C-4004-B0F0-1F5B0A7E4D13}"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6328CC25-A083-46D1-99FB-BCA00CB783EC}"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1E3DF103-206E-4A53-B193-4DFD81EB867B}"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55942E70-37C4-4D72-B867-06189CBEF278}"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B48D8221-D817-45A1-8F4A-7E5C94F1DFBE}"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92988378-5D75-43DB-8933-D6E9BDB28762}"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291A88F2-4742-4D7B-975D-E2A41C6134A6}"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522655B5-A143-47FE-9671-E3AED169FFD9}"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614BCFD7-78D9-45B7-B9BA-E2EB7B46558B}"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2329DAD4-CFFF-4BDB-AE13-99D4DEB066CD}"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BBAD844B-ECDC-4C86-8E55-19EDAD04638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AF0953B3-02CB-4397-AB04-A12355D3FC4B}"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EB3226A9-3FA7-433E-BC00-68C875C1ED9D}"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6A078AA6-5D40-47D7-88FB-EFCBA0632F22}"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F6261B3A-F4F9-4B70-87FB-77BF0DCF5D55}"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F4007513-481B-4536-8BC1-2F2583B39E6F}"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46310280-E361-45F9-9B6A-6BAA6EEFF8E6}"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2BE26EDF-BF61-4C57-AF6F-F2F91709852C}"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8F030B6D-6420-4930-ACEC-A4A0293EEE16}"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B9468E62-B290-4EC3-8F88-B331FAB0A243}"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2A023933-7F89-42A1-9A45-F9038F2FB424}"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9E5E74E2-5251-4369-9ACD-3C75430F9F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3D62EFDB-0961-4917-BD36-8183EECADDE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6B01E986-56B5-41E3-A15B-BB189C37BD48}"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10FABDF7-08A0-45F9-9925-232CF8449272}"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7688260C-4626-4214-8503-58BCC10A3092}"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E0BB1A86-A51F-4410-9E1B-EA4CFAF29AD3}"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2D73C56F-AFCE-46CC-9BFE-42A0D940D078}"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46A15D34-54C3-4D5A-AC47-42D1B001BDB4}"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A861A83B-A1C3-4BC1-984F-ADB0C241D0BE}"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370A25F5-1F66-4941-9DDC-D03E8FE6504F}"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2E6833F9-A831-446B-9ABF-C8A562AAA6E8}"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E1E108DA-62A9-4C7B-9BE5-DDFFF4C3E6B4}"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44CDC419-76A5-454C-AE7F-85630C206E3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F2CEB35A-4570-4AFD-AE16-F1D41A14F357}"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FAB76EEC-C565-4ED0-A955-31B1FAF72C0F}"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38D4E69C-1FC9-4762-B7A1-69C800E07EE6}"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D96E65A3-0D3E-4888-993B-6A86EFC6B4C8}"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ABDB96B1-CD96-4B08-86CB-FB9352A31CD9}"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1637D7A9-66D0-489F-8AB4-A9EF2B4918D6}"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FA3E0C01-6470-4943-A27B-5BB2D13A8437}"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D4C22723-72D7-4097-BF3E-475F4CDC6B23}"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8406D8DD-3511-4762-A7FB-4120BBB36CE8}"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F979EC9E-3A41-46C8-B04B-2AE320E32D9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26F74C3D-26B3-4F6D-92B2-E75768A08A50}"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7F6D8793-A0C1-4D9F-AB03-DC609C46AA58}"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EC11A2FD-CA1D-438D-82AD-8826AC22742E}"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A21BF282-0FE2-4034-A900-70B47B120A8A}"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760300CB-6CC7-490B-8602-EF3268F91ED1}"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AA4B1D11-741D-485F-B2A2-3920F7FFFC2E}"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57AF4273-76DE-4AB6-9B2C-ECE900039863}"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77E58A73-0E89-4D00-BB3E-A5B1A127D699}"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D18EA974-3E8D-42C8-A3E3-7DD0F85EA7A3}"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4CDD2E60-A76F-4278-963B-217E91D67CF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45D76261-8940-40A9-B46F-D6A741F9D70E}"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061262FE-A24C-461F-8BCE-4337169285E6}"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D9A6C3B5-868E-4393-B248-37236B184391}"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09BD3F41-B9D7-4B63-B88D-67537CB3708D}"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9DED9019-C963-44DC-9B4E-FF076D28BA5B}"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2C7DB193-260A-406F-96FA-C816BF155E46}"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975D7244-DCC0-4AA3-AB59-51A33C2B902B}"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D5636BA3-66C0-41C3-9D5E-240154C2AB33}"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2379678B-EB88-4C07-B7E0-0A71D356891A}"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2FD206E5-A189-411B-B256-620FBD372A9E}"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ECB7D8E5-999C-49A0-919A-95A1DF6FEEA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383FE8DF-150D-4ED9-8777-85F3C1D923F9}"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B017F084-B2F3-4DF9-870C-B75AD74DDEC5}"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19F8F11D-C35C-4677-AA53-D47B80FD13BC}"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765324CB-21CD-4942-9D7A-2DFDFFCB4555}"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025CA8BC-7E14-4A63-838A-BE09E8E737A7}"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847812E1-F600-4E14-ACB4-43D6B4DDF7BC}"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283F4AD1-484E-4568-B91B-3DD5D09611DF}"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6FF75734-4AEA-4376-A942-7FC2E0922D01}"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D65ECB94-93C4-46D6-8396-60C336CF75CF}"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13CFBEF6-7697-4E11-B555-4A9504E48890}"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46995B43-07D8-4D24-80B4-2FA85C264E6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94CD4DC9-330D-4AF1-8CB4-FF4F6873FEA1}"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B7243754-9365-4F0A-A410-987A1E7509F3}"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6AC15B99-C4C8-4E59-B19C-623415A22BAF}"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DF6B5EDB-504B-4686-8DF0-5BBA03AB260F}"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75E2F9E3-A153-464E-B4FF-1BB73A86DB42}"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F6B11632-866D-440A-AB1E-9BDC7ADED49E}"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6E3F7BB0-6BDC-413B-B6C1-44779C12CF28}"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E4798ED8-ACC2-45B2-81D6-8891E61EED05}"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7CBEBE2E-6224-4D0A-84D4-BC50DBBFF685}"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F9077B85-D784-4CB5-A910-2D8CB63EA46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4DDDE3F1-183F-455A-9FAC-5DB301BF98D6}"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24613696-4F7F-485D-920B-6D5859E9B06C}"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85111AD4-F358-4F6E-87D0-73A530685DF7}"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08A2566E-0C4D-4546-BE32-7068188ABCE2}"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844B625A-95CD-49F1-B0CB-A5090ABD50AF}"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D4FB9228-1538-4486-AEF7-5E333AC9EA10}"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C1571C1C-9C1C-4532-A7EE-0876EB8CF0F7}"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1B08BFE6-714D-4415-BB9B-DD6C2AD53AD7}"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ABC4E0A8-306E-4128-9B94-1AA30B30186F}"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CD3C0D34-F0E1-461D-8420-6A18D42E315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2D9798D8-B31B-4A10-8A6A-D327F7D6B5CB}"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FFA12B87-1332-4549-A56C-A6575D0D862A}"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CCA4CF5C-0754-4143-8C72-336D28C9F07F}"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AFC1F4C1-2186-4306-90E3-A32757B01421}"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A05FA51B-6847-4588-957E-188CB0C5D728}"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F33B3185-D95E-40BE-9189-D43DA5D7DB96}"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BDA67581-E2B3-4739-8C5E-7B39B2F2A32B}"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06903899-0B19-4C70-870D-4D972654A313}"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34A0B8A2-C853-4016-9734-CB342DB3CA9B}"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D31AFBE2-680B-47A0-899D-411C1DDE11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E4D8B36B-FE69-4E9B-B127-FCF9B9CB3A8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E8520293-1D35-4BDE-ADBF-4F683E762776}"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96DEE05C-59F2-4292-BCA7-FAE2F434DCFC}"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D6EDC291-2083-49AD-BCD3-C2D3B147CEE1}"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6EE29980-0DF6-4CE5-BDC9-B0392E00A62A}"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CEDA827E-B120-4ED1-9697-08017AC7F15D}"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0EE66494-E739-4058-85A4-D4BDB972EAB8}"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E6D70818-E0A1-427A-BB40-8541DCD162D7}"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8CA737FB-753A-4B7B-86A4-B32BA595742C}"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8B109414-C7E5-430F-AB07-E3C524096EC2}"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1F00FA29-3D93-4B2E-87EC-C5BEDCF588B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5B0AA0FA-8AA8-4A12-AEEE-71D4EDAE4BEC}"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8E4ECDFA-D48C-4E9E-BEE7-1E06A9FF9B86}"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3FC7212B-CD31-430A-8E00-DA2C6206B0B3}"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0C0DC83D-624B-42E8-8431-4BE3B4CFCE4C}"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D14DDA8E-FBF0-4EFD-B068-5416B777245E}"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0774016C-A690-43AC-9D45-BDFAADA47653}"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F3A960C2-4E17-4823-BFCA-41DA0B88FD39}"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7AD30416-F2C2-48EA-9346-B2AD4FC659E6}"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F3325EED-16DB-45A1-8D7B-708F15E039D7}"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849BB23C-48CA-4584-B6E8-21AF590CB60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0853AE14-9B0B-4BC2-A6D2-A2A3168CC6AF}"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3B1718EF-2E89-4643-A34E-3EDF9846FC6E}"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A8B18D85-CB01-4216-ACAA-93987B442113}"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9EF9F41C-E1A9-4AF3-87FF-068ED94B9F9C}"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4944DC6C-B05D-4FB8-999F-207A090A1507}"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7C7AB8B7-BAF5-4E65-8422-03B01006F849}"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0D783B71-8636-4708-A75D-1BED74AB441C}"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6468840D-FA2A-41CF-9429-831C85B33D17}"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9FFC69A2-958C-42E2-BB9A-67A74A665127}"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410CB2F4-9227-4B3C-8F9F-244B9870E27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9B79F01B-8E68-468E-9072-6F5BBA946112}"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094E9574-E01D-4D79-86B7-4F12A0FBB88F}"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FEF46E28-3D59-4416-B399-7A132EF16081}"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0ABA4A9C-1883-49B0-9C3B-FEB88E1110CA}"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65A9B34E-38BF-48E9-9140-6F1AA59B0A5E}"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13DC03CE-53B2-4069-8F93-41412564DDD4}"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408B75E1-0622-4685-890A-DD3ED9B2E119}"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A7C35768-2ED0-4E6B-9FFD-25C20F7874E8}"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6B6432C3-9DFD-4F59-B8EA-29AEDAD8257E}"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443067DA-577D-4069-9927-954745D90A6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CDA78E20-6626-4492-8442-7487DA1674C5}"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83DFE7FC-B7AE-4B3D-B815-203F4043A641}"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197F644C-0588-4704-9EB9-2B72AAE8A75E}"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FDA990E9-96D7-4DC3-8104-0DEE5F10631A}"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913CD83D-341C-45C0-AC95-DE1263482A7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68A1E6-206E-4963-AE53-3E0478A6D4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F975E47B-982C-49DD-A801-B6893B5B48B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03A0CF93-DD0A-4E70-9DF6-84AF35CB4B6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6D1B42B0-52AC-47DB-9E9F-ABD118E30D5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171A3300-827E-44FA-A1CA-98ECDD1A17B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D235F1B8-580A-4BC3-85DC-0C72DC94C3B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1DC3C2F6-6C86-4982-976E-A66C3764867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6856A51E-535D-4E5D-8E87-3D02ABE7EB7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E4D7789D-A3C5-4C3D-800B-7068C41797F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82F7BED1-07F3-4389-9B70-92D006B43FA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DE26AF93-065A-4650-9D38-FFAF63FEC22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E0342D25-17DB-41AA-8A2D-B69E765E1F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3C1F550B-30C3-41CD-BFDB-8BCF9B34A5B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7AD1E523-FCBD-4C0B-A07B-EB77136C925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A629A24-9726-47D5-85FB-0CCBB1BB2E3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DB53EDFF-1EB0-4F90-A7B2-41DAD8F688D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BF887A7A-7430-44D2-875E-4DB6BD3496C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7C98D5D2-07BA-4358-B995-12F2165E94F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4FA124C2-AC34-44C2-A1B1-D96F64D2E54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F9F62A95-33DA-40EA-BC49-19DEB3029D9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E277C5BF-3C5A-48E1-8C1D-E0FF90BB5B3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A0E55EC2-704B-411D-9F38-D7D1B8BC93C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9501CA7D-79F0-4FB0-BA6D-70A181F111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D9E1E9B-3ABF-4E5C-ABFA-53C5DC6F027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42470944-D52C-45E1-9F2D-91A412A5E54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FE799D5A-E8DB-4B04-9F4D-E3071FF50AE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212699C3-C860-4B02-A13A-7052095E2F0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3264B370-C8C7-4BB6-A6C8-A82BCC3292F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A2E96B7-87EA-47B5-88C4-733FA96D2F8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F05E6704-A145-4722-B648-A92071D7C45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C8BD7805-F44B-44FE-9575-A794D7A3800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AAA04681-59E9-4C7C-8399-85883FC7429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3DE1C09C-D472-4A9E-AD54-40F7BF43D1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F5BC1242-BD02-4A0E-893C-41C133C5907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CE9177F7-4673-4EC0-93E7-EBBF39F654C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95EAA2D1-6B6B-4127-9C00-5A655154D61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F31B667D-2CE9-4FB6-B4F4-8AD7C517495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30657808-6D39-4983-90F2-E2B0FBF40BC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D9FEEA3B-D7B1-4734-878A-BDF0FECF42B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54D6CFC0-3E7E-45D3-B066-BEA34C152E1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E70D9C63-9CCB-466D-99F9-62834A69255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8644B1E-D30B-40D9-B96E-E59A52FA122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6BDBEB79-8B55-49ED-B0B5-EBEFE4C3E46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FA03FE63-F835-4F7E-838B-51B27F09E6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EEB1D-F6A9-4DB1-B455-B3D25D0850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44BC9-3916-4E89-BB14-A5BF5DBA3F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AEC82-077A-448E-896A-1AF9BABF45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9A639-C76C-4851-943A-9C75993A26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8645F-4B63-4FE2-96AB-43A5547E3B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41737-8ED2-489C-B550-558E347EAD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C6800-FEDB-4090-913E-DD33E9BCB3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2F141-9847-4351-B24A-6FC63C216E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A1A75-EF03-4244-9D99-48CCF8EE711E}"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77A65-DF4D-4047-8989-DAF731A977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A399B-3EAF-429C-892A-E429AC8DF4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297E1-78FA-4EBC-9BDF-4009851774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A5F29-FEDB-49C0-9666-D52A8E6FB9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AAED2-9D64-4582-9E07-08156B2B81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22A96-4BAD-4F8C-9340-0EB359A304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3D433-EAC6-4B50-86F5-E6A806AE25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A1CD4-07AF-471C-BEA5-6869C1D87E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21C6C-A658-4AD6-88FE-04AD007D75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E44E0-9AD3-424F-985F-E74C10167C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D103D-5411-4674-AABE-F92C236BF74C}"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5D259-9914-4215-8962-2864B7194D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5608B-F378-4A82-9939-354D535AFA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B908F-C3F9-4107-A0A8-FD9E0927FC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1443C-DCCC-4892-90F2-A97E754E4C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D1B14-7C2A-48E4-927D-F7F04F8795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F0EC7-E0AC-489A-8C35-DC61691D08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E5AEF-3AD8-4E34-A080-C6940EED45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099C2-3228-41AA-A0AF-16888F3522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D3862-3836-4F30-849F-6735582175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C06DB-7952-4523-984B-3B39D36418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67628-E7A0-4FD3-9A00-1AEF7265E0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84A67-40BE-4464-9383-146C6C967F98}"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1E04B-ED17-4217-8F54-C449CCF17F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944BB-CD80-48F5-BCCA-3D819CDF7E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6676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8960" y="6480"/>
            <a:ext cx="5086080" cy="63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71600" y="1981080"/>
            <a:ext cx="6438960" cy="3305160"/>
          </a:xfrm>
          <a:prstGeom prst="rect">
            <a:avLst/>
          </a:prstGeom>
          <a:ln w="0">
            <a:noFill/>
          </a:ln>
        </p:spPr>
      </p:pic>
      <p:pic>
        <p:nvPicPr>
          <p:cNvPr id="1620" name="Picture 3" descr=""/>
          <p:cNvPicPr/>
          <p:nvPr/>
        </p:nvPicPr>
        <p:blipFill>
          <a:blip r:embed="rId2"/>
          <a:stretch/>
        </p:blipFill>
        <p:spPr>
          <a:xfrm>
            <a:off x="1333440" y="157176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EF504-8F4D-4855-BB72-057454A18BD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a:t>
            </a:r>
            <a:r>
              <a:rPr b="0" lang="en-US" sz="1600" spc="-1" strike="noStrike">
                <a:solidFill>
                  <a:srgbClr val="262626"/>
                </a:solidFill>
                <a:latin typeface="Calibri"/>
              </a:rPr>
              <a:t>1/8</a:t>
            </a:r>
            <a:r>
              <a:rPr b="0" lang="en-US" sz="2000" spc="-1" strike="noStrike">
                <a:solidFill>
                  <a:srgbClr val="262626"/>
                </a:solidFill>
                <a:latin typeface="Calibri"/>
              </a:rPr>
              <a:t>).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00915-A01E-4A7D-AE01-3E1D78512786}"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99257-A5CA-4BD7-AF91-6A15BB7EDAAB}"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501F6-9F2E-467B-9DBB-D262A52B62BB}"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90720"/>
            <a:ext cx="8167680" cy="462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6480"/>
            <a:ext cx="6396120" cy="654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1:08Z</dcterms:modified>
  <cp:revision>36</cp:revision>
  <dc:subject/>
  <dc:title>Deep Engagement with the Shifts of the Common Core State Standards  Mathematics</dc:title>
</cp:coreProperties>
</file>