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74928-ABB1-4151-A119-FB8BA506A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is designed for the participant who has experienced the Introduction to the Math Shifts module. </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5826-EF18-40B4-8DCD-2019C1C21FE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K-2 and reflecting on what we just saw. We will then spend some time doing a similar activity for the 3-5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e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he first page with the Domains and Cluster Headings for each grade - the overview - can be found in the Standards doc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Kindergarten, First Grade, and Second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K, 1, and 2,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BB697-612D-44B4-8D86-FBE2AAD810B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and instead are going over 3-5 and 6-8. If you’ve already completed K-2, simply preview these charts with participants and move on to slide 17 for the activ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3</a:t>
            </a:r>
            <a:r>
              <a:rPr b="0" lang="en-US" sz="1200" spc="-1" strike="noStrike" baseline="30000">
                <a:solidFill>
                  <a:srgbClr val="000000"/>
                </a:solidFill>
                <a:latin typeface="Calibri"/>
              </a:rPr>
              <a:t>rd</a:t>
            </a:r>
            <a:r>
              <a:rPr b="0" lang="en-US" sz="1200" spc="-1" strike="noStrike">
                <a:solidFill>
                  <a:srgbClr val="000000"/>
                </a:solidFill>
                <a:latin typeface="Calibri"/>
              </a:rPr>
              <a:t> grade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y are not the same five domains in all of the other grade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 focus is on operations and algebraic thinking, number and operations in base ten, number and operations – fractions,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3</a:t>
            </a:r>
            <a:r>
              <a:rPr b="0" lang="en-US" sz="1200" spc="-1" strike="noStrike" baseline="30000">
                <a:solidFill>
                  <a:srgbClr val="000000"/>
                </a:solidFill>
                <a:latin typeface="Calibri"/>
              </a:rPr>
              <a:t>rd</a:t>
            </a:r>
            <a:r>
              <a:rPr b="0" lang="en-US" sz="1200" spc="-1" strike="noStrike">
                <a:solidFill>
                  <a:srgbClr val="000000"/>
                </a:solidFill>
                <a:latin typeface="Calibri"/>
              </a:rPr>
              <a:t> grade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3E1A4-77B0-4FBA-85A9-8D64B22FAC7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gain, only use these notes if you skipped 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page shows the second level of focus: the shape of the content that is in. This is the same table, which shows the domains and cluster headings for 3</a:t>
            </a:r>
            <a:r>
              <a:rPr b="0" lang="en-US" sz="1200" spc="-1" strike="noStrike" baseline="30000">
                <a:solidFill>
                  <a:srgbClr val="000000"/>
                </a:solidFill>
                <a:latin typeface="Calibri"/>
              </a:rPr>
              <a:t>rd</a:t>
            </a:r>
            <a:r>
              <a:rPr b="0" lang="en-US" sz="1200" spc="-1" strike="noStrike">
                <a:solidFill>
                  <a:srgbClr val="000000"/>
                </a:solidFill>
                <a:latin typeface="Calibri"/>
              </a:rPr>
              <a:t> grade.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5DB20-F3AC-4BEC-8BC4-E3516D0B0BB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or briefly discuss grades 4 and 5.</a:t>
            </a: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53B72-2A91-4948-AF7B-1FB490A678C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084C-32CB-4E08-BB4A-D855D80748A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E7DC3-E162-4FC7-BCC3-0E172CFD79F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A2FC-726F-4D9B-8CD6-2781760373F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If you’ve already done the K-2 activity, simply ask participants to repeat the activity with grades 3-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3-5 and reflecting on what we just saw. We will then spend some time doing a similar activity for the 6-8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i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irst page with the Domains and Cluster Headings for each grade can be found in th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3</a:t>
            </a:r>
            <a:r>
              <a:rPr b="0" lang="en-US" sz="1200" spc="-1" strike="noStrike" baseline="30000">
                <a:solidFill>
                  <a:srgbClr val="000000"/>
                </a:solidFill>
                <a:latin typeface="Calibri"/>
              </a:rPr>
              <a:t>rd</a:t>
            </a:r>
            <a:r>
              <a:rPr b="0" lang="en-US" sz="1200" spc="-1" strike="noStrike">
                <a:solidFill>
                  <a:srgbClr val="000000"/>
                </a:solidFill>
                <a:latin typeface="Calibri"/>
              </a:rPr>
              <a:t> grade, 4</a:t>
            </a:r>
            <a:r>
              <a:rPr b="0" lang="en-US" sz="1200" spc="-1" strike="noStrike" baseline="30000">
                <a:solidFill>
                  <a:srgbClr val="000000"/>
                </a:solidFill>
                <a:latin typeface="Calibri"/>
              </a:rPr>
              <a:t>th</a:t>
            </a:r>
            <a:r>
              <a:rPr b="0" lang="en-US" sz="1200" spc="-1" strike="noStrike">
                <a:solidFill>
                  <a:srgbClr val="000000"/>
                </a:solidFill>
                <a:latin typeface="Calibri"/>
              </a:rPr>
              <a:t> grade</a:t>
            </a:r>
            <a:r>
              <a:rPr b="1" lang="en-US" sz="1200" spc="-1" strike="noStrike">
                <a:solidFill>
                  <a:srgbClr val="000000"/>
                </a:solidFill>
                <a:latin typeface="Calibri"/>
              </a:rPr>
              <a:t>,</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grades 3, 4, and 5,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A53B-9D54-423B-96D8-C4964453681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middle school teachers first explore 3-5 and then 6-8.  If the facilitator chooses to only go over 6-8, please use the outline of notes on slides #11 and #12 to assist with this and the next page).</a:t>
            </a: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CC4E-B33C-41D7-B9AF-43457BF40E4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6F37-BA21-4AE1-99AE-C6C236E018A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reminder of the three shifts that are required by the Common Core State Standards for Mathematics.</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slide</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812B1-9069-4FBF-85D9-AFCB500FB4C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B79BD-79EA-45C0-BA69-88F186F97BA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4B9F1-6402-498A-9F4E-C70C1DA64B8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13F5C-809A-42B7-B72D-C37B33F800C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B97D6-0502-411C-AD43-185681B59A4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t’s take some </a:t>
            </a:r>
            <a:r>
              <a:rPr b="0" lang="en-US" sz="1200" spc="-1" strike="noStrike">
                <a:solidFill>
                  <a:srgbClr val="000000"/>
                </a:solidFill>
                <a:latin typeface="Calibri"/>
              </a:rPr>
              <a:t>time to closely review 6-8 grade band. After reviewing, please discuss with your groups the questions on this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F8399-C5B2-423D-B00E-8EC5EDCF4AD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erence is about math making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like there are two levels of focus, there are two types of coherence found in the math standards.  One is the coherence of topics across grades and the other is the coherence within a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across grades as the Standards direct us to have students apply learning from a previous grade to learn a new topic.  You will see coherence across grades as you see the thoughtfully laid out progressions of mathematics that are meaningful and make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within a grade in the Standards as they direct us to have students reinforce a major topic in a grade by utilizing a supporting topic.  You will see coherence within a grade as you see the meaningful introduction to topics in the same grade that complement each other.</a:t>
            </a: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F1B98-42B0-49C5-9295-5D631556D6D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where coherence within a grade can be fou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very case in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grade, Represent and Interpret Data is a supporting cluster.  It is clear that the intent for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is that representing and interpreting data needs to be done in a way that supports and deepens the understanding of the major work of the gra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do not have to search for the coherence in the Standards - in many cases it is very clear such as in 3</a:t>
            </a:r>
            <a:r>
              <a:rPr b="0" lang="en-US" sz="1200" spc="-1" strike="noStrike" baseline="30000">
                <a:solidFill>
                  <a:srgbClr val="000000"/>
                </a:solidFill>
                <a:latin typeface="Calibri"/>
              </a:rPr>
              <a:t>rd</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when teachers are asked to relate area and volume to multiplication and addition.  Here the teacher is shown that area and volume are not to be taught in isolation but as a topic that relates to something else.  Again, this is about math making se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6</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are graphing in all 4 quadrants for the first time.  It shouldn’t be a surprise that that is the first year students are introduced to rational numbe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8</a:t>
            </a:r>
            <a:r>
              <a:rPr b="0" lang="en-US" sz="1200" spc="-1" strike="noStrike" baseline="30000">
                <a:solidFill>
                  <a:srgbClr val="000000"/>
                </a:solidFill>
                <a:latin typeface="Calibri"/>
              </a:rPr>
              <a:t>th</a:t>
            </a:r>
            <a:r>
              <a:rPr b="0" lang="en-US" sz="1200" spc="-1" strike="noStrike">
                <a:solidFill>
                  <a:srgbClr val="000000"/>
                </a:solidFill>
                <a:latin typeface="Calibri"/>
              </a:rPr>
              <a:t> grade, cluster 8.EE.B demands that students actually understand </a:t>
            </a:r>
            <a:r>
              <a:rPr b="0" i="1" lang="en-US" sz="1200" spc="-1" strike="noStrike">
                <a:solidFill>
                  <a:srgbClr val="000000"/>
                </a:solidFill>
                <a:latin typeface="Calibri"/>
              </a:rPr>
              <a:t>the connections </a:t>
            </a:r>
            <a:r>
              <a:rPr b="0" lang="en-US" sz="1200" spc="-1" strike="noStrike">
                <a:solidFill>
                  <a:srgbClr val="000000"/>
                </a:solidFill>
                <a:latin typeface="Calibri"/>
              </a:rPr>
              <a:t>between proportional relationships, lines</a:t>
            </a:r>
            <a:r>
              <a:rPr b="1" lang="en-US" sz="1200" spc="-1" strike="noStrike">
                <a:solidFill>
                  <a:srgbClr val="000000"/>
                </a:solidFill>
                <a:latin typeface="Calibri"/>
              </a:rPr>
              <a:t>,</a:t>
            </a:r>
            <a:r>
              <a:rPr b="0" lang="en-US" sz="1200" spc="-1" strike="noStrike">
                <a:solidFill>
                  <a:srgbClr val="000000"/>
                </a:solidFill>
                <a:latin typeface="Calibri"/>
              </a:rPr>
              <a:t> and linear equations.  This is not left up to chance, but is written in the standards.</a:t>
            </a: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DDC63-5028-4755-A4B0-27AD91198BC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2</a:t>
            </a:r>
            <a:r>
              <a:rPr b="0" lang="en-US" sz="1200" spc="-1" strike="noStrike" baseline="30000">
                <a:solidFill>
                  <a:srgbClr val="000000"/>
                </a:solidFill>
                <a:latin typeface="Calibri"/>
              </a:rPr>
              <a:t>nd</a:t>
            </a:r>
            <a:r>
              <a:rPr b="0" lang="en-US" sz="1200" spc="-1" strike="noStrike">
                <a:solidFill>
                  <a:srgbClr val="000000"/>
                </a:solidFill>
                <a:latin typeface="Calibri"/>
              </a:rPr>
              <a:t> grade standard 2.NBT.5, students are required to add and subtract within 100. 2.MD.5 strengthens this for students by asking them to solve word problems involving length as a context for adding and subtracting within 100.  Here we see standards that support each other so math makes sense to students and that the math they are doing is related to other math that they are doing,  rather than a endless list of discrete topics to learn.</a:t>
            </a: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4AF68-75F2-4C13-8783-8F6AC703FA2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4</a:t>
            </a:r>
            <a:r>
              <a:rPr b="0" lang="en-US" sz="1200" spc="-1" strike="noStrike" baseline="30000">
                <a:solidFill>
                  <a:srgbClr val="000000"/>
                </a:solidFill>
                <a:latin typeface="Calibri"/>
              </a:rPr>
              <a:t>th</a:t>
            </a:r>
            <a:r>
              <a:rPr b="0" lang="en-US" sz="1200" spc="-1" strike="noStrike">
                <a:solidFill>
                  <a:srgbClr val="000000"/>
                </a:solidFill>
                <a:latin typeface="Calibri"/>
              </a:rPr>
              <a:t> Grade Cluster of Represent and Interpret Data, students use line plots to reinforce the major work of adding and subtracting fractions with like denominators.  Line plots are not a separate unrelated topic in 4</a:t>
            </a:r>
            <a:r>
              <a:rPr b="0" lang="en-US" sz="1200" spc="-1" strike="noStrike" baseline="30000">
                <a:solidFill>
                  <a:srgbClr val="000000"/>
                </a:solidFill>
                <a:latin typeface="Calibri"/>
              </a:rPr>
              <a:t>th</a:t>
            </a:r>
            <a:r>
              <a:rPr b="0" lang="en-US" sz="1200" spc="-1" strike="noStrike">
                <a:solidFill>
                  <a:srgbClr val="000000"/>
                </a:solidFill>
                <a:latin typeface="Calibri"/>
              </a:rPr>
              <a:t> grade, but a vehicle for students to practice their newly learned skill of adding and subtracting fractions, as well as a vehicle for making sense of the sums and differences.  Again, not a new discrete topic to learn, but something that relates to the major work of the grade.</a:t>
            </a: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87B1B-CE4F-46A4-BC13-E1D2ADFAF87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meaningful progressions of mathematic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look at some ways the coherence across grades is evident in the Standards.  In the activity we are going to do next, you will see how themes, topics</a:t>
            </a:r>
            <a:r>
              <a:rPr b="1" lang="en-US" sz="1200" spc="-1" strike="noStrike">
                <a:solidFill>
                  <a:srgbClr val="000000"/>
                </a:solidFill>
                <a:latin typeface="Calibri"/>
              </a:rPr>
              <a:t>,</a:t>
            </a:r>
            <a:r>
              <a:rPr b="0" lang="en-US" sz="1200" spc="-1" strike="noStrike">
                <a:solidFill>
                  <a:srgbClr val="000000"/>
                </a:solidFill>
                <a:latin typeface="Calibri"/>
              </a:rPr>
              <a:t> and language build across grade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174EB-747F-4E32-8573-87C3145FAC0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levels of focus.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level is the focus of what is in versus what is </a:t>
            </a:r>
            <a:r>
              <a:rPr b="0" lang="en-US" sz="1200" spc="-1" strike="noStrike">
                <a:solidFill>
                  <a:srgbClr val="ff0000"/>
                </a:solidFill>
                <a:latin typeface="Calibri"/>
              </a:rPr>
              <a:t>out; </a:t>
            </a:r>
            <a:r>
              <a:rPr b="0" lang="en-US" sz="1200" spc="-1" strike="noStrike">
                <a:solidFill>
                  <a:srgbClr val="0070c0"/>
                </a:solidFill>
                <a:latin typeface="Calibri"/>
              </a:rPr>
              <a:t>what</a:t>
            </a:r>
            <a:r>
              <a:rPr b="0" lang="en-US" sz="1200" spc="-1" strike="noStrike">
                <a:solidFill>
                  <a:srgbClr val="000000"/>
                </a:solidFill>
                <a:latin typeface="Calibri"/>
              </a:rPr>
              <a:t> is being taught at each grade level compared to what is not.  It is because of this level of focus that teachers will have the time to go deeper with the math that is most important.   Compared to the typical state standards of the past (which in some cases were literally volumes of standards that would have taken years to “cover,”  even one grade’s worth of math), the Common Core State Standards for Mathematics have fewer standards which are manageable and it is clear what is expected of the teachers and students at each grade level.  That is the 1</a:t>
            </a:r>
            <a:r>
              <a:rPr b="0" lang="en-US" sz="1200" spc="-1" strike="noStrike" baseline="30000">
                <a:solidFill>
                  <a:srgbClr val="000000"/>
                </a:solidFill>
                <a:latin typeface="Calibri"/>
              </a:rPr>
              <a:t>st</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lvl="1" marL="62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level of focus is the shape of the content that is in each grade or course.  What that means is that if you look at the “focused” list, say for Kindergarten, you can see the list in terms of shades. There are things that are really sharp and focused in the middle, that are the major content for that grade.  The other topics are there in a supporting way and help to support that major work.  So, even within the list that exists, there is focus.  That is the 2</a:t>
            </a:r>
            <a:r>
              <a:rPr b="0" lang="en-US" sz="1200" spc="-1" strike="noStrike" baseline="30000">
                <a:solidFill>
                  <a:srgbClr val="000000"/>
                </a:solidFill>
                <a:latin typeface="Calibri"/>
              </a:rPr>
              <a:t>nd</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EBF9B-34CA-42F9-8F5E-CE273D90CE7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coherence activity, we really want you to dig into multiple standards. There are so many examples of coherence in the standards, just looking deeply at one of them is not enou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s to read the standards on the cards.  This isn’t an activity to just see if you know the standards for each grade or can reason the order they should go in.  Really read the standards.   See the coherence of the writing.  See how the topics progress from one grade to another.  See why it is important for teachers to know the standards for their grade as well as for the grades before and after the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ivity is most beneficial when not using the standards as a guide.  We want you to have to mull over these standards and hash out tough decisions with your colleagues. When you are finished and comfortable with your choices, use the Standards to check your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Read the complete directions for this activity under the coherence card activity folder in the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0840D-67FC-46B5-8842-E94C8F945B9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as defined here, does not mean hard problems.  It doesn’t mean more diffic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here, means something very specific.  We are talking about the balance of these components of conceptual understanding, fluency</a:t>
            </a:r>
            <a:r>
              <a:rPr b="1" lang="en-US" sz="1200" spc="-1" strike="noStrike">
                <a:solidFill>
                  <a:srgbClr val="000000"/>
                </a:solidFill>
                <a:latin typeface="Calibri"/>
              </a:rPr>
              <a:t>,</a:t>
            </a:r>
            <a:r>
              <a:rPr b="0" lang="en-US" sz="1200" spc="-1" strike="noStrike">
                <a:solidFill>
                  <a:srgbClr val="000000"/>
                </a:solidFill>
                <a:latin typeface="Calibri"/>
              </a:rPr>
              <a:t> and appl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a:t>
            </a:r>
            <a:r>
              <a:rPr b="1" lang="en-US" sz="1200" spc="-1" strike="noStrike">
                <a:solidFill>
                  <a:srgbClr val="000000"/>
                </a:solidFill>
                <a:latin typeface="Calibri"/>
              </a:rPr>
              <a:t> </a:t>
            </a:r>
            <a:r>
              <a:rPr b="0" lang="en-US" sz="1200" spc="-1" strike="noStrike">
                <a:solidFill>
                  <a:srgbClr val="000000"/>
                </a:solidFill>
                <a:latin typeface="Calibri"/>
              </a:rPr>
              <a:t>look at a set of problems; some assess fluency, some require conceptual understanding</a:t>
            </a:r>
            <a:r>
              <a:rPr b="1" lang="en-US" sz="1200" spc="-1" strike="noStrike">
                <a:solidFill>
                  <a:srgbClr val="000000"/>
                </a:solidFill>
                <a:latin typeface="Calibri"/>
              </a:rPr>
              <a:t>,</a:t>
            </a:r>
            <a:r>
              <a:rPr b="0" lang="en-US" sz="1200" spc="-1" strike="noStrike">
                <a:solidFill>
                  <a:srgbClr val="000000"/>
                </a:solidFill>
                <a:latin typeface="Calibri"/>
              </a:rPr>
              <a:t> and some are examples of application.  By working through these problems, we can start seeing what this</a:t>
            </a:r>
            <a:r>
              <a:rPr b="1" lang="en-US" sz="1200" spc="-1" strike="noStrike">
                <a:solidFill>
                  <a:srgbClr val="000000"/>
                </a:solidFill>
                <a:latin typeface="Calibri"/>
              </a:rPr>
              <a:t> </a:t>
            </a:r>
            <a:r>
              <a:rPr b="0" lang="en-US" sz="1200" spc="-1" strike="noStrike">
                <a:solidFill>
                  <a:srgbClr val="000000"/>
                </a:solidFill>
                <a:latin typeface="Calibri"/>
              </a:rPr>
              <a:t>looks li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88F74-50BA-4397-BACD-70ACBEE8FE9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are a few frequently asked questions about the idea of rigor and balanc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How can we assess fluency other than giving a timed tes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alk about assessment items that get at fluency, it is not always only going to be weekly timed tests. That may be an instructional practice that works for certain people, but it is not a</a:t>
            </a:r>
            <a:r>
              <a:rPr b="1" lang="en-US" sz="1000" spc="-1" strike="noStrike">
                <a:solidFill>
                  <a:srgbClr val="000000"/>
                </a:solidFill>
                <a:latin typeface="Calibri"/>
              </a:rPr>
              <a:t> </a:t>
            </a:r>
            <a:r>
              <a:rPr b="0" lang="en-US" sz="1000" spc="-1" strike="noStrike">
                <a:solidFill>
                  <a:srgbClr val="000000"/>
                </a:solidFill>
                <a:latin typeface="Calibri"/>
              </a:rPr>
              <a:t>mandate that everyone across the country will be doing timed tests.  There are lots of different ways to get to this idea of fluency and there are lots of different ways to know if a student is fluent in something</a:t>
            </a:r>
            <a:r>
              <a:rPr b="1" lang="en-US" sz="1000" spc="-1" strike="noStrike">
                <a:solidFill>
                  <a:srgbClr val="000000"/>
                </a:solidFill>
                <a:latin typeface="Calibri"/>
              </a:rPr>
              <a:t>.</a:t>
            </a:r>
            <a:r>
              <a:rPr b="0" lang="en-US" sz="1000" spc="-1" strike="noStrike">
                <a:solidFill>
                  <a:srgbClr val="000000"/>
                </a:solidFill>
                <a:latin typeface="Calibri"/>
              </a:rPr>
              <a:t>  On a side note, it is important to remember that assessing fluency is not necessarily the same as practicing fluency.  Often schools will do timed tests 3 days a week and think they are fulfilling the “fluency requirement.”  Students need opportunities to practice fluency, as wel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s it really possible to assess conceptual understanding?  What does it look lik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how do you take the math that we want students to know out of context and how do we ask them something that just by doing the problem will tell us that they have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will be doing a set of sample problems in a moment.  Spend some time really thinking about the problems under conceptual understanding and see what is different.  Asking students to show work and explain can be informative, but it isn’t the only way to assess conceptual understanding and can become tiring for studen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astly, are the Common Core Standards in Math all about application and meaningful task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It is a common misconception that CCSSM is only about rich application tasks.  That is only one piece of the puzzle.  You cannot just do these tasks and think that everything else is going to happen.  This is not a criticism of the tasks that are out ther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asks are often good.  Performance tasks are great, but where in those performance tasks are you getting at procedural skill and fluency?  Where are you getting at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cannot just expect those things to happen if we only do those tasks.  Remember that rigor in the Standards is a balance of time spent on conceptual understanding, procedural skill and fluency</a:t>
            </a:r>
            <a:r>
              <a:rPr b="1" lang="en-US" sz="1000" spc="-1" strike="noStrike">
                <a:solidFill>
                  <a:srgbClr val="000000"/>
                </a:solidFill>
                <a:latin typeface="Calibri"/>
              </a:rPr>
              <a:t>,</a:t>
            </a:r>
            <a:r>
              <a:rPr b="0" lang="en-US" sz="1000" spc="-1" strike="noStrike">
                <a:solidFill>
                  <a:srgbClr val="000000"/>
                </a:solidFill>
                <a:latin typeface="Calibri"/>
              </a:rPr>
              <a:t> and application.  The Standards themselves will typically guide the reader to what aspect of rigor is expecte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1A9FE-5563-4DAE-9E35-26AB4EE0670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of the key words to look for when determining if a standard should be assessed for conceptual understanding, procedural skill and fluency</a:t>
            </a:r>
            <a:r>
              <a:rPr b="1" lang="en-US" sz="1200" spc="-1" strike="noStrike">
                <a:solidFill>
                  <a:srgbClr val="000000"/>
                </a:solidFill>
                <a:latin typeface="Calibri"/>
              </a:rPr>
              <a:t>,</a:t>
            </a:r>
            <a:r>
              <a:rPr b="0" lang="en-US" sz="1200" spc="-1" strike="noStrike">
                <a:solidFill>
                  <a:srgbClr val="000000"/>
                </a:solidFill>
                <a:latin typeface="Calibri"/>
              </a:rPr>
              <a:t> or through an application typ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ther words that would highlight a “conceptual understanding” standard? </a:t>
            </a:r>
            <a:r>
              <a:rPr b="0" i="1" lang="en-US" sz="1200" spc="-1" strike="noStrike">
                <a:solidFill>
                  <a:srgbClr val="000000"/>
                </a:solidFill>
                <a:latin typeface="Calibri"/>
              </a:rPr>
              <a:t>(Interpret, recognize, describe,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these three aspects of rigor are not always addressed separately from each other, but what is clear is that the wording of each standard can help the teacher determine what the main goal of this standard is.</a:t>
            </a: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CEF3D-972F-4805-A63F-09D37B869D5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on Sampl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aking some time to work through the sample problems, discuss the following question with those around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it look like when we are asking students to work on procedural skill and fluency, conceptual understanding, o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73248-F67F-4090-B6E0-3334CD795D5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CF88E-D2A4-49F1-83E2-256B749C053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epending on the audience, the presenter should choose to do the following slides for grade band K-2 and 3-5 </a:t>
            </a:r>
            <a:r>
              <a:rPr b="1" lang="en-US" sz="1200" spc="-1" strike="noStrike">
                <a:solidFill>
                  <a:srgbClr val="000000"/>
                </a:solidFill>
                <a:latin typeface="Calibri"/>
              </a:rPr>
              <a:t>or</a:t>
            </a:r>
            <a:r>
              <a:rPr b="0" lang="en-US" sz="1200" spc="-1" strike="noStrike">
                <a:solidFill>
                  <a:srgbClr val="000000"/>
                </a:solidFill>
                <a:latin typeface="Calibri"/>
              </a:rPr>
              <a:t> 3-5 and 6-8.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Kindergarten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Kindergarten. They are not the same five domains in all of the other grades. In kindergarten the focus is on counting and cardinality, operations and algebraic thinking, number and operations in base ten,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Kindergarten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9F59D-9840-4750-8697-792EFFE178D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slide shows the second level of focus: the shape of the content that is in. This is the same table, it shows the domains and cluster headings for Kindergarten.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0340B-D498-437F-BB86-31F16383208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acknowledge the same slides for 1</a:t>
            </a:r>
            <a:r>
              <a:rPr b="0" lang="en-US" sz="1200" spc="-1" strike="noStrike" baseline="30000">
                <a:solidFill>
                  <a:srgbClr val="000000"/>
                </a:solidFill>
                <a:latin typeface="Calibri"/>
              </a:rPr>
              <a:t>st</a:t>
            </a:r>
            <a:r>
              <a:rPr b="0" lang="en-US" sz="1200" spc="-1" strike="noStrike">
                <a:solidFill>
                  <a:srgbClr val="000000"/>
                </a:solidFill>
                <a:latin typeface="Calibri"/>
              </a:rPr>
              <a:t> and 2</a:t>
            </a:r>
            <a:r>
              <a:rPr b="0" lang="en-US" sz="1200" spc="-1" strike="noStrike" baseline="30000">
                <a:solidFill>
                  <a:srgbClr val="000000"/>
                </a:solidFill>
                <a:latin typeface="Calibri"/>
              </a:rPr>
              <a:t>nd</a:t>
            </a:r>
            <a:r>
              <a:rPr b="0" lang="en-US" sz="1200" spc="-1" strike="noStrike">
                <a:solidFill>
                  <a:srgbClr val="000000"/>
                </a:solidFill>
                <a:latin typeface="Calibri"/>
              </a:rPr>
              <a:t> grade.</a:t>
            </a: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E2580-480D-4D11-A40C-3F955F2B08A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66F4A-8F8D-4AA5-A0B9-B7994F3FEF1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F3A7B-15B9-4D2E-B99C-B9FDB299D56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E420E1-C8F5-4B83-9F9F-46A8D985F1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31844AE6-E303-41EF-BF45-9C177DC13B5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17424E8C-9C56-421B-B130-8A72A7086B1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8E87E6F3-084B-4B31-914F-4998EE888B3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284C3E82-769B-431F-A50E-60FBB87C64A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7F991D8-EDD3-49FE-9370-0BFEC9CE130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47E6A55-B1A5-494D-B7F8-7400C22D5B4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B292E1D-4744-453B-AAA1-B2E7403DB6C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EB5A6F90-5192-42D4-80C3-9386BB4C421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E886CB86-D5D8-46C9-9A6B-D03F261ABF3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AF9C6FAA-15A5-4ECB-A046-7A658F395C9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3EB11ED-72B3-4347-8018-19424FB517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A10610AC-3ECA-4705-AE79-A54419035BE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FF22B343-40A3-4A64-9668-2FFC86A76D6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281945C6-6DE2-4F17-8543-69989F23988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24213E3B-F651-48EB-B482-AB1DA335DFE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F541CDFD-D450-483A-A628-24F949CBA39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545AD8DB-F224-48C2-93D1-D0E15F5829B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6244B5E-34D6-44D2-B6F6-2C765B16B8B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FF3FC2C-EF99-478E-8D2C-BE750904F95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14002E7-8FE0-42C7-982A-E5D5AB68AD3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5799D4BC-6791-4BA4-8E2B-B950EE4F72F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9DE65570-B919-4C1A-8396-3B9F52B2D6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37B17E78-036A-4C93-BCD9-AC42E12E7A3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DF81CE3D-AA79-4BD5-89C2-0865E349AE5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1E6EE6E-8A66-488D-84FE-0174510334F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92EF498F-8E79-4B52-96AE-81B1F4A45E3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5D55A5AC-04E4-4E5E-A514-7BF707DEE36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1130EA21-6EF7-4702-A148-B62A607D128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53F0291A-FAAE-4256-9EF3-4A9EF1B8453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431EDB4C-C9E2-418A-B187-DE38487B166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3E8AE8F-3DA8-4FF1-B4A4-5C1F53571D3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980C89C-59FE-4497-A6F4-DAC0D798C1B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470D55A-A49D-4A2F-A4F2-59E3F44935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DA806D-25AD-4F8C-AB3B-D1F4093E21E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44AA2838-E2F4-4F53-B15C-DCE9F978CA0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A70005D7-94B9-4836-9041-026F1195D0F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1B51813E-1B84-48C5-8D17-23678433C9A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1798C67-E842-4557-904E-42961E612A5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B2527A48-5E97-4FB7-8DD7-4903B6AE671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9DD19AF1-A576-4703-BE03-E2DA41097E9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93FCD7EE-60D5-4D52-8470-E2204E6DD61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D912C3EE-A9A6-49AD-9030-DD50278BD33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B17177CB-172A-4DBA-80B0-658443FD113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5ABC59D-1823-4602-953B-A6DDE2CB52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88128BDC-2D8F-4043-AFD4-064A59ED604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6319D6AF-60DE-4F75-B06B-834EBC44A1F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CCDB209-1574-411E-86B6-0195561CE9C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FF8C69C4-E6C1-46CB-930C-AA625DF65B9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465FB414-C659-474A-B05D-8D379015443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5FA55865-EF30-432B-AC8C-ED36178CB9A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F24816C-05C2-4684-8F0B-F177AA2F54B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94BC331F-301D-4CFA-85DB-89923420754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A8DC81EA-321A-422C-AC84-0BE2CF75BEA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A39B8138-0785-4238-8AC5-537E57CE04E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EB588ABC-48DE-4B79-8963-EFD1061959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715068AD-6EF7-40EF-B9F7-689F70863FE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C74C5048-EC78-481A-8190-9AF4909462B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E93AA12-C97A-4FCE-8544-DBC0FD75082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02A90E3D-D97E-40C5-99BA-4EB5C3A43D2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FEC6442E-104D-44CB-9133-5CD966C6A65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CDCDB1F9-F659-4735-8DBD-EFDFBCEA339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095E2AD0-C193-429F-90F7-9897BF731EB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77BFF1AA-9048-4195-ACB8-08FD607E3398}"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C4436E5-C942-497C-8D52-D5584BF15EF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8923C798-EA9F-4239-ADED-5CD77E216D6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D25607CE-4F13-44A7-9771-51C34FA5DC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3E2D1F99-841D-49F2-BA4F-BDEB9ADA3742}"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0FE8AAC6-6627-436D-B0E6-3E529218E1F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DA008526-4ADF-45F4-A2DD-1050F73C88C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36CDD8E1-7152-4196-85D6-7C32FDCB0DA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F45C706B-F66E-464F-8E7F-B219B814EEF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B624072B-558F-403C-8145-E8E9457020E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284A3F60-6951-455C-A5FF-DD91B6C4787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DE8F6D13-D846-45D8-A203-E61F2F8AA82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8DC374C6-8D63-4258-90C1-764D3DF70AB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B8A418B8-8059-40EB-A9AB-EFD8592304D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1B9FA60F-25B1-4882-BBA7-F91A39B805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F71CFE6D-1640-4770-B148-66AE60E8F6EC}"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FB70FE02-9A56-4DC7-BC60-E908FF12000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63F5DC5E-AD4A-463A-A113-418FB89848C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4A2713EE-7ED0-4F93-8738-F8C51A163EB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C8B67A76-7A0A-49D1-B533-A61E3670BBE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650A9583-2B5B-4E4F-82E3-B53845E0CF9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78ABD09-E441-441D-9F22-42B5354E1CDE}"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5209B0C-5796-48EA-8049-9A8828609F9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5CD5CF8-7A9C-461D-A58F-C389CDADB7E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C4FC438B-5DBC-4986-89FF-3969567F0485}"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7EDE9D90-4261-4515-84B2-BB72808A8B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20E3A737-9694-4641-92F0-79FC1F600086}"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9DECFA6E-8F53-41A7-B2AC-2DBB5A3B774C}"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A9FE574-1568-4BEC-B0C7-CD70334CBECA}"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B0A3A87-3E5C-4CBD-AA9C-CFBB6198D57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30A139F2-041D-4163-A843-E59C1776339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7187460A-C083-43CE-A7DF-577E709C7F4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DA2B0A63-4D0D-4EAD-8C8F-8FD0E3357AD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97B64BB4-12EC-4CD5-B293-58902F945C23}"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51DC5827-3195-4EC2-BC59-BE11D690DDC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D8924B2D-7B06-4F23-8545-EEA2D3BB8D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903528BE-F0FE-4BBC-9EC6-8C891BCDF2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CC1B994-D6A4-4BF6-B4FC-C942350D2F98}"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C525D243-268E-4395-B31E-E62BAB168EF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B1510FA3-B888-4A9E-AAE5-ACF80D2A954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6BFF769A-43B4-4E22-A9CA-A309D5E5A909}"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9651EF49-A24E-46AF-BD44-7A2E6260377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4F346F89-3445-4B28-A939-8E8F42FC58F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39BCC48-6F9F-498C-A1BA-E90191D25437}"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0015ABF-A4BB-41BB-973E-17AE89083AB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7B77A653-4776-4A23-A00B-9326156037AC}"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38E63035-8797-49C9-8B20-C63D075018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1A541718-D77C-4C7F-9B1A-7A3ABAA7FFE5}"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94271C6A-53FF-4710-8CB4-0EAB4370C16D}"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07935868-7093-4F1E-9BA2-00205ACCC77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D32872C2-2002-435C-B035-2322FB421B5D}"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07F01DD9-F0E0-4067-BDB8-C0C1DEE786F4}"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8E334910-F117-40C6-BE6C-E1EEE5B8F57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D2A6DD8F-DA33-4FAB-A1C1-8543580113A7}"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1497C119-96FB-4C2F-9569-F3CFCF9CBF9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90E4F95C-DAFC-4698-8FDE-234FD774E0F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948DFEB7-923F-4633-B6C7-5B0699939BF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BE3A8D1-D5EE-46F0-B647-8EC2A58BAC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CDC791CB-74AB-4951-B133-65914B3BE95B}"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0F05C70F-D45B-4F66-8499-6E5E7A89BAEB}"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3CFCEF68-AB37-4A5C-ABBC-C648203E2C8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8E0EFCE0-AB80-4C74-BEF7-CEBDFC6E3CB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49462F71-2C3A-40DD-B407-9DF9BFB1A075}"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31F24529-C0BC-4983-B24D-33EB72288624}"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9D53BB7E-A2E1-4167-8309-4D586AED9849}"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50D17B01-E38B-439B-831E-372F5C178FB4}"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F21531B1-FE2D-4F6A-92DD-5B90D55E359C}"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F2E91D40-5598-4872-B2DC-6F10EA5A2482}"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4C2D3DA9-83B7-4BC6-AAAF-5A87077CB5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E210E064-0E8F-45B6-A8E4-05E2D56F65B4}"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096F2771-ED53-435B-A516-E6BA1C8DDBF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B4E14A01-E150-4849-A197-B860BE3DB450}"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27A3C3FE-B355-4D84-9DD4-A0F6A2F2B400}"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4FFD5853-18FF-4DB3-A06B-A9A3E3EB75F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B45417F2-3B7F-48DB-8FBA-3835F27082D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61881250-7AF9-44FA-A131-E513C8889912}"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F05C1874-2F79-4EC9-BBD4-DE7A16BAB958}"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000DFBE5-5279-4E15-85F9-DE78113A8D00}"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AF66522E-5E8E-4EA7-84E1-1AE77311662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8EB18848-FEE3-435F-9240-C5A19BE17BA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BF35013-C8A3-4725-9EA6-132EA01F946A}"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A2868132-376C-4668-BBEA-B3BCD345C4C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5E413384-5136-42E9-B447-6C65267FBDA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D2722401-3CA9-4502-9890-2A67ED41A727}"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138862E-D9FF-4BCE-8DC4-9A558F865754}"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CF2DBDB7-81F6-432F-8392-B3063F289C25}"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0D1A0DA9-8575-4059-A2BA-5F0F9B95F2E5}"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790A048F-8448-4D96-B15E-0D343A0B183A}"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938E0CFF-511C-4BB4-8ED1-7E02757FAD9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E022AAED-4262-41B0-9DF6-963CB6426C33}"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F5B50FFF-8ADE-4983-96F2-FA8D2528DC2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3BA89C02-EE73-4726-88B2-6331AEA1F648}"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6EBE496-CAF3-42B6-B374-0796E865E98D}"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50B5F4FD-D640-43E9-80FF-61A63F0A50CF}"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7F1B5EFA-396B-4330-815F-29D13B115CA0}"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112BB8E8-F253-4416-AA64-E2BB70F16B4F}"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83004644-0210-4D41-A836-4DB2123AD805}"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21FC65C6-2F3A-4FDD-B406-4C598C8CE4A1}"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5F5C6197-AB5B-457F-8A69-5ED039E78708}"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A07F905C-0EAB-4305-84FB-9AD515208544}"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4FBDD2F3-40C5-464C-9F2C-0F460B08CE0E}"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EC817850-B67B-4594-9641-8BA3ECBAED9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3CB3E0E4-A284-45F2-BB20-8C95363D6B8E}"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6BB2B9A6-67A5-4692-A347-27F8F6B79836}"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AF4D3E1-7CD8-4354-B3E9-D25B9A71C65B}"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5551A8B1-C6B5-4059-8B98-056A7586D894}"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0B5D4E3D-1E39-4B37-9DB6-8DD8FF588116}"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8C505919-28D4-46F0-939A-B0CBFD4962FF}"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23655A6C-195B-40CC-87C2-DC80825DAA9C}"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87009927-3E09-472A-8CFF-429AA17BE19F}"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6CEEEF00-DFA7-463B-B1A4-4DCCB099065F}"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0D8307FF-2B68-4397-8D65-B8A4D37FE085}"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166C6B2E-6543-4617-9232-B271C95FF8A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342CF6C6-9A20-4C7F-97DB-2FF8E38823E9}"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EB0B3811-B897-4225-B46B-31EC2EA1C96E}"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AF546F7A-05D3-44AE-B1D3-957470F93514}"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28D18828-4B25-490F-90BA-2515E126E66B}"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58A59059-DAE6-4687-AAEA-19683E843828}"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C022C65A-7FA6-427D-BDC4-84889EEC18AE}"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5CD37E5C-DFF7-49DD-BFFA-D564A18B74C2}"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958D3624-1EAB-4EF9-B4D9-EB667F62D9DC}"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78322379-3BB6-429B-A2F4-9D9E3774B0AE}"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93E88BDD-6C79-428A-95A5-7110C15FA2AA}"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F506C2A1-C954-4D69-9426-D6A4FF77A4C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ED0D0D2F-C543-41BA-94E6-123C41144967}"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DFFF2CB3-0885-4626-8710-825B988D1022}"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C3C35F67-D9A2-4F23-BFA7-24C215C08E66}"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F9B23D21-9911-4C41-A94D-FC989D228D51}"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1CB6888A-EA3C-4526-A775-E970128E5857}"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E925C7E9-4A4A-447F-9BFE-6DB8E84D912B}"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6CC4FE80-CC87-4C62-AE8E-9877101880D7}"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C28746C4-F26B-4EE1-B207-6B154B3D220A}"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454AB496-545D-46EB-B92C-61FE9FA485C9}"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1686C551-EBDC-4D77-83EF-6E1C2B02B1E3}"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88BC6F85-69D9-4E78-B18E-7F4A3EE888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0762A1D2-C9A1-4172-B7CC-A35065C9C9E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C3924301-D954-441F-9FA8-7EADD8C51172}"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5A187336-D671-4FF1-99A0-60113C1BA754}"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CB0BB1D2-BD8D-407C-93DB-E577DCDDFEF3}"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505B4B6C-6108-4C76-910E-5244C97CA34E}"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0437C7F9-4342-44DC-96D5-F02E36D03512}"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44A7BEAB-4969-4BF7-862C-AFD3726225CC}"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B7447EF8-C050-4E43-BD34-47EA044C3BF3}"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599D3B9B-D81F-4C14-A947-DE4E2BE1372A}"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D526A361-4B3F-4E6E-AD06-FBC8AFD91219}"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F8CDA5B3-06F3-4FE8-89C6-B69872849A1A}"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6182A51B-78E4-4965-825D-1F43948E900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ED411A8-344F-4BF0-B00E-6F3BEAD06D96}"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09853DC8-DF1F-4224-8953-AF3BC6A90117}"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8A7B2F64-A7AB-48E2-B779-A17FB7AEF975}"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41D05186-EE23-43F5-8257-0836F44F52BD}"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D031D23-2FAA-4439-B583-5477789C45F9}"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8B072517-7372-46A2-9529-600A7D5F25B2}"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BF2E6BC0-A687-4922-B0FD-9D9A129BCEE5}"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5F72C395-E4A9-4119-9333-CEF120FC2CF5}"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67E4C90A-34D9-4EFB-BAE9-5A361C0D4D09}"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F0160F9E-EDE4-443E-B079-36F4CBE8AE3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C7C687A-AD9F-4DB9-9527-38330914BBAF}"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9BE4B337-6F35-41C9-B5DF-1AF8B1750A0D}"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13722DC2-6FCA-4C0C-9CD8-74DEEEDF32C9}"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560B19A3-FA59-4BAF-ADFE-1CFF1A9BBE36}"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D683F4E3-6418-4EB6-9E3E-FFACA0E75670}"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0A43DBCC-5E79-4F86-A4E2-608EDD22EB36}"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E74D2B48-3B18-43D9-A3F7-6A60CBAF1D13}"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68DA7A67-71B7-4589-92BB-E079C9EA6963}"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72C65F84-5A93-48F0-A6EA-4BB0335C4005}"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E29F7DE0-8469-4D66-AC9E-73463DA3115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ED2BCF74-C292-46A3-827A-0BA0F794A4DF}"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0645B19B-A63F-4040-B919-C47E31715A4C}"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9F57EA21-1B44-4CDE-8051-BDC15453F9B8}"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EE52812B-2A90-4174-A41C-55686E84B499}"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39058FB1-7EB5-4883-8FA9-08CF0CD833DB}"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B0187A60-7D04-4B64-AEF5-DF6050E8938D}"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E0B1FF9B-809A-498E-8EC8-01398D5194FC}"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D6CCAF42-065B-425C-A801-AF5BE6F80EC0}"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FCC78C6A-CF27-4CAE-A390-497F2CFF1DDF}"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B381F30E-D23F-4997-9763-59D1F7F1D1CD}"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1B000344-DAB1-4AC1-B3FE-8EA000CD69D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5CFF8825-CBB8-461B-A075-7764DDC03A5C}"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27D5BCBC-D47A-4CD9-9DBF-3AE9E8CB21F9}"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2EE7796A-575C-4D8D-9168-21A1D46DB19E}"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588E5268-DFF7-42F6-B0F3-8D350CF784C1}"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79D58E93-DC01-4096-AF69-084FB62DD893}"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807BE73E-0C2C-4C6F-8BEC-BE1E1E9F3763}"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8856F927-D299-4680-8867-CC8710697026}"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6664B99D-28D4-47C8-BE81-F259165E8AFE}"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C1056EA1-C0EC-45EE-AB92-D8A2CCCE693B}"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E4C9B48E-0AFE-411A-93C7-6E60F035352B}"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95F834A8-C4A5-4614-B2B4-7499D34B217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129B8148-F7CB-4994-80B3-2365A8258A89}"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BE9F66BD-B48A-4438-982F-C6DD405246C1}"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717C2082-51F9-46AF-8303-39D9868CE876}"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EA07C40F-C181-4DD0-A351-E5C73C110115}"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6FF81C30-35C0-4F5D-84E7-66BA4116A261}"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49D3FB08-7099-42E0-B26F-B79F75091080}"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7374A1CF-15E2-4271-BEC8-30DB77F477F8}"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7FD26211-8F2D-45C4-9D17-C7F242475FDF}"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EC3DE22F-BAF7-47BF-B104-328BE065A076}"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C3B17CA5-8203-4930-AD54-05E6CFC0C78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1CB6E291-2294-47E6-8447-774CF099BEB4}"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53B2D190-8ED6-4F24-AD94-ED0067DC61D3}"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30580A6F-BD23-456C-9829-7ECAD15DC884}"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8F0F61D7-EA06-4640-AF84-59DFEC62BE03}"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61F694C4-71AB-4497-89FC-871B8760C210}"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2BE4B943-6C57-4486-99AF-80BBC8C373B2}"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6C41C809-2102-4091-A914-07222DF336C1}"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D8564EB2-71F1-4979-9C1F-2D9EB4E86FA6}"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689E754E-86A1-4A6A-9419-16389A09EA45}"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0AF14DDC-E585-4341-8838-F1454C05053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B6FF1C9C-C8E9-496E-8AA8-5258A40DD15F}"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A1A2EEB9-F779-4AA7-85B5-7623513580F5}"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235B5C1D-D465-431C-BC5F-A558F2411AC7}"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4A94EE02-779E-486A-BC93-36DFA6EDFE47}"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5C5E7B09-781B-4291-8089-24F294F973D9}"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B3BD8574-AA4B-4CC2-ABAF-38AE8723BEF2}"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93EB6D2C-2D25-45F5-B39C-E424DEA2A586}"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8B2A498A-D0B2-4CF8-8321-CBCF5B6327F5}"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25B0A9E4-4193-4292-A091-770954C63889}"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EA450891-2CDB-4D5A-9DD1-C51949DAD4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895C60A0-4C96-40FB-BF83-1888883F5CB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A3579916-53E2-4CA7-9EFB-98B8AC1A4F77}"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2ACA7DE0-FAF2-45AA-A9EC-16DC434E27D3}"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39FF84EB-A492-4697-9C2E-763B25AA06BD}"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841E044B-71D8-407F-82F9-93CA2F9843B0}"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9E253BF9-78A0-42A9-AFB3-E4BF16CD6C14}"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7AE487D8-47E5-40D0-8ECD-3C16BD21132F}"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EA5F2EA1-AED5-4066-99F2-950B668E6057}"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96E033A5-FA23-497B-A73B-E9B2A7E0E74E}"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44BE0CC4-F9CD-4F99-82CC-E7BC38E7C3B3}"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45B9D0FB-711A-477E-B2D5-FF9F81406D8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1DE626FC-06CD-4444-9AD2-D25218B74E09}"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69E115A1-A870-4BD5-8960-522AFDD452FA}"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E7BF1EB0-2950-46BF-A125-3DC8026895CA}"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984F768D-3A40-448C-A5F4-244BCF85DEC3}"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64AF0FAF-AB19-4B1D-9FB1-F07A15B2D1B9}"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E6B43D69-2793-4C08-A4D5-93033A558774}"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7AE76FC1-8A70-4B32-9458-5224BBAE9593}"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9AF51DF4-997B-4960-B5B8-BC715DF1A93B}"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69288262-56D4-47D4-8C3D-EFE3434D8EB1}"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5ABA9E12-FEF7-406D-A46D-E11BEFCDC12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36F7362D-231E-44A7-84DC-6E92ED37E12B}"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5F22C6A3-895D-4C23-815E-4CA48AD3EB0D}"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5AC2224F-E5F9-4EA4-A5F1-66EF480F75E4}"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039760A3-9BD3-4143-AA7D-3541A7BE3A13}"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1A6E6C5F-0D16-4B71-8FEA-3EE096105DE4}"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C73A4889-E097-4CF3-B757-D2A9B3FD374E}"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CC1D54A9-143A-4727-9FBA-9649105E4B2B}"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C863B1B5-C233-4753-BB7F-51DD81354A0E}"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3B3C4849-9E80-4734-AD3A-C757B1397383}"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0C024A76-CD83-4592-BB67-601B71A92E4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85DC0BA2-0870-45B4-BE34-E137DCB951C4}"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9B1E7DCC-4507-478F-9B51-6D77C8068899}"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C9D84BD4-D51A-444C-BC6D-21AF2555A60C}"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E6B4D99D-D18C-4948-B54C-C056A4565291}"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0649430D-6911-4B34-A76E-A64EC4D62C00}"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781237AD-7BD3-4C78-833E-C6DA65A185C4}"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5758AB0B-91E4-4709-9CE0-81F6CBE22B95}"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428E446C-B025-4D2C-9118-CB226FF58E39}"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3288DA9A-530A-43F9-843A-C1FE855E4106}"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425F9AEE-3DB1-4C37-9CD1-F57350D1FB6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813BB747-CBBC-4E69-B7C0-5957F0C2A748}"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B425744E-58FC-4BDD-A98D-702C318D518A}"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5F0E3611-9642-4760-8B2A-7ED261F18B20}"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A633E6AD-433D-4ACD-B874-E8D025103194}"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A6AC9C45-8F2B-4D57-9694-B0F158C3027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629255-2790-4014-A7D4-A207500B5F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E7DCC360-A7D8-4525-B2D9-D9D69989612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DE62D4FB-280E-45F0-A4DD-4B23CBD57D5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C2727F81-FC73-4389-951F-4EE1009F95B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4FD5262C-FF36-46C5-8EAA-46E4428F53F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52568CF4-BC5C-4C87-8855-FF43AAE6850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1D746922-5616-4504-B049-A62EEB8168F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F6B212C7-9BAC-4D80-AC3B-93CB7971B82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4FA4B24-94E0-43D2-BCB0-CEA6F9DB176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A1FC5D2-40C2-46CB-B4B2-1C80C277FDE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B883C9FD-AE75-45EB-8D3E-66FEF32244F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CA5E243C-5CD3-4482-9A44-124B5E449C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63ECC23A-E3D1-4E24-82DA-F97BE6EB374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509EC3FC-7179-4EF9-A37D-ABA788B3054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4E0DE0E-00BE-4BEB-AF61-51A38A7B845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C1853D8-416A-46AC-81F7-5DC5B6B84E1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3E51F478-840A-45FD-9DAA-4945AA42369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D52C0100-057F-436F-A265-D1FA33DF8DF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ABF65961-CA96-4132-89B9-CEB9B9C0CBD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FA74DDC7-BB1C-4082-AAF3-E33EB06FC61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117A8C4-4B86-45ED-8E2D-C86E6EF1676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0C46474-E746-409B-8896-15D73191D11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1821197-014D-4CF5-B929-4F3AD38B2F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8F603B9C-81F9-4600-9333-EDE4215A7F6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FBCA201D-A9C2-40E0-B8C2-5E3FB1164AC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208C498B-DDA0-4F3A-8393-441FE3BC4B9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49DD9858-77A8-4955-9A5C-35BB959406C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2118174-27CA-4D14-9073-8D5259C1EF0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8B3CB98-48DA-4E8C-B28C-1998F26FBD4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2211F50-6AA8-4908-9F5C-A3C2D7667CD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FDAA7126-DD19-4CD3-AC48-87A0DB3A7D9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DAB335A8-7F89-4CEA-B1F7-10789B50208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AEF56E8F-3A0A-48C0-8CFB-BB8014D124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599557C0-C430-417F-B7AE-2A9CE39DB74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F8800F2A-6C50-4E23-8D3E-746E838FF2E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7B1AF2B9-F68D-40FB-8932-5E105E3BBEB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EC5A594F-181E-4907-98CA-F250DF7062B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AA8B9780-6A5E-4F77-B182-A0AEC6CD14F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D64B4634-EAFB-4839-BF5E-02D9EF29C3A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27D82E1D-60E3-4BD0-83F4-04C13CFF0FF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3FC59697-1B7F-4718-B08E-AF20B95560F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4A42CCE-5153-43FB-A10F-3F31B4D3E0E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2D629F80-E7D1-498B-8ECF-4939B5AD62A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A014A989-EB08-4970-9EDE-5492ABC88E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FFBF1-E4EF-4DCD-9D85-5E3CAE6697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B254-80B5-476D-BE49-D410F7778A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8E153-47AB-4BEC-BA5D-EAED0DA4AE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AFE9-4C2C-4173-BA02-C54985C252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0EC68-551A-4E6B-AF76-E5978792BD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ED3C-C0A1-4CC9-AACB-884E8BCF22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5332E-9EF5-4242-B092-23391F1394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A2ED7-7092-4BBA-A9CB-4637E95FE1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65D71-2FC8-4DB0-92B5-C4588703CA37}"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60C6-F619-4904-848F-C03838772C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91A9A-457B-40E8-AFA4-BCCEA60D6A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54C65-9F60-4915-9147-7EAE8D4076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10B0-F81C-480F-B013-7D58E7FB27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F24C0-BFE7-4168-9139-18586A3BF5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610A5-C522-4558-89D8-FCA1E29973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0F989-CCB1-4102-8E5C-1204236E1C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E0D0E-63C4-4C31-A95C-E4709CCF6B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B235E-B17B-42BA-A05D-BB0ED7BE4F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6B50E-CDD1-4DF8-A334-56A60D3EE3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CC30-4FB8-4407-AD87-652742FBE8D3}"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FFE82-69C7-483D-BE5B-7D55724DCF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39"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45FBC-5532-4CE7-AFA9-118EA873E8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83"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D4FFC-3EF5-4164-8110-0B4B23F87B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27"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02979-42C1-4352-9F77-5178A7C7E0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BE893-DBF3-407A-B5BF-C9364C6846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631E-F832-4F1C-A704-25A47932DC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3FADA-A0D4-4840-AD6E-4B44EDC061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00"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7A49C-DC89-42E5-9F9A-E96201040A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7DC29-5290-48C1-AB69-A535438634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7043A-AB0F-4451-8C2F-C97897C472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E3D1E-F37F-480B-A302-6470E56531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E3DD9-34B2-4B8F-A302-A3774D13A438}"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C26A-543C-417A-BE33-1DCA5B38D7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04AA4-B6C7-4774-AC93-6A8FD5245A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7324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1040" y="0"/>
            <a:ext cx="5086080" cy="632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52520" y="1776240"/>
            <a:ext cx="6438960" cy="3305520"/>
          </a:xfrm>
          <a:prstGeom prst="rect">
            <a:avLst/>
          </a:prstGeom>
          <a:ln w="0">
            <a:noFill/>
          </a:ln>
        </p:spPr>
      </p:pic>
      <p:pic>
        <p:nvPicPr>
          <p:cNvPr id="1620" name="Picture 3" descr=""/>
          <p:cNvPicPr/>
          <p:nvPr/>
        </p:nvPicPr>
        <p:blipFill>
          <a:blip r:embed="rId2"/>
          <a:stretch/>
        </p:blipFill>
        <p:spPr>
          <a:xfrm>
            <a:off x="1352520" y="136692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7DF1-51EA-4C24-89A4-1D03FD59628C}"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1/8).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BF750-B68B-4A23-8A96-3EA9B408E65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23C0A-387D-4B8E-8483-A19E89B11A5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9EF44-9C5C-4D85-AE40-B3F8CECBEFE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14400"/>
            <a:ext cx="8167680" cy="462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0"/>
            <a:ext cx="639612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0:55Z</dcterms:modified>
  <cp:revision>42</cp:revision>
  <dc:subject/>
  <dc:title>Deep Engagement with the Shifts of the Common Core State Standards  Mathematics</dc:title>
</cp:coreProperties>
</file>