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8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85" name="PlaceHolder 2"/>
          <p:cNvSpPr>
            <a:spLocks noGrp="1"/>
          </p:cNvSpPr>
          <p:nvPr>
            <p:ph type="dt" idx="32"/>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58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8" name="PlaceHolder 5"/>
          <p:cNvSpPr>
            <a:spLocks noGrp="1"/>
          </p:cNvSpPr>
          <p:nvPr>
            <p:ph type="ftr" idx="3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9" name="PlaceHolder 6"/>
          <p:cNvSpPr>
            <a:spLocks noGrp="1"/>
          </p:cNvSpPr>
          <p:nvPr>
            <p:ph type="sldNum" idx="3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43CF0-FBCC-421E-8390-6982C17AFA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September 2016.</a:t>
            </a: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47179-21A3-4533-9D09-8D3D0586068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188A8-F19A-4C9A-8F98-1DE16C5206E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D4449-BED4-4971-B728-158806FB0DD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0DE00-DCCC-4766-B905-6F7D75D081A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645A3-73A5-4FB2-80A6-3F3997A7D65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63AFC-DD14-40E4-8FC7-D7E45807C79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E1C7E-32B2-4047-AA82-686F1CC8A34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598C2-563A-4A66-91AB-FD29F7EFAE3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FFDBB-107E-4BB7-87A7-F79F4D32C5A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187C2-1566-451C-8CD3-C979372EC76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2D864-D865-4FCB-A14A-E9D3CC66A22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76AE8-E0BD-409C-91C2-A85DA3DD7C2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FEE36-BA4E-4721-BE2A-4AFA5C0FCAC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5C7CE-0A38-4A1D-9326-D0BD1AB0B08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0978A-02A3-4274-B0E6-2530A3C0ECD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E0E94-8385-4DF9-B3CE-F7347A6A66E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47E5A-E562-480A-B115-C6769AC6CE3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08936-0606-45D6-B90C-2E60F01BE6A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E6260-1F8A-4B53-BE16-8F189A10D38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9A86A-64D2-4F46-88E3-66A448836B9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B5EB0-6E19-4F41-86D3-1B81CE6777E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5A988-4BCD-4B86-AF63-DA73B030211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A32E0-6C52-4994-9230-D96A185CF63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8B235-51EA-458F-B1F2-BC2BD5F70EA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B93E9-FF50-4872-AECD-FA432ADA534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2094B-B3BC-4648-A922-B9D0BF94180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6CD1B-BB27-4426-9C3B-5DDCA9AC3E1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971E2-2FA4-4449-8D8F-EFADC95599A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143000" y="685800"/>
            <a:ext cx="4572000" cy="3429000"/>
          </a:xfrm>
          <a:prstGeom prst="rect">
            <a:avLst/>
          </a:prstGeom>
          <a:ln w="0">
            <a:noFill/>
          </a:ln>
        </p:spPr>
      </p:sp>
      <p:sp>
        <p:nvSpPr>
          <p:cNvPr id="1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AEED1-8511-4921-BB8E-436A9813784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083A8-E46C-4C4D-BBBE-B5BD21A0607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91B59-9554-474E-A846-8ED7F0A1F60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58607-5837-4FB7-9D94-3EB737EF0CC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2853D-F595-464B-8292-F27763F3A23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5CDCA-3472-4265-B405-3FDAE7204D7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54946-F4C8-4179-9FCF-43EBE1D2502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9A334D-16FC-421A-93C1-9E4233EE5A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2AE88835-276C-4832-AB4A-FCDA1839BD5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72D36CE8-FB5F-4C23-9C07-140C04CB371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CFBBD980-32EC-40FC-BF0F-976088F7C94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DBAA6C1E-0470-4BEB-B677-9388C70325A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98942D63-5EBD-4E4F-974C-C41F2133868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8015FDC7-D0E4-437B-8627-C1243986A97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A5E4D2E0-2C8E-4E3F-891F-1633D2A40FA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DD70C6DF-127C-4ED8-BB60-4F77D3CF70D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D5C1C41B-D4BF-4E51-B203-FCFC67E8FBA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80D14FB2-F628-4D88-BEEE-33ADE8CC4C8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F08C9B8-DD4C-4841-8EEF-7D1621162F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67EBCB68-BB57-4014-969F-0BBB98B68C0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C9A8D2DC-40AE-46BF-8E97-7A7FA4F0A00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DB7BCB61-DE5F-4B52-A343-9555821AD06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E2D4EEC8-672A-4457-8CD7-CF6ED5B2EAA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BEE82592-9D7A-4C7C-9D18-EB82B8C2F4F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FCC7436E-A7D7-4231-A00F-500CF984FFB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FDB11BD1-F1C5-4EEA-ABAD-4E841CEAC00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158AAA19-282F-4047-8D74-EF65157723C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7FC51432-693C-4D19-88F4-E874174CD76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94F8FDF8-CFC6-4351-9AD5-7FAA5495C9E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152A6F20-C28A-4241-A4DD-5A24F914CD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B3B3B25E-5F49-4A13-88F1-3874F80CD1E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4E61CD09-AE20-44C1-A108-92E3ADEF525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DA50DBC-4B83-4DB7-80B8-1418E353774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317468BB-D4AC-4DCA-823F-88C8D11B1D7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5B74A1F0-AEE8-47B3-A700-1A2D03663EF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CED07EE5-3C5D-42C4-B94D-B5C73C2D179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2D3F2A82-D373-4C03-9A07-7583AD4F09E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C7A13154-4966-4350-877B-028FDA70BE8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923C8212-8BF5-4FCD-A6D3-55A2BD7B32F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06A39068-A46E-43C0-BA21-446CC158DEB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6694AACC-C4EB-4E6D-93AE-277038CA3A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A9C0167-15B1-47B3-B417-FA52DE0FAF2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1ED6DFE0-5A9D-4FB4-AEDF-7DE9701FA8E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65180199-1950-4E2A-83DD-F0A4CD12EEE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ABEB7A69-625F-46BE-8BC2-05E90B869AB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5A763C7-E56D-453A-9353-0C0C6DBA788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E817FE25-0059-4188-8F93-EA06EE3E4DE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4472FD66-A902-4F3C-BD2E-394AA59917D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568519AF-8FBC-4B7F-8945-D2BC58C3FBC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4CF1046D-3D2F-4454-9443-914BBF71AB6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F9BFA3BE-F016-4451-8AFF-FB4AA27585F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59529036-3D07-452B-ACB2-567C19F9FBC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31493D5A-8E36-4FA7-829A-28D1C929B87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5D34D082-DFE2-4E0B-ADC2-B057DD6FD83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5FE16BF6-6C6F-40F8-8D4E-3FE99D5EBBB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A551C002-D884-4085-8D05-74A844F8F4E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9ADA5A93-E4F7-4DA8-8942-4B892C90EFD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59468C76-5A75-4C7A-A483-8511CF4D5C8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AF77396-3845-4669-AB2A-113A05208001}"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53F2DAA8-9187-437A-8720-813378FA6C5B}"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42B99983-565E-4C37-8391-C5C279B6D8A9}"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244A0EBB-8DBB-4469-85F4-E240C0135ACE}"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6F11356D-0C42-4BD5-B200-480E1D810C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1590A1E1-5A71-48B1-A6BD-10F343F515F7}"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DA0AF60C-ECC7-4977-AC78-E64D9BC9396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674926B3-63FE-44A5-9B85-098D39360F3A}"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ABC5D710-B43B-48F1-89A4-39C0EF2E9BBC}"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962D273F-D2A9-4269-BC9E-52006368C24A}"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FD869EBA-9FC5-4D9F-8504-6BA782E07956}"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CA2CDF99-4D0B-4C50-B31A-AE6139444895}"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E688173F-C1A7-4F3E-9E86-3403555251EB}"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2744115-5228-4B5F-9976-384AF3160004}"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2540CFC1-A1C0-4A86-9CAE-8EDA00E940B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8156524A-CAB4-4F54-9049-98A073060A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6212174B-1BB8-4343-94E6-5EE84F282A91}"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AEE01D54-B5CF-4317-AA92-A04F6C7A433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4DD7DF56-6C4D-4A5E-8146-FBBBF59E09D7}"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887183F1-F46E-4195-8CD0-6ED842BB84F3}"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14DB3DE5-97CE-4D12-AFE2-9B4E95E2EE7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D0B82A88-F38C-48E1-BEBA-C2C17636CFA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447541BC-277F-4FB4-9723-1699ABF543D7}"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8B39026C-BE7B-4959-AD11-34F27C2F5A5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6D0977D2-28D6-49D8-B750-1714077985E3}"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4FBE1A6A-C9BB-4FFB-BF2A-FF204C0A8351}"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F88DE738-9E35-4D36-B32D-6E2B3F6EB9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E5292FAF-E714-40D8-9CA1-1AA33ECBD72A}"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54FBAB9A-EF5E-4F40-B606-DE54E98CF9C3}"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5C8EC12D-CD8D-4D4C-B27F-774158D689D1}"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82186782-CFFE-4D0B-B21A-8E9791DEDEB6}"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6211098D-382E-49C7-986F-4B04E99E1A0A}"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AC5701C8-A30E-4537-ACD2-59D589587EF9}"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E4FF83AB-AE0C-465D-AA37-319C7EDF051B}"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D20BB1FE-9800-4E06-BE23-91CA9A511456}"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A301F1C0-4AB3-4D97-A2BB-F39C8844D0D5}"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1FBD0C8D-1F79-45B0-8E1A-635D28DB9DB8}"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0FDB0380-8111-425C-9A6B-E01E1BBAF7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AB43F3CD-64F4-48B9-9571-1CE49DCC84D2}"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30BE65D4-CBE9-44B4-B620-1AFDEA84994F}"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4716726C-A191-4E81-96FE-254EE1C2C14A}"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02CAE6EE-2993-4FDF-9DEE-C9C8E834BC68}"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C8F9922C-DC2F-4399-838A-5281D2B00A93}"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3D70097C-6AED-442D-A882-A1FC7C96ABE9}"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BE7ABDE7-77B6-4314-AA0C-84C987A7E6E6}"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54C97ACB-7BBF-4292-8307-72118C8C180E}"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0C11B405-11EA-41A5-9588-136E911F79AF}"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5319E3E6-2E5D-4AC0-90ED-A4E8A36E0E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814259AF-C3C6-430D-A78D-B94128C776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B4D4154D-1AB9-4777-8A37-25DB0DAEFB40}"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635C30E4-AA14-421C-AB4A-F4608B57FB0D}"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24AE6467-5E8A-414B-8AA9-544548E97A11}"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99F744BE-2802-4644-A517-5FD3A1F5FBD2}"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A9CEACC6-9A99-4902-B81A-8B5354E462D0}"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A72EB37E-ED47-4820-9CB8-DB65F231A2B6}"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3C24578B-A488-476A-A353-875A402D3AD9}"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35A5CB16-8BFF-4388-9F81-216E5EC9A616}"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352905CC-E680-4FFB-9C8D-5B34AC7E0994}"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8E0D9A78-E98A-4533-8E08-A617EDF2DF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A22E9565-62D8-488D-92F3-9ED7E31F82B7}"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8240FFA8-0A94-4134-9D38-7A1007070BC4}"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5CFE6BC8-799B-459C-973A-6227E32F26EA}"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F69D0D24-3F77-474B-9AE1-A28215D88B39}"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2392BD23-E712-4AE5-8B9E-0D1A795B76D8}"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CF9228D5-F34D-43ED-8402-4BF488906635}"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983C5265-74EE-47F3-BFB9-3A6D6179DC7A}"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8974F562-697B-44D5-BA5C-F0C857FE76A2}"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8EEA7A12-66C2-44B7-BB00-7579D41B4E08}"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6913F43A-0EDA-4357-B181-4DDDDBE68158}"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932B33D3-AA4B-4C35-8612-FD245657B2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B76162D2-81AE-4921-A55B-A42649046216}"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A1B6169A-A7D0-4F33-8DDE-59F179F1EE89}"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5220A4F2-DC9F-48BB-9933-9C6D8A2EA9A2}"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2E2D7C39-FA2E-432E-A5E7-4DFFB4BF57C6}"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714C10AF-D6C8-4788-ABCD-9565BE4208FB}"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D95051E6-7C03-4AB3-B7B1-7A7B89594497}"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1CFCE04D-DAFF-46D1-B801-55FFBFBC8F17}"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F4AB125A-0378-4F20-AC44-1DF413266BAC}"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91219597-E4DA-44D8-8BD9-C01EC425499C}"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580C9302-4BCB-4965-871C-26596A78E7D3}"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4899A0A4-961F-4411-982A-6DE61D552D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5A6104EC-4C70-4FC7-AC17-8B3567F61F89}"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0E7039A6-0DD4-42D7-8E5F-3A548469694F}"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8C989B24-CE65-4F02-B1BD-8BD22F53F8D9}"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A790FBB3-477C-4AF6-BFDE-DF86FA8B1667}"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95F7B1A2-4560-44DB-BDA7-83AB97E87335}"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9D81D607-A4A8-4C12-A3A6-813E996FF721}"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0EE6BDBB-3AFE-4AC1-B5F0-72943B955E16}"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85A7648F-BE7E-49F0-AE3D-D6CC4D5AD993}"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B1A41094-AFB9-48EE-9429-6281062A6199}"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7DEA724D-5D65-4418-B2FD-3E2EA5B6C323}"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F0CB10C8-C944-49E7-BE47-19B6FC88FF9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0A02D0C-B81E-4FF3-B592-3CC818A5ADB4}"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79D8DE49-60C9-4EDA-9885-C23A11FE1CE9}"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F3A68B7D-7FA7-43E1-A5B3-A705A39C6CCA}"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A758CE51-6D14-4DB7-8090-70653C046658}"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711CFB5B-BA6D-4115-A308-AFB8C26493C9}"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959CA670-FB50-461B-8D33-9606F4C5E9E1}"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90952D4E-51EB-48B5-BB3E-A3EA161CF32E}"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F1C13F6B-A921-477C-9BC9-5CDCCAC9E6C5}"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8D0F3F18-0C48-42C9-B899-79B4AFD0C509}"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97AC1DBD-3857-4252-9073-859FA3D2BE9F}"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D00AFC53-F396-4B89-8AAF-2212B00BF46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64EA9AE9-E431-4B64-A612-C4D45F23C84E}"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ED2F271C-36CD-4E1B-A3A4-737F05481EBC}"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C336634E-0814-4AB8-9F0D-49159FBA0071}"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FDED45AD-C65E-4CCD-B272-7CEEEAF418AB}"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740DBF20-9B71-42DE-8815-A01DC70D0E5F}"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E60BCE69-D2D6-488B-907B-B41F1D1282CC}"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87C2796A-B442-486E-8AF6-8B44084F0656}"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6A6FBC27-F7B3-4D38-A6C9-E1A53FD77123}"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CCD4CC86-430B-46C0-B411-634973B45F28}"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F408F8B6-1297-4C9E-848E-89C59D56AC02}"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C303199B-7A22-442F-B455-508ABA83938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7871AEEE-D354-4F3A-86F6-D53CA46F051C}"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2B89DC60-2A0C-4C05-99FD-FE5FA976B3D5}"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F4F479EA-218F-430E-8C78-5119AB402054}"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E47467D5-884F-4DCE-8E61-13A46F282DEF}"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5220E258-FCF9-41D9-8213-94A981E49498}"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A9FB5C55-5FE4-4F13-AAE0-B0ED8BA525AA}"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CCD21AED-7A4D-425E-9EFD-AC44E576F1AC}"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9A7D5145-321A-452A-96E0-CA4D14C4C2EE}"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DF24D985-34A4-4E76-B7BD-72632BB2B10B}"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6F39775C-2D22-4BF6-A5D5-404E7D8B8351}"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644ABF5E-AD95-4E18-BB70-E58CC55BDE0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A46A73AE-29EF-4C4C-B142-A9D74C161A82}"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54CEA99B-BBA0-4CB4-828B-C0610568D15B}"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BF206521-B217-409D-A177-FBBF66338C52}"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3069689A-4E41-461E-9410-DADC75E56531}"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5D722465-4D09-406C-A3B4-E51ACD15B74A}"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D50D3524-FAAE-4587-A8AD-7949475575C9}"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71628FBD-17FF-41C1-A301-0FC534EACB48}"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32422CF8-45A2-43EA-9EBD-DA9FD916EE60}"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074CE387-0F3E-4AFB-B6CD-5EBF6B617CA3}"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AFFB2FA1-4F71-46B4-85FE-E2AF1B1B1F45}"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E7E8DF5C-57E5-4AFF-853D-EBF9BD71D03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20410409-50C5-4D3B-8D42-1396F0991D4D}"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7D3C3575-5FA2-436B-AE6C-98A9F3CB5C55}"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AE2C6E9A-7B07-4E75-9636-E0EEB9E7A7B7}"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EA3CD84D-8BC0-4D20-96BD-29E490191416}"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1"/>
          </p:nvPr>
        </p:nvSpPr>
        <p:spPr/>
        <p:txBody>
          <a:bodyPr/>
          <a:p>
            <a:fld id="{6298D27D-E79B-40C9-B9E9-A4691AB00CDA}"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1"/>
          </p:nvPr>
        </p:nvSpPr>
        <p:spPr/>
        <p:txBody>
          <a:bodyPr/>
          <a:p>
            <a:fld id="{FD9069D5-EB72-4AD2-8A34-1919E95E0E3B}"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44A62BB0-4815-4774-AE37-8B3DBC4F91D3}"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89D36FA7-0144-42FD-9DFB-1A8F33289D84}"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9D85E32C-3E80-4CE1-8579-92E13DD77EBB}"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D08AE0A2-5BB3-48FC-A995-D89DB0A623CA}"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1"/>
          </p:nvPr>
        </p:nvSpPr>
        <p:spPr/>
        <p:txBody>
          <a:bodyPr/>
          <a:p>
            <a:fld id="{0A0AE8E3-9746-40E8-85B2-156D2A3DD9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8927A786-D466-4696-8DF5-68511B31AEB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E3CB95B2-C071-4ED3-BE4E-E7FA28083E03}"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1"/>
          </p:nvPr>
        </p:nvSpPr>
        <p:spPr/>
        <p:txBody>
          <a:bodyPr/>
          <a:p>
            <a:fld id="{21396995-BDE7-4E6E-A6FD-B41BFCE9FAAC}"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EDDECDF2-ED91-4AFE-AB28-250EBCD20E78}"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A4A5F9C8-D26D-4946-895D-F86C9CB10159}"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00B0D92B-C8A9-4E8A-9F9A-B3AC33AAB915}"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E5494D48-2C11-4A3A-9BCE-E1F3CFE9A2AB}"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2"/>
          </p:nvPr>
        </p:nvSpPr>
        <p:spPr/>
        <p:txBody>
          <a:bodyPr/>
          <a:p>
            <a:fld id="{7B4D3E7D-F7FF-4579-BB0F-7D00BEFF2BE2}"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2"/>
          </p:nvPr>
        </p:nvSpPr>
        <p:spPr/>
        <p:txBody>
          <a:bodyPr/>
          <a:p>
            <a:fld id="{404874EA-5CEE-4E60-9AB2-D30BF17CC125}"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73FC4638-B974-457B-930F-23D6FA4BE91E}"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06BA057A-45D1-417B-8514-C5333DA7B97D}"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FEA29A9A-39C6-4C3F-AAFA-A015D4C4E47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02549C52-7200-4AA3-AF09-348CE70EEB82}"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1B76A313-098D-447A-8839-9E0FB6122DFF}"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2"/>
          </p:nvPr>
        </p:nvSpPr>
        <p:spPr/>
        <p:txBody>
          <a:bodyPr/>
          <a:p>
            <a:fld id="{52801E46-DF34-491E-887E-287AD8F030DB}"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2"/>
          </p:nvPr>
        </p:nvSpPr>
        <p:spPr/>
        <p:txBody>
          <a:bodyPr/>
          <a:p>
            <a:fld id="{3F619E3B-3099-4AD1-BA8F-9ED8253A51C4}"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4261B69F-6EFE-402B-B5BB-0CC142D6CF5F}"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8B4C5190-C392-4F49-B06C-F28A5519B1F1}"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D8E2662E-A40B-4C80-B517-CE38950FD962}"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B266CB62-1C98-4C17-9504-5E3D299C2C5D}"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454E3B79-056B-4E77-B528-5AA1C751CAF0}"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3"/>
          </p:nvPr>
        </p:nvSpPr>
        <p:spPr/>
        <p:txBody>
          <a:bodyPr/>
          <a:p>
            <a:fld id="{5E1B4D71-8EE0-4F54-81B4-AF5EDF702FE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041C2F13-A557-475C-89B7-135768E0A000}"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3"/>
          </p:nvPr>
        </p:nvSpPr>
        <p:spPr/>
        <p:txBody>
          <a:bodyPr/>
          <a:p>
            <a:fld id="{8E322262-E5EC-4FFA-9FF0-99B91E80D408}"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26870FB8-21CB-49A5-8BEE-947CB348A5CE}"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BAD90F4E-FEF2-48DC-959A-8C99462A14AD}"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AFB4C641-7814-401D-B912-AD6C5BFB4108}"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6D3F4A7A-02B5-42C7-B6C7-D7EA4D106137}"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3"/>
          </p:nvPr>
        </p:nvSpPr>
        <p:spPr/>
        <p:txBody>
          <a:bodyPr/>
          <a:p>
            <a:fld id="{EC8A69BC-62E3-4158-8F6C-4EF110DC970C}"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3"/>
          </p:nvPr>
        </p:nvSpPr>
        <p:spPr/>
        <p:txBody>
          <a:bodyPr/>
          <a:p>
            <a:fld id="{DFC97E88-109E-4489-97D6-690905B90444}"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256D8BE2-4D97-4B6F-8407-1C3ED055929A}"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688D7196-95BF-4273-BD15-709832B8F41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679D21E4-CDF8-4EE0-B710-0192E4E8D7D4}"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FC3E1619-D047-4A55-9FF5-13DD19FADCB1}"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928CC7DE-A663-4E53-A927-F77122359740}"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A5583615-3C47-4928-A146-21A8C8780CE7}"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4"/>
          </p:nvPr>
        </p:nvSpPr>
        <p:spPr/>
        <p:txBody>
          <a:bodyPr/>
          <a:p>
            <a:fld id="{A3B60B31-C8E7-4702-9101-546C9A5D3EEB}"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4"/>
          </p:nvPr>
        </p:nvSpPr>
        <p:spPr/>
        <p:txBody>
          <a:bodyPr/>
          <a:p>
            <a:fld id="{72B54D28-1A13-425D-8F5E-B54B48A960E7}"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48EDB55C-E7A1-41E4-A713-170AF35CCE6B}"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9FBC103E-B83C-4FEA-A1CE-F6C523B041C4}"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C3138F91-E7BD-4CB2-A659-C39FE816EBE5}"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9AF29B8B-3042-4B04-8E73-A9E81F5D7DEF}"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4"/>
          </p:nvPr>
        </p:nvSpPr>
        <p:spPr/>
        <p:txBody>
          <a:bodyPr/>
          <a:p>
            <a:fld id="{225926F3-F357-4FC6-B1CA-E63E0D76263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F64ED0C1-B86C-496D-9510-1F572CD88064}"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4"/>
          </p:nvPr>
        </p:nvSpPr>
        <p:spPr/>
        <p:txBody>
          <a:bodyPr/>
          <a:p>
            <a:fld id="{B59358C5-F6FB-4C4E-A14E-38363765D119}"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B6013720-47F8-4FC5-8F48-EDCCE01F822A}"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831DD435-1D4F-43A5-AB2D-3DAA110324A1}"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60ABFDA2-4703-44B0-AC22-9DC713D0286F}"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C457E77D-A482-424A-A406-093E5CBA62D2}"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5"/>
          </p:nvPr>
        </p:nvSpPr>
        <p:spPr/>
        <p:txBody>
          <a:bodyPr/>
          <a:p>
            <a:fld id="{F432EC59-BF8A-4A5D-9C6C-E48AAE8E1A30}"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5"/>
          </p:nvPr>
        </p:nvSpPr>
        <p:spPr/>
        <p:txBody>
          <a:bodyPr/>
          <a:p>
            <a:fld id="{BEE89230-93FD-4347-8FAB-79F1BD95E765}"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A274B371-BF7F-4773-B9D9-F819EE8878D4}"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1ABDD43A-7A9E-4D07-8868-89561F389AE6}"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BAB0BCB8-7D5A-4E88-AB27-CF7382CD6F6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67006D34-2E5D-465B-8BDD-F112CD0E37BE}"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5"/>
          </p:nvPr>
        </p:nvSpPr>
        <p:spPr/>
        <p:txBody>
          <a:bodyPr/>
          <a:p>
            <a:fld id="{D932FF7C-0822-46F8-9241-1B96AEFCFA07}"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5"/>
          </p:nvPr>
        </p:nvSpPr>
        <p:spPr/>
        <p:txBody>
          <a:bodyPr/>
          <a:p>
            <a:fld id="{7A630D75-46F1-4DD3-BB77-2F185F3379A5}"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A30CDC18-CAD0-42D3-AEF7-6A063E296EBA}"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0DCC0647-1AB3-41EA-975C-D25ADAC1D9B5}"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733B1DE9-3479-4694-AAC2-C86F372491A1}"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5BBA4E61-C81C-4B57-B317-8C71830F27D3}"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6"/>
          </p:nvPr>
        </p:nvSpPr>
        <p:spPr/>
        <p:txBody>
          <a:bodyPr/>
          <a:p>
            <a:fld id="{AEA6ED81-A8B1-4A26-8403-BA1752D6C32A}"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6"/>
          </p:nvPr>
        </p:nvSpPr>
        <p:spPr/>
        <p:txBody>
          <a:bodyPr/>
          <a:p>
            <a:fld id="{39420299-0BBA-4103-8C15-4D24AC88C965}"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1AF091F6-9959-4257-A20A-090A579BC6F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0CDD5190-39AC-4EA5-B619-BF60719D9E5A}"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47FB7FAB-4853-467A-BC43-E1F44A8AA01B}"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BC51942E-8565-441D-9BF0-D31F4793FC6E}"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6"/>
          </p:nvPr>
        </p:nvSpPr>
        <p:spPr/>
        <p:txBody>
          <a:bodyPr/>
          <a:p>
            <a:fld id="{9164A707-BE81-4B8A-9AC0-3A57C8402290}"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6"/>
          </p:nvPr>
        </p:nvSpPr>
        <p:spPr/>
        <p:txBody>
          <a:bodyPr/>
          <a:p>
            <a:fld id="{D00E43EA-257A-43FC-98E0-018ED5353D27}"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8F52EA4C-25CC-48BA-B845-70AE5BB6269C}"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22D81DF7-CA63-4273-8E7C-11793BBA943D}"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BE1F1737-7F9E-45BB-9BDB-2F2553627FB1}"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F46FD83A-F966-455E-8B0E-CDF55B58C939}"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7"/>
          </p:nvPr>
        </p:nvSpPr>
        <p:spPr/>
        <p:txBody>
          <a:bodyPr/>
          <a:p>
            <a:fld id="{74B859E3-2B24-4CFB-956E-5B1D9AD42B4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7"/>
          </p:nvPr>
        </p:nvSpPr>
        <p:spPr/>
        <p:txBody>
          <a:bodyPr/>
          <a:p>
            <a:fld id="{8F2AAB9D-7640-4891-8679-7AD1BB4620BF}"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B2B97414-75F4-423E-9827-77D0CF03EE51}"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1CCAE9E7-7AFD-4C56-9777-44EED998395F}"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54948495-B0A5-4E4C-AFBB-1EA20740929C}"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40D39758-1125-416F-AFBC-D4C99853C141}"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7"/>
          </p:nvPr>
        </p:nvSpPr>
        <p:spPr/>
        <p:txBody>
          <a:bodyPr/>
          <a:p>
            <a:fld id="{1AB9D4AD-46AB-4245-AE63-326EDDDF3659}"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7"/>
          </p:nvPr>
        </p:nvSpPr>
        <p:spPr/>
        <p:txBody>
          <a:bodyPr/>
          <a:p>
            <a:fld id="{A83FD380-F441-4DA8-8538-E1227A1A87F4}"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D119444C-6991-4EC8-926B-1A9E083FAA23}"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67175C01-3C8B-49B3-97F7-1D2E12BB4079}"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B015471D-BAF6-462A-97CF-50EFF5640F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E50F4860-CADB-47ED-9A91-C95D811FAFD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8D0579C8-5177-45E8-A823-22D1011F81D0}"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8"/>
          </p:nvPr>
        </p:nvSpPr>
        <p:spPr/>
        <p:txBody>
          <a:bodyPr/>
          <a:p>
            <a:fld id="{80FBDC9F-BC03-472B-8CB4-66103F489639}"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8"/>
          </p:nvPr>
        </p:nvSpPr>
        <p:spPr/>
        <p:txBody>
          <a:bodyPr/>
          <a:p>
            <a:fld id="{1CF75151-453C-4D5A-AB65-536F3BC5227E}"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B19DD37D-DE1B-4B6A-82A9-F56DDBF600AE}"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4BBD8C54-8761-4D19-B20A-0179B8168FDB}"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FD26EC61-F94E-4715-AF07-AA2C2218C1EC}"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62CC1007-4372-4020-8A72-BD1DBAEDC742}"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8"/>
          </p:nvPr>
        </p:nvSpPr>
        <p:spPr/>
        <p:txBody>
          <a:bodyPr/>
          <a:p>
            <a:fld id="{1794407C-A887-4748-AB0D-6946691055D3}"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8"/>
          </p:nvPr>
        </p:nvSpPr>
        <p:spPr/>
        <p:txBody>
          <a:bodyPr/>
          <a:p>
            <a:fld id="{7DF44A7F-99D6-4EF3-95CE-9FA09BDAABDD}"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A5DE1AE1-1E97-4628-8BCD-31BB2DB250B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47107A11-5BBD-4048-9A56-2C0E6636FA78}"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FC73A67E-57F6-4EBE-B4CE-5439E9FA0995}"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DBD5254C-7335-4EFC-AB3C-C88B97C23306}"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9"/>
          </p:nvPr>
        </p:nvSpPr>
        <p:spPr/>
        <p:txBody>
          <a:bodyPr/>
          <a:p>
            <a:fld id="{E1CE68A2-DFC8-4E21-90B0-678236B83C50}"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9"/>
          </p:nvPr>
        </p:nvSpPr>
        <p:spPr/>
        <p:txBody>
          <a:bodyPr/>
          <a:p>
            <a:fld id="{2BAB3C59-8ADB-446F-9703-03889D4DD063}"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368E0688-D5FC-4F2C-AF13-BCF137D5530E}"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F69CCA80-9B5F-4FCF-B5D0-F928397FECED}"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E8DF43F2-DEE5-49A3-BACA-D48EA155546C}"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E8CBAF5B-83BF-42F3-AF9D-990271A5CDF8}"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9"/>
          </p:nvPr>
        </p:nvSpPr>
        <p:spPr/>
        <p:txBody>
          <a:bodyPr/>
          <a:p>
            <a:fld id="{B3AB48E2-B73F-467A-B97A-D819EF2A606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9"/>
          </p:nvPr>
        </p:nvSpPr>
        <p:spPr/>
        <p:txBody>
          <a:bodyPr/>
          <a:p>
            <a:fld id="{F86F6AB6-06C6-43C6-AEE8-34E2BF961A11}"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CC3BF6AB-A88B-429F-8AB7-B75AFF141F27}"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2F179AC8-5CCD-4A29-BD2B-06195B0CD5B1}"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5834FAD8-4D17-4E43-9E70-392EADB7AF10}"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4CCC1660-CCEC-4CF5-B3AF-35D83DD6D16F}"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0"/>
          </p:nvPr>
        </p:nvSpPr>
        <p:spPr/>
        <p:txBody>
          <a:bodyPr/>
          <a:p>
            <a:fld id="{59FC4747-1F7B-4DFF-AED9-F2ADED3741AA}"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0"/>
          </p:nvPr>
        </p:nvSpPr>
        <p:spPr/>
        <p:txBody>
          <a:bodyPr/>
          <a:p>
            <a:fld id="{660FCAD2-AE2C-4251-A1A6-75D1C9458A14}"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556758D1-DA73-49B3-BF43-B677F1EC8B7F}"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258E9045-8CFC-4CCC-BCBA-D64409648DBF}"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D6B9889A-C279-4DB8-823E-C868C476BFD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D56499A8-8887-4AD9-90C0-3A771C6DAAB3}"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0"/>
          </p:nvPr>
        </p:nvSpPr>
        <p:spPr/>
        <p:txBody>
          <a:bodyPr/>
          <a:p>
            <a:fld id="{AFD2BFEE-36EF-4951-AE1C-0FE8CED49044}"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0"/>
          </p:nvPr>
        </p:nvSpPr>
        <p:spPr/>
        <p:txBody>
          <a:bodyPr/>
          <a:p>
            <a:fld id="{451FC516-C5C7-47E5-A08E-63F90EC7BC6F}"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E75D521F-49EA-4BD4-87AD-70893027F546}"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64AA75E5-3062-4FF3-9E01-7BCE8F9830A4}"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BBE88E0C-A11E-406A-AA50-9E793B7CD048}"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3A82298B-8DF5-4C85-806E-3CBAF792BB82}"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1"/>
          </p:nvPr>
        </p:nvSpPr>
        <p:spPr/>
        <p:txBody>
          <a:bodyPr/>
          <a:p>
            <a:fld id="{20C7C635-0E6D-40CB-9229-6D55AE85D627}"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1"/>
          </p:nvPr>
        </p:nvSpPr>
        <p:spPr/>
        <p:txBody>
          <a:bodyPr/>
          <a:p>
            <a:fld id="{51783F4B-FCA7-41BC-A775-88D55FF0B3F9}"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67AA1804-C871-452E-A83B-436C5CEEDBC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B8A415DA-89CC-4516-8BA8-3D314E02D242}"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61655703-BA07-4528-8A0F-8EAAB74F0B25}"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A5411108-4E2F-43B6-A734-1105B8D37E3E}"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1"/>
          </p:nvPr>
        </p:nvSpPr>
        <p:spPr/>
        <p:txBody>
          <a:bodyPr/>
          <a:p>
            <a:fld id="{4859D19A-0173-47A9-B11B-127C0CC525E0}"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1"/>
          </p:nvPr>
        </p:nvSpPr>
        <p:spPr/>
        <p:txBody>
          <a:bodyPr/>
          <a:p>
            <a:fld id="{9D9B4451-C2F0-4309-8012-5C719D968A0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791061-E0DA-4D53-8ED5-77975F91D3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6EC55C33-567C-4368-9FBC-D7A903115F4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064C5D00-5689-45AD-B2F1-2262BD285C6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727A2A2B-267D-4FB3-9FBB-60F7CDCD1EC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DC54BA5C-52D0-4109-86A5-4ACFA389EA6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40731C5D-2139-410A-86A2-7DF9C08B358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B99A700A-2EC5-4F6D-B1EB-106C496C80B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2F30ADC5-AF90-40EF-B6AA-DDBDEB5AE75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91A7936F-F6D3-4C3D-9A94-C2397CB592E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746B65D7-43F1-40F8-A291-3806640E46E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717038E7-79A8-46DB-AC13-D225E0B87D9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CA987BAF-43DA-4FF6-A519-BDDC7A8A24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5AD53670-D856-4006-9C3E-A7CEFF7CBD9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4DE0BCBB-E026-4120-9AE6-55DFDB4142C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4ACF671-7A4E-4E82-9595-46A9F319CE6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7F0AE491-4F25-418A-BDB9-D472B6B5396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425BC606-1C74-4763-990F-DF1453F9490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03AD8B7A-33AA-4BE4-BECA-3163F26C7DE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F5CF7923-C378-4F86-9C2E-A5859A05BB2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2308C5EC-C59D-40E5-AF03-A8925E77A5D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F86997FD-27B9-4C8B-859E-6393342BBB2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872A3208-E5AC-4458-8D75-869C328E619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A875A7DF-6958-4D65-A929-FDA1C29911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72D4BEFA-90BF-4211-B736-ED5BA8AD33F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016EE357-F602-42FD-921C-9E02D74327F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89D941DA-901D-45F1-81B3-AFA1897779A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31909220-6A47-40E8-ABD1-091FBA8F028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6F07593B-EEAC-4C77-9A4F-9B576D2717D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E24DD58-A5DB-4765-90C8-7ECB23840C2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C87DFAE3-66B4-40EB-A5CA-2597818F71F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16FAA6CB-C2AE-484A-9409-DA6DEAB1A56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4220179B-16F1-4651-936A-081E87D46AD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E045327C-F759-439C-BA32-1CF1BD74B2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40BCF0ED-F48C-4C6B-95ED-C09D56C4AD2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860C28D7-5C7E-480A-B4D9-4B6AC7B1EAA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4E1878EA-9D0C-4BFE-A181-56FFF28EDF5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6657BCE2-C95E-40DE-AC67-BC6D82FA05A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CFEB3CD4-FEAF-46F5-9172-3AA6C3F06CB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E6CA2052-DA9E-4D12-B24A-1897507881B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0292370A-A536-4166-8EA6-F0A93A6DEC2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84494FC7-CEA6-4F7C-9B4D-D8E8C7A7730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3A5A8E8-0E9D-47E7-AB4C-E5C666502C0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28CFD926-7B33-4B87-A546-B83E96A560E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39BDE4DC-090C-4A4C-BC33-92B5594E28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3E7B5-D667-4055-A057-D150E7475E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4"/>
          <p:cNvGrpSpPr/>
          <p:nvPr/>
        </p:nvGrpSpPr>
        <p:grpSpPr>
          <a:xfrm>
            <a:off x="771480" y="6550200"/>
            <a:ext cx="8372520" cy="320400"/>
            <a:chOff x="771480" y="6550200"/>
            <a:chExt cx="8372520" cy="320400"/>
          </a:xfrm>
        </p:grpSpPr>
        <p:sp>
          <p:nvSpPr>
            <p:cNvPr id="37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2"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9E18F-39E0-41DF-BD91-64671B0D68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4"/>
          <p:cNvGrpSpPr/>
          <p:nvPr/>
        </p:nvGrpSpPr>
        <p:grpSpPr>
          <a:xfrm>
            <a:off x="771480" y="6550200"/>
            <a:ext cx="8372520" cy="320400"/>
            <a:chOff x="771480" y="6550200"/>
            <a:chExt cx="8372520" cy="320400"/>
          </a:xfrm>
        </p:grpSpPr>
        <p:sp>
          <p:nvSpPr>
            <p:cNvPr id="42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25"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F4531-EACA-4286-9946-CD40E502C4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771480" y="6550200"/>
            <a:ext cx="8372520" cy="320400"/>
            <a:chOff x="771480" y="6550200"/>
            <a:chExt cx="8372520" cy="320400"/>
          </a:xfrm>
        </p:grpSpPr>
        <p:sp>
          <p:nvSpPr>
            <p:cNvPr id="46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68"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CD2DA-EF27-40D0-9B89-CD8AED3DDD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4"/>
          <p:cNvGrpSpPr/>
          <p:nvPr/>
        </p:nvGrpSpPr>
        <p:grpSpPr>
          <a:xfrm>
            <a:off x="771480" y="6550200"/>
            <a:ext cx="8372520" cy="320400"/>
            <a:chOff x="771480" y="6550200"/>
            <a:chExt cx="8372520" cy="320400"/>
          </a:xfrm>
        </p:grpSpPr>
        <p:sp>
          <p:nvSpPr>
            <p:cNvPr id="50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11"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3EE3A-998C-422B-B947-2EAAFF6A7F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4"/>
          <p:cNvGrpSpPr/>
          <p:nvPr/>
        </p:nvGrpSpPr>
        <p:grpSpPr>
          <a:xfrm>
            <a:off x="771480" y="6550200"/>
            <a:ext cx="8372520" cy="320400"/>
            <a:chOff x="771480" y="6550200"/>
            <a:chExt cx="8372520" cy="320400"/>
          </a:xfrm>
        </p:grpSpPr>
        <p:sp>
          <p:nvSpPr>
            <p:cNvPr id="54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5"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A1980-9657-4E6A-B339-ECAF9A6216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Group 4"/>
          <p:cNvGrpSpPr/>
          <p:nvPr/>
        </p:nvGrpSpPr>
        <p:grpSpPr>
          <a:xfrm>
            <a:off x="771480" y="6550200"/>
            <a:ext cx="8372520" cy="320400"/>
            <a:chOff x="771480" y="6550200"/>
            <a:chExt cx="8372520" cy="320400"/>
          </a:xfrm>
        </p:grpSpPr>
        <p:sp>
          <p:nvSpPr>
            <p:cNvPr id="59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98"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15C91-BFC5-4054-BB31-FCA65B90B0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 name="Group 4"/>
          <p:cNvGrpSpPr/>
          <p:nvPr/>
        </p:nvGrpSpPr>
        <p:grpSpPr>
          <a:xfrm>
            <a:off x="771480" y="6550200"/>
            <a:ext cx="8372520" cy="320400"/>
            <a:chOff x="771480" y="6550200"/>
            <a:chExt cx="8372520" cy="320400"/>
          </a:xfrm>
        </p:grpSpPr>
        <p:sp>
          <p:nvSpPr>
            <p:cNvPr id="675"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6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81"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6A957-FBF0-4716-93A6-B03054B67C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5EE19-11FB-487D-9B23-ACB1D1CF01A6}"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719" name="Group 6"/>
          <p:cNvGrpSpPr/>
          <p:nvPr/>
        </p:nvGrpSpPr>
        <p:grpSpPr>
          <a:xfrm>
            <a:off x="771480" y="6550200"/>
            <a:ext cx="8372520" cy="320400"/>
            <a:chOff x="771480" y="6550200"/>
            <a:chExt cx="8372520" cy="320400"/>
          </a:xfrm>
        </p:grpSpPr>
        <p:sp>
          <p:nvSpPr>
            <p:cNvPr id="720"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 name="Group 4"/>
          <p:cNvGrpSpPr/>
          <p:nvPr/>
        </p:nvGrpSpPr>
        <p:grpSpPr>
          <a:xfrm>
            <a:off x="771480" y="6541560"/>
            <a:ext cx="8372520" cy="321120"/>
            <a:chOff x="771480" y="6541560"/>
            <a:chExt cx="8372520" cy="321120"/>
          </a:xfrm>
        </p:grpSpPr>
        <p:sp>
          <p:nvSpPr>
            <p:cNvPr id="762"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6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EFCA3-210B-436E-8EBB-124B92A9E7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1" name="PlaceHolder 3"/>
          <p:cNvSpPr>
            <a:spLocks noGrp="1"/>
          </p:cNvSpPr>
          <p:nvPr>
            <p:ph type="sldNum" idx="2"/>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EEECF-D73D-4C05-9702-B74D954EB2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771480" y="6541560"/>
            <a:ext cx="8372520" cy="321120"/>
            <a:chOff x="771480" y="6541560"/>
            <a:chExt cx="8372520" cy="321120"/>
          </a:xfrm>
        </p:grpSpPr>
        <p:sp>
          <p:nvSpPr>
            <p:cNvPr id="806"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12"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EC17F-48B4-4A29-9441-7C19C8D995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Group 4"/>
          <p:cNvGrpSpPr/>
          <p:nvPr/>
        </p:nvGrpSpPr>
        <p:grpSpPr>
          <a:xfrm>
            <a:off x="771480" y="6550200"/>
            <a:ext cx="8372520" cy="320400"/>
            <a:chOff x="771480" y="6550200"/>
            <a:chExt cx="8372520" cy="320400"/>
          </a:xfrm>
        </p:grpSpPr>
        <p:sp>
          <p:nvSpPr>
            <p:cNvPr id="85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6"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E46C0-4EF9-4B8B-8374-852512F3BE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3" name="Group 4"/>
          <p:cNvGrpSpPr/>
          <p:nvPr/>
        </p:nvGrpSpPr>
        <p:grpSpPr>
          <a:xfrm>
            <a:off x="771480" y="6550200"/>
            <a:ext cx="8372520" cy="320400"/>
            <a:chOff x="771480" y="6550200"/>
            <a:chExt cx="8372520" cy="320400"/>
          </a:xfrm>
        </p:grpSpPr>
        <p:sp>
          <p:nvSpPr>
            <p:cNvPr id="89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99"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03884-D846-4DCB-88F7-EF035DC017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4"/>
          <p:cNvGrpSpPr/>
          <p:nvPr/>
        </p:nvGrpSpPr>
        <p:grpSpPr>
          <a:xfrm>
            <a:off x="771480" y="6550200"/>
            <a:ext cx="8372520" cy="320400"/>
            <a:chOff x="771480" y="6550200"/>
            <a:chExt cx="8372520" cy="320400"/>
          </a:xfrm>
        </p:grpSpPr>
        <p:sp>
          <p:nvSpPr>
            <p:cNvPr id="93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42"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00037-F780-476E-B11A-882583AB87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Group 4"/>
          <p:cNvGrpSpPr/>
          <p:nvPr/>
        </p:nvGrpSpPr>
        <p:grpSpPr>
          <a:xfrm>
            <a:off x="771480" y="6550200"/>
            <a:ext cx="8372520" cy="320400"/>
            <a:chOff x="771480" y="6550200"/>
            <a:chExt cx="8372520" cy="320400"/>
          </a:xfrm>
        </p:grpSpPr>
        <p:sp>
          <p:nvSpPr>
            <p:cNvPr id="98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5"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5445C-27F7-4DA9-B494-8EBDEB79A5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2" name="Group 4"/>
          <p:cNvGrpSpPr/>
          <p:nvPr/>
        </p:nvGrpSpPr>
        <p:grpSpPr>
          <a:xfrm>
            <a:off x="771480" y="6550200"/>
            <a:ext cx="8372520" cy="320400"/>
            <a:chOff x="771480" y="6550200"/>
            <a:chExt cx="8372520" cy="320400"/>
          </a:xfrm>
        </p:grpSpPr>
        <p:sp>
          <p:nvSpPr>
            <p:cNvPr id="102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29"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A7876-80E4-4DF3-A113-DE40650BFD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4"/>
          <p:cNvGrpSpPr/>
          <p:nvPr/>
        </p:nvGrpSpPr>
        <p:grpSpPr>
          <a:xfrm>
            <a:off x="771480" y="6550200"/>
            <a:ext cx="8372520" cy="320400"/>
            <a:chOff x="771480" y="6550200"/>
            <a:chExt cx="8372520" cy="320400"/>
          </a:xfrm>
        </p:grpSpPr>
        <p:sp>
          <p:nvSpPr>
            <p:cNvPr id="106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72"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CCEA7-38F5-4F49-BF49-A3D6A5DC87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4"/>
          <p:cNvGrpSpPr/>
          <p:nvPr/>
        </p:nvGrpSpPr>
        <p:grpSpPr>
          <a:xfrm>
            <a:off x="771480" y="6550200"/>
            <a:ext cx="8372520" cy="320400"/>
            <a:chOff x="771480" y="6550200"/>
            <a:chExt cx="8372520" cy="320400"/>
          </a:xfrm>
        </p:grpSpPr>
        <p:sp>
          <p:nvSpPr>
            <p:cNvPr id="114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155" name="PlaceHolder 3"/>
          <p:cNvSpPr>
            <a:spLocks noGrp="1"/>
          </p:cNvSpPr>
          <p:nvPr>
            <p:ph type="sldNum" idx="2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C5125-7F11-4836-981E-7EFE55FE8E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E8AB9-ECDA-48CE-BC77-EF678AB3EA58}"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193" name="Group 6"/>
          <p:cNvGrpSpPr/>
          <p:nvPr/>
        </p:nvGrpSpPr>
        <p:grpSpPr>
          <a:xfrm>
            <a:off x="771480" y="6550200"/>
            <a:ext cx="8372520" cy="320400"/>
            <a:chOff x="771480" y="6550200"/>
            <a:chExt cx="8372520" cy="320400"/>
          </a:xfrm>
        </p:grpSpPr>
        <p:sp>
          <p:nvSpPr>
            <p:cNvPr id="119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0" name="PlaceHolder 3"/>
          <p:cNvSpPr>
            <a:spLocks noGrp="1"/>
          </p:cNvSpPr>
          <p:nvPr>
            <p:ph type="sldNum" idx="3"/>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73DB5-4D17-4251-B12E-0A4C1FD869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4"/>
          <p:cNvGrpSpPr/>
          <p:nvPr/>
        </p:nvGrpSpPr>
        <p:grpSpPr>
          <a:xfrm>
            <a:off x="771480" y="6541560"/>
            <a:ext cx="8372520" cy="321120"/>
            <a:chOff x="771480" y="6541560"/>
            <a:chExt cx="8372520" cy="321120"/>
          </a:xfrm>
        </p:grpSpPr>
        <p:sp>
          <p:nvSpPr>
            <p:cNvPr id="123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42" name="PlaceHolder 3"/>
          <p:cNvSpPr>
            <a:spLocks noGrp="1"/>
          </p:cNvSpPr>
          <p:nvPr>
            <p:ph type="sldNum" idx="2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33B33-A089-4417-8360-A6A8119B03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9" name="Group 4"/>
          <p:cNvGrpSpPr/>
          <p:nvPr/>
        </p:nvGrpSpPr>
        <p:grpSpPr>
          <a:xfrm>
            <a:off x="771480" y="6541560"/>
            <a:ext cx="8372520" cy="321120"/>
            <a:chOff x="771480" y="6541560"/>
            <a:chExt cx="8372520" cy="321120"/>
          </a:xfrm>
        </p:grpSpPr>
        <p:sp>
          <p:nvSpPr>
            <p:cNvPr id="128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86" name="PlaceHolder 3"/>
          <p:cNvSpPr>
            <a:spLocks noGrp="1"/>
          </p:cNvSpPr>
          <p:nvPr>
            <p:ph type="sldNum" idx="2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4CB8F-38B9-4D4F-A4C8-C2764D46EB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Group 4"/>
          <p:cNvGrpSpPr/>
          <p:nvPr/>
        </p:nvGrpSpPr>
        <p:grpSpPr>
          <a:xfrm>
            <a:off x="771480" y="6550200"/>
            <a:ext cx="8372520" cy="320400"/>
            <a:chOff x="771480" y="6550200"/>
            <a:chExt cx="8372520" cy="320400"/>
          </a:xfrm>
        </p:grpSpPr>
        <p:sp>
          <p:nvSpPr>
            <p:cNvPr id="132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30" name="PlaceHolder 3"/>
          <p:cNvSpPr>
            <a:spLocks noGrp="1"/>
          </p:cNvSpPr>
          <p:nvPr>
            <p:ph type="sldNum" idx="2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40B31-E0D5-4A7D-A507-78B98816F8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7" name="Group 4"/>
          <p:cNvGrpSpPr/>
          <p:nvPr/>
        </p:nvGrpSpPr>
        <p:grpSpPr>
          <a:xfrm>
            <a:off x="771480" y="6550200"/>
            <a:ext cx="8372520" cy="320400"/>
            <a:chOff x="771480" y="6550200"/>
            <a:chExt cx="8372520" cy="320400"/>
          </a:xfrm>
        </p:grpSpPr>
        <p:sp>
          <p:nvSpPr>
            <p:cNvPr id="136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73" name="PlaceHolder 3"/>
          <p:cNvSpPr>
            <a:spLocks noGrp="1"/>
          </p:cNvSpPr>
          <p:nvPr>
            <p:ph type="sldNum" idx="2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27C2F-2E95-4478-B1AA-5DF1B96F9F0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0" name="Group 4"/>
          <p:cNvGrpSpPr/>
          <p:nvPr/>
        </p:nvGrpSpPr>
        <p:grpSpPr>
          <a:xfrm>
            <a:off x="771480" y="6550200"/>
            <a:ext cx="8372520" cy="320400"/>
            <a:chOff x="771480" y="6550200"/>
            <a:chExt cx="8372520" cy="320400"/>
          </a:xfrm>
        </p:grpSpPr>
        <p:sp>
          <p:nvSpPr>
            <p:cNvPr id="141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16" name="PlaceHolder 3"/>
          <p:cNvSpPr>
            <a:spLocks noGrp="1"/>
          </p:cNvSpPr>
          <p:nvPr>
            <p:ph type="sldNum" idx="2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15DA8-721D-4072-99BF-FC18B022CD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Group 4"/>
          <p:cNvGrpSpPr/>
          <p:nvPr/>
        </p:nvGrpSpPr>
        <p:grpSpPr>
          <a:xfrm>
            <a:off x="771480" y="6550200"/>
            <a:ext cx="8372520" cy="320400"/>
            <a:chOff x="771480" y="6550200"/>
            <a:chExt cx="8372520" cy="320400"/>
          </a:xfrm>
        </p:grpSpPr>
        <p:sp>
          <p:nvSpPr>
            <p:cNvPr id="14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4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59" name="PlaceHolder 3"/>
          <p:cNvSpPr>
            <a:spLocks noGrp="1"/>
          </p:cNvSpPr>
          <p:nvPr>
            <p:ph type="sldNum" idx="2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1A0B8-44F3-423B-9937-77E6C064F19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6" name="Group 4"/>
          <p:cNvGrpSpPr/>
          <p:nvPr/>
        </p:nvGrpSpPr>
        <p:grpSpPr>
          <a:xfrm>
            <a:off x="771480" y="6550200"/>
            <a:ext cx="8372520" cy="320400"/>
            <a:chOff x="771480" y="6550200"/>
            <a:chExt cx="8372520" cy="320400"/>
          </a:xfrm>
        </p:grpSpPr>
        <p:sp>
          <p:nvSpPr>
            <p:cNvPr id="149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03" name="PlaceHolder 3"/>
          <p:cNvSpPr>
            <a:spLocks noGrp="1"/>
          </p:cNvSpPr>
          <p:nvPr>
            <p:ph type="sldNum" idx="3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347A8-CE22-4E86-B67A-A8BD345DE6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0" name="Group 4"/>
          <p:cNvGrpSpPr/>
          <p:nvPr/>
        </p:nvGrpSpPr>
        <p:grpSpPr>
          <a:xfrm>
            <a:off x="771480" y="6550200"/>
            <a:ext cx="8372520" cy="320400"/>
            <a:chOff x="771480" y="6550200"/>
            <a:chExt cx="8372520" cy="320400"/>
          </a:xfrm>
        </p:grpSpPr>
        <p:sp>
          <p:nvSpPr>
            <p:cNvPr id="15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5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46" name="PlaceHolder 3"/>
          <p:cNvSpPr>
            <a:spLocks noGrp="1"/>
          </p:cNvSpPr>
          <p:nvPr>
            <p:ph type="sldNum" idx="3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72577-7942-4636-A163-E3D7F4DD6C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771480" y="6550200"/>
            <a:ext cx="8372520" cy="320400"/>
            <a:chOff x="771480" y="6550200"/>
            <a:chExt cx="8372520" cy="320400"/>
          </a:xfrm>
        </p:grpSpPr>
        <p:sp>
          <p:nvSpPr>
            <p:cNvPr id="157"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63" name="PlaceHolder 3"/>
          <p:cNvSpPr>
            <a:spLocks noGrp="1"/>
          </p:cNvSpPr>
          <p:nvPr>
            <p:ph type="sldNum" idx="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FF487-6E36-4ABD-9BB0-2D3DCB5C1A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
          <p:cNvGrpSpPr/>
          <p:nvPr/>
        </p:nvGrpSpPr>
        <p:grpSpPr>
          <a:xfrm>
            <a:off x="771480" y="6550200"/>
            <a:ext cx="8372520" cy="320400"/>
            <a:chOff x="771480" y="6550200"/>
            <a:chExt cx="8372520" cy="320400"/>
          </a:xfrm>
        </p:grpSpPr>
        <p:sp>
          <p:nvSpPr>
            <p:cNvPr id="201"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07"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53BA8-AED7-447F-8978-A943221504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AA437-1596-4920-BE03-AD60A425678A}"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245" name="Group 6"/>
          <p:cNvGrpSpPr/>
          <p:nvPr/>
        </p:nvGrpSpPr>
        <p:grpSpPr>
          <a:xfrm>
            <a:off x="771480" y="6550200"/>
            <a:ext cx="8372520" cy="320400"/>
            <a:chOff x="771480" y="6550200"/>
            <a:chExt cx="8372520" cy="320400"/>
          </a:xfrm>
        </p:grpSpPr>
        <p:sp>
          <p:nvSpPr>
            <p:cNvPr id="246"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4"/>
          <p:cNvGrpSpPr/>
          <p:nvPr/>
        </p:nvGrpSpPr>
        <p:grpSpPr>
          <a:xfrm>
            <a:off x="771480" y="6541560"/>
            <a:ext cx="8372520" cy="321120"/>
            <a:chOff x="771480" y="6541560"/>
            <a:chExt cx="8372520" cy="321120"/>
          </a:xfrm>
        </p:grpSpPr>
        <p:sp>
          <p:nvSpPr>
            <p:cNvPr id="288"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9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2F70B-9AC8-4005-B88D-5AB67422DD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4"/>
          <p:cNvGrpSpPr/>
          <p:nvPr/>
        </p:nvGrpSpPr>
        <p:grpSpPr>
          <a:xfrm>
            <a:off x="771480" y="6541560"/>
            <a:ext cx="8372520" cy="321120"/>
            <a:chOff x="771480" y="6541560"/>
            <a:chExt cx="8372520" cy="321120"/>
          </a:xfrm>
        </p:grpSpPr>
        <p:sp>
          <p:nvSpPr>
            <p:cNvPr id="332"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38"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15D7F-5E0E-4A51-BD2B-AEDD884190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120" y="2666880"/>
            <a:ext cx="769644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Deep Dive into the Math Shifts </a:t>
            </a:r>
            <a:br>
              <a:rPr sz="4000"/>
            </a:br>
            <a:endParaRPr b="1" lang="en-US" sz="4000" spc="-1" strike="noStrike">
              <a:solidFill>
                <a:srgbClr val="17375e"/>
              </a:solidFill>
              <a:latin typeface="Century Gothic"/>
            </a:endParaRPr>
          </a:p>
        </p:txBody>
      </p:sp>
      <p:sp>
        <p:nvSpPr>
          <p:cNvPr id="1591" name="PlaceHolder 2"/>
          <p:cNvSpPr>
            <a:spLocks noGrp="1"/>
          </p:cNvSpPr>
          <p:nvPr>
            <p:ph type="subTitle"/>
          </p:nvPr>
        </p:nvSpPr>
        <p:spPr>
          <a:xfrm>
            <a:off x="685800" y="4271760"/>
            <a:ext cx="6400800" cy="1344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Understanding Focus, Coherence, and Rigor in the Common Core State Standards for Mathematics</a:t>
            </a:r>
            <a:endParaRPr b="0" lang="en-US" sz="2800" spc="-1" strike="noStrike">
              <a:solidFill>
                <a:srgbClr val="262626"/>
              </a:solidFill>
              <a:latin typeface="Calibri"/>
            </a:endParaRPr>
          </a:p>
        </p:txBody>
      </p:sp>
      <p:pic>
        <p:nvPicPr>
          <p:cNvPr id="1592" name="Picture 5" descr="C:\Users\SAP\Desktop\SAP_iTunesCover_square_01.jpg"/>
          <p:cNvPicPr/>
          <p:nvPr/>
        </p:nvPicPr>
        <p:blipFill>
          <a:blip r:embed="rId1"/>
          <a:stretch/>
        </p:blipFill>
        <p:spPr>
          <a:xfrm>
            <a:off x="7772400" y="152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K-2 Content</a:t>
            </a:r>
            <a:endParaRPr b="1" lang="en-US" sz="2800" spc="-1" strike="noStrike">
              <a:solidFill>
                <a:srgbClr val="17375e"/>
              </a:solidFill>
              <a:latin typeface="Century Gothic"/>
            </a:endParaRPr>
          </a:p>
        </p:txBody>
      </p:sp>
      <p:sp>
        <p:nvSpPr>
          <p:cNvPr id="160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K-2?</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a:t>
            </a:r>
            <a:r>
              <a:rPr b="1" lang="en-US" sz="2400" spc="-1" strike="noStrike">
                <a:solidFill>
                  <a:srgbClr val="262626"/>
                </a:solidFill>
                <a:latin typeface="Calibri"/>
              </a:rPr>
              <a:t>,</a:t>
            </a:r>
            <a:r>
              <a:rPr b="0" lang="en-US" sz="2400" spc="-1" strike="noStrike">
                <a:solidFill>
                  <a:srgbClr val="262626"/>
                </a:solidFill>
                <a:latin typeface="Calibri"/>
              </a:rPr>
              <a:t>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3" descr="Grade 3.PNG"/>
          <p:cNvPicPr/>
          <p:nvPr/>
        </p:nvPicPr>
        <p:blipFill>
          <a:blip r:embed="rId1"/>
          <a:stretch/>
        </p:blipFill>
        <p:spPr>
          <a:xfrm>
            <a:off x="2028960" y="352440"/>
            <a:ext cx="5086080" cy="61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7" name="Picture 3" descr="CEC Grade 3.PNG"/>
          <p:cNvPicPr/>
          <p:nvPr/>
        </p:nvPicPr>
        <p:blipFill>
          <a:blip r:embed="rId1"/>
          <a:stretch/>
        </p:blipFill>
        <p:spPr>
          <a:xfrm>
            <a:off x="1228680" y="871560"/>
            <a:ext cx="668664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3" descr="Grade 4.PNG"/>
          <p:cNvPicPr/>
          <p:nvPr/>
        </p:nvPicPr>
        <p:blipFill>
          <a:blip r:embed="rId1"/>
          <a:stretch/>
        </p:blipFill>
        <p:spPr>
          <a:xfrm>
            <a:off x="2071800" y="0"/>
            <a:ext cx="5000400" cy="64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9" name="Picture 3" descr="CEC Grade 4.PNG"/>
          <p:cNvPicPr/>
          <p:nvPr/>
        </p:nvPicPr>
        <p:blipFill>
          <a:blip r:embed="rId1"/>
          <a:stretch/>
        </p:blipFill>
        <p:spPr>
          <a:xfrm>
            <a:off x="1200240" y="1095480"/>
            <a:ext cx="6743520" cy="46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Grade 5.PNG"/>
          <p:cNvPicPr/>
          <p:nvPr/>
        </p:nvPicPr>
        <p:blipFill>
          <a:blip r:embed="rId1"/>
          <a:stretch/>
        </p:blipFill>
        <p:spPr>
          <a:xfrm>
            <a:off x="2000160" y="380880"/>
            <a:ext cx="51436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1" name="Picture 3" descr="CEC Grade 5.PNG"/>
          <p:cNvPicPr/>
          <p:nvPr/>
        </p:nvPicPr>
        <p:blipFill>
          <a:blip r:embed="rId1"/>
          <a:stretch/>
        </p:blipFill>
        <p:spPr>
          <a:xfrm>
            <a:off x="1195560" y="1190520"/>
            <a:ext cx="6752880" cy="447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3-5 Content</a:t>
            </a:r>
            <a:endParaRPr b="1" lang="en-US" sz="2800" spc="-1" strike="noStrike">
              <a:solidFill>
                <a:srgbClr val="17375e"/>
              </a:solidFill>
              <a:latin typeface="Century Gothic"/>
            </a:endParaRPr>
          </a:p>
        </p:txBody>
      </p:sp>
      <p:sp>
        <p:nvSpPr>
          <p:cNvPr id="161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3-5?</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4" descr="Grade 6.PNG"/>
          <p:cNvPicPr/>
          <p:nvPr/>
        </p:nvPicPr>
        <p:blipFill>
          <a:blip r:embed="rId1"/>
          <a:stretch/>
        </p:blipFill>
        <p:spPr>
          <a:xfrm>
            <a:off x="1976400" y="385920"/>
            <a:ext cx="5191200" cy="60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3" descr="CEC Grade 6.PNG"/>
          <p:cNvPicPr/>
          <p:nvPr/>
        </p:nvPicPr>
        <p:blipFill>
          <a:blip r:embed="rId1"/>
          <a:stretch/>
        </p:blipFill>
        <p:spPr>
          <a:xfrm>
            <a:off x="1190520" y="1366920"/>
            <a:ext cx="6762960" cy="41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59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595"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Grade 7.PNG"/>
          <p:cNvPicPr/>
          <p:nvPr/>
        </p:nvPicPr>
        <p:blipFill>
          <a:blip r:embed="rId1"/>
          <a:stretch/>
        </p:blipFill>
        <p:spPr>
          <a:xfrm>
            <a:off x="2066760" y="0"/>
            <a:ext cx="4981680" cy="649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7" name="Picture 3" descr="CEC Grade 7.PNG"/>
          <p:cNvPicPr/>
          <p:nvPr/>
        </p:nvPicPr>
        <p:blipFill>
          <a:blip r:embed="rId1"/>
          <a:stretch/>
        </p:blipFill>
        <p:spPr>
          <a:xfrm>
            <a:off x="1143000" y="1523880"/>
            <a:ext cx="6745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3" descr="Grade 8.PNG"/>
          <p:cNvPicPr/>
          <p:nvPr/>
        </p:nvPicPr>
        <p:blipFill>
          <a:blip r:embed="rId1"/>
          <a:stretch/>
        </p:blipFill>
        <p:spPr>
          <a:xfrm>
            <a:off x="2028960" y="6480"/>
            <a:ext cx="5086080" cy="63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371600" y="1981080"/>
            <a:ext cx="6438960" cy="3305160"/>
          </a:xfrm>
          <a:prstGeom prst="rect">
            <a:avLst/>
          </a:prstGeom>
          <a:ln w="0">
            <a:noFill/>
          </a:ln>
        </p:spPr>
      </p:pic>
      <p:pic>
        <p:nvPicPr>
          <p:cNvPr id="1620" name="Picture 3" descr=""/>
          <p:cNvPicPr/>
          <p:nvPr/>
        </p:nvPicPr>
        <p:blipFill>
          <a:blip r:embed="rId2"/>
          <a:stretch/>
        </p:blipFill>
        <p:spPr>
          <a:xfrm>
            <a:off x="1333440" y="1571760"/>
            <a:ext cx="2857680" cy="40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6-8 Content</a:t>
            </a:r>
            <a:endParaRPr b="1" lang="en-US" sz="2800" spc="-1" strike="noStrike">
              <a:solidFill>
                <a:srgbClr val="17375e"/>
              </a:solidFill>
              <a:latin typeface="Century Gothic"/>
            </a:endParaRPr>
          </a:p>
        </p:txBody>
      </p:sp>
      <p:sp>
        <p:nvSpPr>
          <p:cNvPr id="1622"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6-8?</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Coherence </a:t>
            </a:r>
            <a:r>
              <a:rPr b="1" lang="en-US" sz="6000" spc="-1" strike="noStrike">
                <a:solidFill>
                  <a:srgbClr val="17375e"/>
                </a:solidFill>
                <a:latin typeface="Century Gothic"/>
              </a:rPr>
              <a:t>Across and Within Grades</a:t>
            </a:r>
            <a:endParaRPr b="1" lang="en-US" sz="6000" spc="-1" strike="noStrike">
              <a:solidFill>
                <a:srgbClr val="17375e"/>
              </a:solidFill>
              <a:latin typeface="Century Gothic"/>
            </a:endParaRPr>
          </a:p>
        </p:txBody>
      </p:sp>
      <p:sp>
        <p:nvSpPr>
          <p:cNvPr id="1624"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bout math making sense.</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power and elegance of math comes out through carefully laid progressions and connections within grade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Within Grades</a:t>
            </a:r>
            <a:endParaRPr b="1" lang="en-US" sz="2800" spc="-1" strike="noStrike">
              <a:solidFill>
                <a:srgbClr val="17375e"/>
              </a:solidFill>
              <a:latin typeface="Century Gothic"/>
            </a:endParaRPr>
          </a:p>
        </p:txBody>
      </p:sp>
      <p:sp>
        <p:nvSpPr>
          <p:cNvPr id="162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amples:</a:t>
            </a:r>
            <a:endParaRPr b="0" lang="en-US" sz="24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1</a:t>
            </a:r>
            <a:r>
              <a:rPr b="0" lang="en-US" sz="2000" spc="-1" strike="noStrike" baseline="30000">
                <a:solidFill>
                  <a:srgbClr val="262626"/>
                </a:solidFill>
                <a:latin typeface="Calibri"/>
              </a:rPr>
              <a:t>st</a:t>
            </a:r>
            <a:r>
              <a:rPr b="0" lang="en-US" sz="2000" spc="-1" strike="noStrike">
                <a:solidFill>
                  <a:srgbClr val="262626"/>
                </a:solidFill>
                <a:latin typeface="Calibri"/>
              </a:rPr>
              <a:t> grade – 5</a:t>
            </a:r>
            <a:r>
              <a:rPr b="0" lang="en-US" sz="2000" spc="-1" strike="noStrike" baseline="30000">
                <a:solidFill>
                  <a:srgbClr val="262626"/>
                </a:solidFill>
                <a:latin typeface="Calibri"/>
              </a:rPr>
              <a:t>th</a:t>
            </a:r>
            <a:r>
              <a:rPr b="0" lang="en-US" sz="2000" spc="-1" strike="noStrike">
                <a:solidFill>
                  <a:srgbClr val="262626"/>
                </a:solidFill>
                <a:latin typeface="Calibri"/>
              </a:rPr>
              <a:t> grade:   Represent and Interpret Data</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a:t>
            </a:r>
            <a:r>
              <a:rPr b="0" lang="en-US" sz="2000" spc="-1" strike="noStrike" baseline="30000">
                <a:solidFill>
                  <a:srgbClr val="262626"/>
                </a:solidFill>
                <a:latin typeface="Calibri"/>
              </a:rPr>
              <a:t>rd</a:t>
            </a:r>
            <a:r>
              <a:rPr b="0" lang="en-US" sz="2000" spc="-1" strike="noStrike">
                <a:solidFill>
                  <a:srgbClr val="262626"/>
                </a:solidFill>
                <a:latin typeface="Calibri"/>
              </a:rPr>
              <a:t> grade &amp; 5</a:t>
            </a:r>
            <a:r>
              <a:rPr b="0" lang="en-US" sz="2000" spc="-1" strike="noStrike" baseline="30000">
                <a:solidFill>
                  <a:srgbClr val="262626"/>
                </a:solidFill>
                <a:latin typeface="Calibri"/>
              </a:rPr>
              <a:t>th</a:t>
            </a:r>
            <a:r>
              <a:rPr b="0" lang="en-US" sz="2000" spc="-1" strike="noStrike">
                <a:solidFill>
                  <a:srgbClr val="262626"/>
                </a:solidFill>
                <a:latin typeface="Calibri"/>
              </a:rPr>
              <a:t> grade:  “Relate area (volume) to multiplication and to addition.”</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6</a:t>
            </a:r>
            <a:r>
              <a:rPr b="0" lang="en-US" sz="2000" spc="-1" strike="noStrike" baseline="30000">
                <a:solidFill>
                  <a:srgbClr val="262626"/>
                </a:solidFill>
                <a:latin typeface="Calibri"/>
              </a:rPr>
              <a:t>th</a:t>
            </a:r>
            <a:r>
              <a:rPr b="0" lang="en-US" sz="2000" spc="-1" strike="noStrike">
                <a:solidFill>
                  <a:srgbClr val="262626"/>
                </a:solidFill>
                <a:latin typeface="Calibri"/>
              </a:rPr>
              <a:t> grade:  Solve problems by graphing in all 4 quadrants.  (1</a:t>
            </a:r>
            <a:r>
              <a:rPr b="0" lang="en-US" sz="2000" spc="-1" strike="noStrike" baseline="30000">
                <a:solidFill>
                  <a:srgbClr val="262626"/>
                </a:solidFill>
                <a:latin typeface="Calibri"/>
              </a:rPr>
              <a:t>st</a:t>
            </a:r>
            <a:r>
              <a:rPr b="0" lang="en-US" sz="2000" spc="-1" strike="noStrike">
                <a:solidFill>
                  <a:srgbClr val="262626"/>
                </a:solidFill>
                <a:latin typeface="Calibri"/>
              </a:rPr>
              <a:t> year of rational number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8</a:t>
            </a:r>
            <a:r>
              <a:rPr b="0" lang="en-US" sz="2000" spc="-1" strike="noStrike" baseline="30000">
                <a:solidFill>
                  <a:srgbClr val="262626"/>
                </a:solidFill>
                <a:latin typeface="Calibri"/>
              </a:rPr>
              <a:t>th</a:t>
            </a:r>
            <a:r>
              <a:rPr b="0" lang="en-US" sz="2000" spc="-1" strike="noStrike">
                <a:solidFill>
                  <a:srgbClr val="262626"/>
                </a:solidFill>
                <a:latin typeface="Calibri"/>
              </a:rPr>
              <a:t> grade:  “Understand the connections between proportional relationships, lines and linear equation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2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Use addition and subtraction within 100 to solve word problems involving lengths that are given in the same units, e.g., by using drawings (such as drawings of rulers) and equations with a symbol for the unknown number to represent the proble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2.MD.5</a:t>
            </a:r>
            <a:endParaRPr b="0" lang="en-US" sz="2000" spc="-1" strike="noStrike">
              <a:solidFill>
                <a:srgbClr val="262626"/>
              </a:solidFill>
              <a:latin typeface="Calibri"/>
            </a:endParaRPr>
          </a:p>
        </p:txBody>
      </p:sp>
      <p:sp>
        <p:nvSpPr>
          <p:cNvPr id="162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2AEFE-C31A-4AF1-B126-AD5EA0AF136B}"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31"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ke a line plot to display a data set of measurements in fractions of a unit ( ½, ¼, </a:t>
            </a:r>
            <a:r>
              <a:rPr b="0" lang="en-US" sz="1600" spc="-1" strike="noStrike">
                <a:solidFill>
                  <a:srgbClr val="262626"/>
                </a:solidFill>
                <a:latin typeface="Calibri"/>
              </a:rPr>
              <a:t>1/8</a:t>
            </a:r>
            <a:r>
              <a:rPr b="0" lang="en-US" sz="2000" spc="-1" strike="noStrike">
                <a:solidFill>
                  <a:srgbClr val="262626"/>
                </a:solidFill>
                <a:latin typeface="Calibri"/>
              </a:rPr>
              <a:t>).  Solve problems involving addition and subtraction of fractions by using information presented in line plots.  </a:t>
            </a:r>
            <a:r>
              <a:rPr b="0" i="1" lang="en-US" sz="2000" spc="-1" strike="noStrike">
                <a:solidFill>
                  <a:srgbClr val="262626"/>
                </a:solidFill>
                <a:latin typeface="Calibri"/>
              </a:rPr>
              <a:t>For example, from a line plot find and interpret the difference in length between the longest and shortest specimens in an insect collection.</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4.MD.4</a:t>
            </a:r>
            <a:endParaRPr b="0" lang="en-US" sz="2400" spc="-1" strike="noStrike">
              <a:solidFill>
                <a:srgbClr val="262626"/>
              </a:solidFill>
              <a:latin typeface="Calibri"/>
            </a:endParaRPr>
          </a:p>
        </p:txBody>
      </p:sp>
      <p:sp>
        <p:nvSpPr>
          <p:cNvPr id="163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AA2FC-AFC0-4C22-931B-B1488D06E76E}"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Across Grades</a:t>
            </a:r>
            <a:endParaRPr b="1" lang="en-US" sz="2800" spc="-1" strike="noStrike">
              <a:solidFill>
                <a:srgbClr val="17375e"/>
              </a:solidFill>
              <a:latin typeface="Century Gothic"/>
            </a:endParaRPr>
          </a:p>
        </p:txBody>
      </p:sp>
      <p:sp>
        <p:nvSpPr>
          <p:cNvPr id="1634"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herence is an important design element of the standards.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he Standards are not so much built from topics as they are woven out of progressions.”</a:t>
            </a:r>
            <a:endParaRPr b="0" lang="en-US" sz="24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1200" spc="-1" strike="noStrike">
                <a:solidFill>
                  <a:srgbClr val="262626"/>
                </a:solidFill>
                <a:latin typeface="Calibri"/>
              </a:rPr>
              <a:t>Structure is the Standards, Publishers’ Criteria for Mathematics, Appendix</a:t>
            </a:r>
            <a:endParaRPr b="0" lang="en-US" sz="12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Focus</a:t>
            </a:r>
            <a:r>
              <a:rPr b="1" lang="en-US" sz="6000" spc="-1" strike="noStrike">
                <a:solidFill>
                  <a:srgbClr val="17375e"/>
                </a:solidFill>
                <a:latin typeface="Century Gothic"/>
              </a:rPr>
              <a:t> on the Major Work of the Grade</a:t>
            </a:r>
            <a:endParaRPr b="1" lang="en-US" sz="6000" spc="-1" strike="noStrike">
              <a:solidFill>
                <a:srgbClr val="17375e"/>
              </a:solidFill>
              <a:latin typeface="Century Gothic"/>
            </a:endParaRPr>
          </a:p>
        </p:txBody>
      </p:sp>
      <p:sp>
        <p:nvSpPr>
          <p:cNvPr id="1597"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 levels of focus</a:t>
            </a:r>
            <a:r>
              <a:rPr b="0" lang="en-US" sz="2400" spc="-1" strike="noStrike">
                <a:solidFill>
                  <a:srgbClr val="ff0000"/>
                </a:solidFill>
                <a:latin typeface="Calibri"/>
              </a:rPr>
              <a:t>:</a:t>
            </a:r>
            <a:endParaRPr b="0" lang="en-US" sz="24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at’s in/What’s out</a:t>
            </a:r>
            <a:endParaRPr b="0" lang="en-US" sz="20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shape of the content that is in</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Card Activity</a:t>
            </a:r>
            <a:endParaRPr b="1" lang="en-US" sz="2800" spc="-1" strike="noStrike">
              <a:solidFill>
                <a:srgbClr val="17375e"/>
              </a:solidFill>
              <a:latin typeface="Century Gothic"/>
            </a:endParaRPr>
          </a:p>
        </p:txBody>
      </p:sp>
      <p:sp>
        <p:nvSpPr>
          <p:cNvPr id="163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ctivity:  Place the standards of each color under the appropriate grade (K-8).  </a:t>
            </a:r>
            <a:endParaRPr b="0" lang="en-US" sz="24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termine a “theme” for each color.</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No grade has two of the same color card.</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ome “themes” that have only a few cards might represent consecutive grades and some may no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ad each card in it’s entirety to help determine placemen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o not check your Standards until you and your colleagues agree on the final produc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scuss horizontal and vertical observations with your partners.</a:t>
            </a:r>
            <a:endParaRPr b="0" lang="en-US" sz="2000" spc="-1" strike="noStrike">
              <a:solidFill>
                <a:srgbClr val="262626"/>
              </a:solidFill>
              <a:latin typeface="Calibri"/>
            </a:endParaRPr>
          </a:p>
          <a:p>
            <a:pPr lvl="1" marL="108576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163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5F76F-8BA9-4DB2-944D-9BE46499D94F}"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0606"/>
                </a:solidFill>
                <a:latin typeface="Century Gothic"/>
              </a:rPr>
              <a:t>Rigor: </a:t>
            </a:r>
            <a:r>
              <a:rPr b="1" lang="en-US" sz="5400" spc="-1" strike="noStrike">
                <a:solidFill>
                  <a:srgbClr val="153e27"/>
                </a:solidFill>
                <a:latin typeface="Century Gothic"/>
              </a:rPr>
              <a:t>Illustrations of Conceptual Understanding, Fluency, and Application</a:t>
            </a:r>
            <a:endParaRPr b="1" lang="en-US" sz="5400" spc="-1" strike="noStrike">
              <a:solidFill>
                <a:srgbClr val="17375e"/>
              </a:solidFill>
              <a:latin typeface="Century Gothic"/>
            </a:endParaRPr>
          </a:p>
        </p:txBody>
      </p:sp>
      <p:sp>
        <p:nvSpPr>
          <p:cNvPr id="1639"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ere rigor does not mean “hard problem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 balance of three fundamental components that result in deep mathematical understand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must be variety in what students are asked to produ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requently Asked Questions</a:t>
            </a:r>
            <a:endParaRPr b="1" lang="en-US" sz="2800" spc="-1" strike="noStrike">
              <a:solidFill>
                <a:srgbClr val="17375e"/>
              </a:solidFill>
              <a:latin typeface="Century Gothic"/>
            </a:endParaRPr>
          </a:p>
        </p:txBody>
      </p:sp>
      <p:sp>
        <p:nvSpPr>
          <p:cNvPr id="1641"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we assess fluency other than giving a timed test?</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s it really possible to assess conceptual understanding?  What does it look like?</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ren’t the Common Core State Standards for Math all about application and meaningful task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igor</a:t>
            </a:r>
            <a:endParaRPr b="1" lang="en-US" sz="2800" spc="-1" strike="noStrike">
              <a:solidFill>
                <a:srgbClr val="17375e"/>
              </a:solidFill>
              <a:latin typeface="Century Gothic"/>
            </a:endParaRPr>
          </a:p>
        </p:txBody>
      </p:sp>
      <p:sp>
        <p:nvSpPr>
          <p:cNvPr id="16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nceptual Understanding:</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NF.1    </a:t>
            </a:r>
            <a:r>
              <a:rPr b="1" lang="en-US" sz="2000" spc="-1" strike="noStrike">
                <a:solidFill>
                  <a:srgbClr val="262626"/>
                </a:solidFill>
                <a:latin typeface="Calibri"/>
              </a:rPr>
              <a:t>Understand</a:t>
            </a:r>
            <a:r>
              <a:rPr b="0" lang="en-US" sz="2000" spc="-1" strike="noStrike">
                <a:solidFill>
                  <a:srgbClr val="262626"/>
                </a:solidFill>
                <a:latin typeface="Calibri"/>
              </a:rPr>
              <a:t> a fraction 1/</a:t>
            </a:r>
            <a:r>
              <a:rPr b="0" i="1" lang="en-US" sz="2000" spc="-1" strike="noStrike">
                <a:solidFill>
                  <a:srgbClr val="262626"/>
                </a:solidFill>
                <a:latin typeface="Calibri"/>
              </a:rPr>
              <a:t>b</a:t>
            </a:r>
            <a:r>
              <a:rPr b="0" lang="en-US" sz="2000" spc="-1" strike="noStrike">
                <a:solidFill>
                  <a:srgbClr val="262626"/>
                </a:solidFill>
                <a:latin typeface="Calibri"/>
              </a:rPr>
              <a:t> as the quantity formed by 1 part when a whole is partitioned into b equal parts;  understand a fraction </a:t>
            </a:r>
            <a:r>
              <a:rPr b="0" i="1" lang="en-US" sz="2000" spc="-1" strike="noStrike">
                <a:solidFill>
                  <a:srgbClr val="262626"/>
                </a:solidFill>
                <a:latin typeface="Calibri"/>
              </a:rPr>
              <a:t>a/b</a:t>
            </a:r>
            <a:r>
              <a:rPr b="0" lang="en-US" sz="2000" spc="-1" strike="noStrike">
                <a:solidFill>
                  <a:srgbClr val="262626"/>
                </a:solidFill>
                <a:latin typeface="Calibri"/>
              </a:rPr>
              <a:t> as the quantity formed by </a:t>
            </a:r>
            <a:r>
              <a:rPr b="0" i="1" lang="en-US" sz="2000" spc="-1" strike="noStrike">
                <a:solidFill>
                  <a:srgbClr val="262626"/>
                </a:solidFill>
                <a:latin typeface="Calibri"/>
              </a:rPr>
              <a:t>a</a:t>
            </a:r>
            <a:r>
              <a:rPr b="0" lang="en-US" sz="2000" spc="-1" strike="noStrike">
                <a:solidFill>
                  <a:srgbClr val="262626"/>
                </a:solidFill>
                <a:latin typeface="Calibri"/>
              </a:rPr>
              <a:t> parts of size 1/</a:t>
            </a:r>
            <a:r>
              <a:rPr b="0" i="1" lang="en-US" sz="2000" spc="-1" strike="noStrike">
                <a:solidFill>
                  <a:srgbClr val="262626"/>
                </a:solidFill>
                <a:latin typeface="Calibri"/>
              </a:rPr>
              <a:t>b</a:t>
            </a:r>
            <a:r>
              <a:rPr b="0" lang="en-US" sz="2000" spc="-1" strike="noStrike">
                <a:solidFill>
                  <a:srgbClr val="262626"/>
                </a:solidFill>
                <a:latin typeface="Calibri"/>
              </a:rPr>
              <a:t>.</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cedural Skill and Fluency:</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5.NBT.5  </a:t>
            </a:r>
            <a:r>
              <a:rPr b="1" lang="en-US" sz="2000" spc="-1" strike="noStrike">
                <a:solidFill>
                  <a:srgbClr val="262626"/>
                </a:solidFill>
                <a:latin typeface="Calibri"/>
              </a:rPr>
              <a:t>Fluently</a:t>
            </a:r>
            <a:r>
              <a:rPr b="0" lang="en-US" sz="2000" spc="-1" strike="noStrike">
                <a:solidFill>
                  <a:srgbClr val="262626"/>
                </a:solidFill>
                <a:latin typeface="Calibri"/>
              </a:rPr>
              <a:t> multiply multi-digit whole numbers using the standard algorith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pplication:</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7.NS.3  </a:t>
            </a:r>
            <a:r>
              <a:rPr b="1" lang="en-US" sz="2000" spc="-1" strike="noStrike">
                <a:solidFill>
                  <a:srgbClr val="262626"/>
                </a:solidFill>
                <a:latin typeface="Calibri"/>
              </a:rPr>
              <a:t>Solve real-world and mathematical problems </a:t>
            </a:r>
            <a:r>
              <a:rPr b="0" lang="en-US" sz="2000" spc="-1" strike="noStrike">
                <a:solidFill>
                  <a:srgbClr val="262626"/>
                </a:solidFill>
                <a:latin typeface="Calibri"/>
              </a:rPr>
              <a:t>involving the four operations with rational numbers.</a:t>
            </a:r>
            <a:endParaRPr b="0" lang="en-US" sz="2000" spc="-1" strike="noStrike">
              <a:solidFill>
                <a:srgbClr val="262626"/>
              </a:solidFill>
              <a:latin typeface="Calibri"/>
            </a:endParaRPr>
          </a:p>
        </p:txBody>
      </p:sp>
      <p:sp>
        <p:nvSpPr>
          <p:cNvPr id="16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3B79A-679F-4BCA-92A2-FCBFEC9BE68B}"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Problems Activity</a:t>
            </a:r>
            <a:endParaRPr b="1" lang="en-US" sz="2800" spc="-1" strike="noStrike">
              <a:solidFill>
                <a:srgbClr val="17375e"/>
              </a:solidFill>
              <a:latin typeface="Century Gothic"/>
            </a:endParaRPr>
          </a:p>
        </p:txBody>
      </p:sp>
      <p:sp>
        <p:nvSpPr>
          <p:cNvPr id="164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k on a few problems from each aspect of rigor.</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prepared to discuss something you observed  from one of the problems you tried.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assessing (with tests, HW problems, exit tickets) all 3 aspects of rigor affect student learn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does it look like when we are asking students to work on procedural skill and fluency, conceptual understanding, or applicat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648"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649"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Content Placeholder 4" descr="Kindergarten.PNG"/>
          <p:cNvPicPr/>
          <p:nvPr/>
        </p:nvPicPr>
        <p:blipFill>
          <a:blip r:embed="rId1"/>
          <a:stretch/>
        </p:blipFill>
        <p:spPr>
          <a:xfrm>
            <a:off x="1752480" y="685800"/>
            <a:ext cx="5467320" cy="53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3" descr=""/>
          <p:cNvPicPr/>
          <p:nvPr/>
        </p:nvPicPr>
        <p:blipFill>
          <a:blip r:embed="rId1"/>
          <a:stretch/>
        </p:blipFill>
        <p:spPr>
          <a:xfrm>
            <a:off x="457200" y="990720"/>
            <a:ext cx="8167680" cy="462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3" descr="Grade 1.PNG"/>
          <p:cNvPicPr/>
          <p:nvPr/>
        </p:nvPicPr>
        <p:blipFill>
          <a:blip r:embed="rId1"/>
          <a:stretch/>
        </p:blipFill>
        <p:spPr>
          <a:xfrm>
            <a:off x="1554120" y="304920"/>
            <a:ext cx="5989680" cy="618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3" descr="CEC Grade 1.PNG"/>
          <p:cNvPicPr/>
          <p:nvPr/>
        </p:nvPicPr>
        <p:blipFill>
          <a:blip r:embed="rId1"/>
          <a:stretch/>
        </p:blipFill>
        <p:spPr>
          <a:xfrm>
            <a:off x="666720" y="843120"/>
            <a:ext cx="7810560" cy="51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3" descr="Grade 2.PNG"/>
          <p:cNvPicPr/>
          <p:nvPr/>
        </p:nvPicPr>
        <p:blipFill>
          <a:blip r:embed="rId1"/>
          <a:stretch/>
        </p:blipFill>
        <p:spPr>
          <a:xfrm>
            <a:off x="1376280" y="6480"/>
            <a:ext cx="6396120" cy="654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1" descr="CEC Grade 2.PNG"/>
          <p:cNvPicPr/>
          <p:nvPr/>
        </p:nvPicPr>
        <p:blipFill>
          <a:blip r:embed="rId1"/>
          <a:stretch/>
        </p:blipFill>
        <p:spPr>
          <a:xfrm>
            <a:off x="604800" y="933480"/>
            <a:ext cx="7934400" cy="49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0:04:20Z</dcterms:created>
  <dc:creator>HP USER</dc:creator>
  <dc:description/>
  <dc:language>en-US</dc:language>
  <cp:lastModifiedBy>Pascale Joseph</cp:lastModifiedBy>
  <cp:lastPrinted>2012-06-25T22:07:29Z</cp:lastPrinted>
  <dcterms:modified xsi:type="dcterms:W3CDTF">2020-01-23T20:11:08Z</dcterms:modified>
  <cp:revision>36</cp:revision>
  <dc:subject/>
  <dc:title>Deep Engagement with the Shifts of the Common Core State Standards  Mathematics</dc:title>
</cp:coreProperties>
</file>