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DE020-A42F-43C5-B663-475AF50A4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8CF76-2841-49C7-84DB-88837D1AEC5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0C0F9-C57C-4776-BD71-ADFE5B4895B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F02BC-1280-4E54-B7CC-2481B6E6B72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C4E1E-3673-4A6A-8ED7-6C6D9BD49C3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37949-B936-4CC9-BC9C-350B778D65E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E11F2-E0E6-4FBD-8B44-3C46B7CBE7D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22FEF-C44B-4B1F-BA13-77B7B21493E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F8725-812A-4EC4-BD28-AF7CF55BE4B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FF0DC-3922-424F-B34B-5FCEBF0B477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F5942-1403-4BE0-8677-03317D2CB1C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2D8B3-95C8-4340-BAC6-434CB9AF027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13F8C-0F2D-402B-9A3B-C9E7B1259C8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00012-14EE-4907-9B74-81ED83958CF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21024-82EA-4D27-ACAF-BCBC48C4A16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9EF89-9FF8-4314-B7F1-D65E6FF3AEC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7944D-E344-46FD-BD8A-855B0C0D6C7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1D206-D0CC-448C-9F5F-86BEF60D893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960AF-1BA4-4FBA-8FBB-1F72FAF391A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66C49-4038-454F-BA3B-995469AE3DC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CE899-57B2-4591-9A1E-530B9076F60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A68E9-1F17-4E58-88FE-2014ED160CF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AB364-BF32-446D-B755-F01F82DB829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DE381-88DD-4843-BBBC-DE2CD8BC39E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99BA1-075B-471E-9A4B-E223DEE6B24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FC47F-BA3C-48F3-9338-62409E6758B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AA708-86E0-4854-B5AB-6160B730894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59A48-ED23-47E0-BCD2-DB9A0402E7D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D47E7-618B-4569-906E-EFB2AFFF635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33216-EAB3-428E-8495-DA8FE16934D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09EC-4F5B-4E7A-9718-71CEB16FC0A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063C1-8693-46AB-BBE8-D49FC314D4F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E77DD-6831-41BE-9F85-049484052FA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589A9-F04A-4BE6-947D-DC25837E5F3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CF9F5-C03C-4C31-8E71-F6D6B8AC582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CDD3B-7F73-4D40-A3DD-88A98FDEBE8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F3F915-F303-452C-9F10-B29A135C50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F38C31D5-A707-4C46-B5C8-C50F0DEDD67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1C50EA33-102E-4A92-A67D-3DAF4486598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E5966546-7CD6-4374-89C5-446FCE9142A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0830554C-21EF-434E-88C8-EC1A5F86A90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0978E2F-E723-4168-B63C-3BFB86E71CE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04AE057-C93F-4EA2-A2FE-597DA4955B0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7BAD8AC7-5E1F-4056-A3A4-492B694D2AF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09CEFDDB-5E08-4F9C-B494-D1F5A2E19E1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8B42BB9A-08D5-4472-9149-0B97ACB2C6A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5198EF2C-63C5-4B16-AD2B-73DDB4EA531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E2F758F-DD3F-4A5E-A977-35807DEC58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57C4B03A-6AD3-4455-B9F4-B586C61CC89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A65DF05B-48F9-4E9C-B884-AFECC62AAB4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F2478C49-56A6-42A9-A3EA-F3CFBF77955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7AF0F766-0A7C-4CE0-A8A0-6C101A5D37C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48422CAA-6EAE-482D-9506-5C2EA219FF2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4A9ED4BB-9A1B-4881-9680-7F8509B4370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161A1E10-112A-4E3D-BCB5-223A099C90E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23F48F74-95EB-49AD-8896-A33114920C4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2A7B6AB8-C7E6-4456-B38D-3AE0796DBDF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BE636301-D23F-4BEF-A30A-CE42D62A987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75D9FE0A-0467-415D-B463-04FD68D947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BDAFEC32-46CD-4E7D-8D56-F9E622E4A31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5CB4CCE4-BB52-4EB5-8BAE-69FAA3586BC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1F67304-4BEB-483D-AF59-9106B9BE741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4C7D6B5D-0264-4E08-B719-F1A1218C6FB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3A7C8211-C8F4-4B5B-B503-7B9EA1DF965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CF73D1A3-A8ED-4C50-8CB6-2F5DCEA1287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DC20DDF7-D318-4BB3-B00A-881B70E1CD6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43836C90-A863-4BD7-A815-16B92C92012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9629F1D4-92AA-46FD-ADD7-5E3C515533B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69430C2-CCFF-483F-8C00-0C6C52712D5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074C8B6-5CE1-46B5-87A7-D9CCCFBA03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FB61A4-E082-46A2-B63A-6CD7BE22485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D922B683-8B1B-45F6-B800-5AA47420D74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98AA9D2C-0FB2-4455-B853-8279BD49417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F0F60913-EA6A-47FE-98BC-933DA668131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8043746-DD0C-4DCA-AF65-3CCA8746C6C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C5C11FA8-34EE-4B7A-A5CD-52F8EC58569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09D765CD-51B8-4244-B1C8-6A5470A47D6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C391C697-C79E-4E2F-A35A-8D1AB1016A2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98E4A8CF-ED08-4696-A4AF-19A4A5D3119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D2184344-BB2B-4A82-AD7B-87D5FDEABA3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F5E0E964-3A0B-4323-B93A-ABED797C27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66DBAC0A-3F03-46B8-9698-67682684E63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7C32CC4A-22F9-48F2-AE09-A2DC3604779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439E8E3C-8182-4DE3-8D49-E3BD6EABF5C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DCEBF82A-69B0-458E-B958-DEDE19FEC3B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C7B7371A-5E0B-4D3B-8C10-289EB5830C0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D6DDC02C-1219-410B-AD07-D887EE99DBE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B7D2C73-63E3-46CF-A37D-730D9B47F5B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0CD0DD22-3051-4163-AF7F-990EFAD359C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0EB7D8E8-70E7-4548-872F-A6C9D58924F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EC150072-F9B9-42DE-A5E8-90D9E19B932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EB768E8F-E729-4FF1-B5C9-60B939FD61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382DF889-26C0-4FBA-8D4E-E579E6B90CF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7B09D7F7-D54C-4EEA-9896-47DF1109949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5BBE96DE-9943-47AA-A3FE-5DD9A9560C0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FFC77C82-4DD8-4363-9AE9-8C97232BE2F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94C1A3EC-E804-48A7-89CB-8E17913BD25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98897CA5-6445-42F8-ABBD-FF2667FF65B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09ACE8C7-7A5F-44E0-A0CB-DCAAE9D367B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20723B46-26CC-4F2E-8026-A89E10D04D6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B219FAC-74F7-42D8-91BF-5406202A1A1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E62E27BF-FE04-42CB-842A-C6D7655C83F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F104038B-F80B-479D-8C00-B5C11AF9FC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06DF2367-97FF-49D9-BF36-9DC3F749B60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A2227A0B-68C0-49E0-99DA-0BD4A9E6AD2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AB0AB600-1F2A-46B6-9721-1D1429089D3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7CED1FA9-3AA9-4E83-ACE3-0457762E598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22BF1F89-67A8-4D32-8AE4-D540DE26542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3ED55566-E438-4EF7-B2AA-C9383C61954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165B3D0F-2249-4919-8331-8652267495A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EF4C5242-339B-4A98-B6EB-3DDEB0BF248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1427EC76-573F-4546-8644-1BFC475005F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8B84D541-68A4-4D17-B960-63D8FE02D21E}"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46C95E2F-78BA-463E-81B5-E9F6DE3F85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7D2246B1-CD96-4F71-BE88-F62F33698FEE}"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D832A53-4B9B-4B7A-B944-7E0643169B99}"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0AAA1447-C5E5-4ED1-9B7B-73A93C156C5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55BA78B4-F34D-4335-BC07-D73027E920C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35F0B68B-CC8B-4634-A71D-B03B34DA817F}"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EB2C9E1F-CFFC-4439-A00F-D422C289C55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8460C1C3-F3BD-4B33-8B67-2CCE591FDB38}"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D6385609-9221-4C76-87CA-EBC68E44A1B3}"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AEFDAE3-A66D-4CBD-9E95-1F8BECF167B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B9D4E6CE-A805-4F4E-88F9-29836E64C88C}"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32F88246-C526-4D21-8A21-3392194259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520B7676-86B7-4EBE-B746-A9980A7D2476}"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2CC03BD8-A2F9-4E85-8344-EFFFBE8086B4}"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892629F2-DED3-4A51-9439-01A15A5A11F7}"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73D4021-C400-4969-8017-31D1CE3D0F7C}"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4E31F89C-DD51-4D53-9B84-C39122F4509C}"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7E75C1B1-5DBB-456F-8759-C60BDEFB4612}"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D0CF91F3-DCAD-40C5-BFA6-5E7EB82A4B1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4602386C-C589-4852-A523-42F5FD452F5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CE005BDA-693D-4547-81AC-9636C08F3D6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0645AFBA-DC41-447D-95DA-09F73EAA0E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A66294D9-8D5A-495F-ACC4-74C8AABB59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EEC243DC-B65E-44FD-8B7E-FC4E42ECBD85}"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348C9830-A8D8-4B31-B7EE-E3000F479642}"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27B984A7-619D-4F1D-8DAA-C322ADADC85E}"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1D137818-EC1D-4529-847B-1DE76F2628D3}"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A5028940-FB00-458C-B79F-DCA4E9398AD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048E6F68-8C2E-4128-B400-0E9B2022C03D}"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027DE2A6-EE29-4A1C-B292-29680226CC88}"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23171DFD-D5D8-4838-96DC-7A5A9407970C}"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142AC42E-84F5-410E-A24D-6D43987D3973}"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356116C7-58FA-40EC-A0C4-2AE65CC98D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9E5B0A19-3FA8-40CC-8C2E-C9156CA66A3E}"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37AB53F5-AB01-4362-8471-B8A888E3B562}"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C0C5892B-EEAC-4587-BC19-FB2210EDEDEF}"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127CB02E-7012-4E37-B041-01A2E456CBE8}"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9C8E02AB-8459-4037-9B10-D86716E011F4}"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693F2BEA-AEE3-42C2-804B-EF6622E1CDDF}"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1B269417-5408-4EC5-8B18-68E3B15A958A}"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E114230A-7A9C-48B4-8C5B-A5A06A07E957}"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B78892A5-5D5D-424A-9B71-B182D64E61B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7F7226AE-85D7-4BD4-A1E4-889623C80496}"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6BF173C-896E-4B26-9A4F-E17518869C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DE59076B-0562-4770-B285-62C6A543DCD1}"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6F4976E5-FC19-4520-AF95-67ED16E72EE9}"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A391F340-DD29-44F6-8B57-8C873CA1AE3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EAF4DD11-14A0-4040-8C52-9DAEE86E6183}"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612C3907-9F9C-4810-9757-AD427779CB4E}"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FD5DF287-3C5A-4707-900C-6E014A2DB5CD}"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8F6755D4-3077-4C8B-8157-16EE920B07C2}"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FAB120B2-4EBF-4862-9DA6-218CA9A81F84}"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EC47C94-84F0-4B29-8F2C-9E8A9E87FAA6}"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3CEFCAF8-F28D-4F52-9D54-E3156B4F0397}"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6BC5C32F-5493-467D-AE78-D957053C4B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F662D116-98C5-4AE7-9A7C-D166E3AE2B7C}"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416ADC84-6B99-4910-A58C-D17CA3B74F0E}"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D0A5CE67-8B66-4A82-9DD8-1D99208EB17D}"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5B5A32DF-FB25-4FA4-BDAA-00326966CBDE}"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A0FA12DA-04F8-4284-9F50-D1C3D80B9764}"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9226C81D-620A-4B1B-BB3C-9FCBBD31F9EF}"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713D9269-FC70-4FEC-A4D8-C6F96D75B236}"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0A6B5B1B-EBF8-42BF-969F-593D2C27DBBC}"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0429D3CB-0D3F-40E1-9DB6-B62334F5E9C8}"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0ED4086A-1FDF-45D6-9EBA-9B65C5175E6B}"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16CCBDCE-B10D-4A46-9B16-8DE8E182987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50B0351-AC2D-402F-BC0E-E670A8FAD1F8}"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FA536D35-B2F2-49C5-81BC-907723DE0D9E}"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44647249-87AF-40A7-8171-D762D0606D7E}"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FD5A46C5-A7B4-4418-8ACC-2E29307A1E05}"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F932A6CA-D257-4343-9242-6C89814DC7DB}"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9906CB81-A424-4261-8E83-ACF81D3977BE}"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475CBDDE-AB86-404F-B0B9-403BA2EAA1E4}"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02997EEF-983B-4E39-B776-36DAFD51CFF7}"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7E70C5A6-2446-4D01-BD76-FBA15830AA03}"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14322D28-FD7C-4342-B90D-7D6609963F7B}"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D2660BB3-1847-4E0D-B69B-639BA752A5B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1F682C30-B171-4625-95BF-2AE145BD3299}"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B798AB77-84DA-40E5-A124-17EBB357B2C6}"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ED2CA330-F7B0-40F0-B32D-C5D31267E18D}"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F97720A0-C6FA-4509-98F4-41D41631570A}"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7209E98B-0058-476F-969C-324078AB1589}"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8C64D428-6976-4467-829F-D378AB44E297}"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01D27401-88F9-4AC8-A3D7-9C7924E41498}"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6DD8A335-C91F-4DAD-98FB-2DE5E967A9D4}"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043099E2-1F65-4D96-82D1-38681DDA35EB}"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EC929595-BD85-438E-B440-823064756385}"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0B2545A2-A2EB-4713-BD34-E22231AA349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23858584-8971-4E25-997C-ED4FEDF4633C}"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E31E6ED8-8D76-4400-8628-AF2B3A350F3E}"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A0F6B8C7-81CB-4ACB-8BEB-365F611F2F6A}"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3A449070-00EE-4557-8656-BFC854189122}"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175FA61B-966B-4ABD-8A8D-D47A98C0B915}"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ADF02737-2527-4D07-90CF-3082D853E5F1}"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035FE1AC-0DC6-4268-9DAD-52294D0FA1C0}"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772AF375-43B4-48F2-8C3D-FFB10AD0D5D0}"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A3509914-CB05-4FF1-ACC8-2BFDA51CFE59}"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A249AFDF-76AF-4E38-8F70-FA83A171885A}"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79CB3037-0F10-437B-A99D-E370FE6D6EB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7B274651-8721-41BA-B996-78B83EB40807}"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90E69473-6E0B-48EF-85EF-09802CB5D5FD}"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6BAD0B0E-B5FA-40D0-8BB6-C466801CACD8}"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C9DDD4C3-BD80-460D-B6DE-40D3F0E1BEE1}"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5E1D9322-6F01-469E-9E63-E59D046516A2}"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548169E1-35E9-4CCF-9C88-4C6E15C4699D}"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F33EECEB-01E3-450C-A8EC-7CDCE572821A}"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74735607-E202-42A9-A87B-96A22681FB93}"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752884BC-C7A6-40BE-8A27-0D7824AE74CF}"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D83DC6E4-5FDF-47C7-A91C-E1549E10AFD8}"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23984D26-9082-4B70-B296-EB43C9EB5BE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F2838DE7-6A63-4E2A-92D1-BA9295C19694}"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B8E90943-300B-4502-A654-C432E7CFAC65}"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EDD89C43-7FF2-4641-A876-674BE5BB0B11}"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75881D8B-333A-4BF8-AFF5-C64DAC2DE1CB}"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38ABE8DC-E436-4828-86C9-4AB6CA967B15}"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754A32E3-87CD-4720-81E6-EED5F226B586}"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771DF8F2-B6F1-4A8B-8B61-B91735A50B93}"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F6718D7E-2845-480B-B928-B4070E0E73F2}"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497FE6D4-2228-4085-9DED-C2CE7ED79818}"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A2B9034F-ECBA-446C-B44B-A6CA3D73064E}"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1214766F-3AB1-4576-8A34-F93EB49FB2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BB0456E7-5046-4C06-BA4E-13DF852E33D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05E3B152-3EC7-4BA6-80C7-18B019B6E0AD}"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D958A8A8-95FC-486F-BC48-D982FAD1E9F1}"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8D8E472F-2FAD-4082-A062-54C58A7A2483}"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F4053EE5-15EF-414C-A0BE-0D9ECB2FB916}"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260E5DE4-20C2-4C05-89F1-078613867E34}"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7E3E7A93-4341-45F3-A873-1E45976B2572}"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FFF0183B-C0D8-44BD-9307-5A752F211E53}"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3B55A7F1-F0AF-4D00-A1ED-8403622EE46B}"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1C7095F0-B845-459A-B9CC-454A764BCD5C}"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BE735D99-3D5A-4082-8C66-642A67F5BCEA}"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0038E8F6-5AE8-434A-9265-ACBF377555C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2A5ED5EF-3862-4B2C-B1C1-48B7E7FB1043}"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6986C333-8ACA-4C97-AD55-24F034624A3D}"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FC1DCADB-08DE-4188-8CF5-0A13CC7B5C6E}"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B23EDDA0-1DC0-4234-95B8-E1ADE0E6BAEA}"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EA5BA1D-0811-48B6-9B0E-78C9D84A1FD0}"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CA66CF33-1948-4121-A34F-8BC0402EE384}"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31A1BEE1-AD65-4156-ACCC-F0B595891197}"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A410940E-B81C-42E9-B017-CD021AB1248A}"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2A5F05B3-E3A0-4EAC-8776-18CB498F430E}"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04EB90AA-78FC-4979-A647-CF77D9C279A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C9C5642-E9A6-462D-95AE-2E38472FC363}"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26BB76A3-CED2-4A25-925C-817527D04400}"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C9BF0238-4276-4128-B3E1-21D680B32617}"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C24D0221-3BED-4199-B806-386D81A6D1D6}"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5E2025D0-7BA4-480D-8A52-D93D9FEC5EB4}"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FF445E49-4ECF-4E42-A36D-96D36C4D24BE}"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D9A23D90-4870-471C-8C3B-4B61F4D11E15}"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20D488EC-1626-45E0-A75B-C188BEBCA7C3}"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3CE3E4A2-ABAA-4446-ABFE-D47D38A72547}"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32019B37-EE83-498B-B5C9-D39809E9FB0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0DC487A5-4E91-4D0F-B350-1F47E0B59263}"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20458842-8C9E-4C94-BED9-4ECF978B68F0}"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5A24F8A8-9448-417C-B0F9-2C01D1B35B85}"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81755ED6-C603-47AE-8556-399DD85C97CC}"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DFBC3A99-FD12-4297-AB5F-B21F7231CEF8}"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0C8271FD-23E0-4455-996C-B22B630CB64F}"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BA365EF9-DA24-4791-98BB-612D03118BA3}"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BAE386BB-04FF-4303-87B3-7FDF29920020}"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349DD636-B64A-4508-BDED-2F3BA75D7411}"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AFF2D211-2F6F-4B1D-9AEF-A8684F47A46E}"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A5698D5B-AAA2-43A4-BEB0-8F27D4EFD45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1AC5833C-7213-49B2-A37E-E7F3663C53D1}"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72C78263-221B-4B52-9F48-F263BA343527}"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E072D35C-D6EC-4A8C-8F3D-B6E503753BCD}"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CBEF949C-69AA-4F3B-BC74-1B15FF0D769A}"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E75F8B65-0E70-4D91-9C7B-BD6ECDDC1AEA}"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84940F94-0971-44A5-AC68-049A1A1ACA48}"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194CE690-E541-476D-8602-23805BBE396D}"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A6B9418C-5FA1-4AD5-8DFB-8A2F7892AB1F}"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6ED33140-28C3-494B-A082-8ADBBB6231A2}"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C5D95DF2-F98D-4D8F-867F-68CFD198464D}"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3AA0915C-CBDE-4E5F-B034-810CCADB5D7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E77895AB-9A71-40E3-B354-2AF1C81B2B94}"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DE5C8C7E-EB0B-4C02-98DC-94B609CEBBB8}"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EE77FA58-653C-4A78-A00F-F3B4CED14624}"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49ECCE3A-EB87-443C-9C23-3A43C7EDAB34}"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2F50F1DA-D769-4DD8-9186-C48FDE4B1272}"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26A7861A-76FE-46A3-9012-F2329C844151}"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22E82139-DFBB-4782-BDB6-F96141191772}"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3497CBA0-A047-43D1-87B2-70D0C4AAA6B2}"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BBB5E92F-2ACB-49D4-A817-88B1EA9335E0}"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6C099065-BF09-4FF6-9DF4-8AA44AB63C3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6D7E05A5-4D83-49FE-898B-A166BDA32C71}"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B737A9C0-5C84-4923-BD07-73FB9BCFBEEF}"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BEE69705-5DAA-42B4-A55C-DAE096077A79}"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8A2934CF-7B83-4C1F-B9DA-13437DBE52D8}"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B27C56F2-FD9E-4BEF-91A0-2527F389DC41}"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D4A8CC9C-994E-4862-A13C-6A0EC83E06D1}"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5F7A1930-AFBC-425F-BB3D-5D88A3FEFA58}"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4BFB1E4E-6CE6-4435-947E-3A8BA63C3C89}"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E9AA57A5-DBA8-4894-B48A-643ADDD74127}"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50AE9B3C-0011-4C20-9F75-9670B370811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68DAB61D-0DFE-46C8-B5B3-17A06E2AB972}"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3257A28A-AF8A-43E5-98A3-EFC2CA76C01F}"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9C9E5577-6C60-4FAA-99B8-80EFF6D064E9}"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6BA4B8DC-A45F-4A72-9A08-5329135D960A}"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E8C137E9-295B-4DE8-B768-DA11C53DEDCF}"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41491FAE-45F5-4397-9619-51CD9CD0AEA9}"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40E02FE5-A5BE-4455-87FA-7193511B54AD}"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FFCB780E-AEC0-4458-9487-9AD6C4F065BE}"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921CEECD-07BC-45EA-90AA-6F2C21C21D75}"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B9842D28-10B8-4A6A-B6D1-2252D6E57D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6501957E-A22F-4239-AF54-14E7F062201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F4C1DE66-15A8-43C4-AD62-6A3BA9F567E8}"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128A7508-BFE7-463D-A48D-3212DFCAC1F9}"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70402E07-BE57-4A26-8CF1-17A26651733A}"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FE73956F-8CE4-4879-B485-CA8ED0A671F6}"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F1F9DDC9-30AC-4635-A785-C6643E26BFCA}"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24B39DA5-4F14-45FD-80E9-C8D438A44C74}"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7624D614-4A53-4A0F-9A7A-284F803D346B}"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17D0C90A-D4AD-4C8D-ABF6-D8C168EA172A}"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3891479F-EA0F-4DCF-A334-1A1AC30C7DAE}"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0EC58F73-3B2F-4C1A-9364-7EEDD25233A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933C5ABA-E53E-44FF-8C33-6BCC659FE20E}"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71B6BF75-1446-49C6-8C78-298490B4A35F}"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98760FC2-2630-44C9-9408-9874EDD7A177}"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10AC3433-E327-46B0-92C8-3E46C62E1CA6}"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A282A535-7640-4B2D-86BF-C436F81CC0BE}"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A536092F-2BF0-4CD1-924A-9CB03C723C5F}"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394F6299-6D02-4EEC-AF9B-46BC187F9ED6}"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7501B916-F8A5-48A5-ACC1-4A1FC3054F7D}"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B19811A6-F0EF-49DB-853E-49299C27DFB1}"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28559049-D8FA-456D-9A32-1BEC58A0E0F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2E0C2190-158E-47DB-A7BF-F18323168AC8}"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39404FB6-A5A0-4250-84A9-0E5487E616FB}"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9F76B177-9983-4B52-AB4A-4E96D275EB6E}"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A1A5C841-3A3B-40AA-A6DF-74D2AC986DDE}"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5256C51C-834E-483C-A2E8-9D202BE3388C}"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EFF3F602-454D-413D-BE9C-5D7EF7EC1B2C}"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5E85F6D9-B2FB-4886-88EA-6DD7497B8F5B}"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7ED17DDE-CBA7-4965-B478-3A248F744C5E}"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8F10A770-B20C-48CE-9435-192DCCB0BD33}"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0793969A-BD4C-4121-A318-3283B57B923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4B0D184D-1F05-4079-A87E-8FB8891A556F}"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2B99992A-2530-4218-AAAF-F6F4AD1BB5A8}"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DE6A9D31-BF8E-4348-AF68-1910233A2A6E}"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60DB76FC-CEA7-4B4D-AF46-68536CFE8CEE}"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84A30786-33AB-4445-986D-FB66EC466E11}"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D1604ECA-9364-4981-9464-6BC3DCCA093A}"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610DF228-97F4-40A0-871B-119299DD6C68}"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1630A947-5A98-4CDA-86DF-C935F98228D3}"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3B8DF367-72E7-4D47-98CB-E040CDAEE83A}"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148782C5-129E-4439-9696-533372CF491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C4EB6A48-6000-4051-B8DD-5E3F17A31275}"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0F780893-3ECF-4968-8EB6-561C2561DFAB}"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AAC0186C-F8B9-4451-BD3C-07212CBBBDE3}"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67470040-A76B-407E-B7AD-23A5AC347769}"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4969E8F4-BA46-4CAD-B069-E6CA931C9BB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D4EF5D-E477-4AC2-89AF-0DB2827CE7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28933B4E-ECF4-4ED1-8167-9E2C6CAB3DD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2F8C44E7-0167-4C45-BCC0-3B794495476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02EF915F-0067-43BD-AE90-ACBD1F30CBA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4A7553C0-71FA-48B1-959F-C7BE0CF56F5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4CBFB800-171E-4FC2-93A0-8F5AF97FCE1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2D8EAA3B-34B6-4B95-A074-4C37DEE45F6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CE6DBE0B-B62B-401F-A7CB-2F474C918B5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FADAF24-6F3F-41BC-ADCE-CC0906DF12F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624BA74-4CF4-4B8B-8764-55BB37C14BB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F2126D9A-D190-41E0-AA14-9020BBD8D3C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DBCEFB71-BF2A-4B80-A73B-CDEFB4EF5F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F1DF1345-8F83-4649-B2D3-31044EBC745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C13350D7-4500-4602-81EC-D657750E91B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A67AAB7-BF98-4524-BC60-9532368D226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2B51B1E8-12CD-42F1-BAA6-8AF1FAA3F4A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A2F06E1E-FEC8-4DD2-B8D6-2BB155F206A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8CE62456-5F46-4E9E-97E3-E291613C065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28016D8F-303E-4CD8-AC3A-8AE09D0452A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96C16D63-2E5C-4A38-BD92-B4E64BFAB24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9DA71CB-F29C-44C4-961D-8293613E84C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A64EB51C-216F-4FB6-B6AD-CA95DCEA7EE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BC87B40-C2C4-4519-98B8-12F549EA6A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DA2BF80A-C06C-45D8-B547-C81BA5E7B39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1CEA95EA-FDBF-4DA4-8BED-C190F8A0C5F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CA86AD12-BFC1-47F3-9F77-819EF396013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17ADF5DA-8A1D-4203-A70A-E9340F5A63D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887593F1-B83B-47EA-B8BA-79DDB0A24A3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0BC0A4B-36BA-4983-96A0-45C3A3718FD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22AF96B6-AEDE-40B3-88DD-4FF75983058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308C70EA-F96F-4703-9EEC-F0E420EF946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12165E60-F8BA-419A-BE70-11F8B413364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4AAFAA74-187E-4CDC-AC36-DE85A1E4EF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BB10FCB3-7B79-4D44-8BD0-7491B2B34F3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17B013F3-72CC-41C2-99CC-F6AEA6B54B6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5BF0E2E2-F0CD-4A53-A43D-EF54BCAC2E0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443328B-3CC6-4D41-A2E8-E3ECFCA6DE6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BB673507-2057-4BBD-B0AA-3321FE80CE7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3D2D1E58-384C-4D07-9A05-AB20944454F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5D1B4B37-FF60-4472-AA7F-31703977B6B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DBA1DEF2-F5C9-4EDB-A299-3C9A948396E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F2209F7-CACF-456E-A5BB-B8106403C55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3EA25FC2-9BD0-4A01-9286-C865339066D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4B063361-1057-4B37-8E57-37133DA2E4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5363E-7E1F-4053-9A76-CC2241986B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8B3A0-4E28-4543-AF5D-333E3706A3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6EF22-B8E6-42B8-8456-F16A081734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AF31B-040C-4EBD-A2CC-C076EF17FB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0C3DA-309B-43DF-9720-D2C04A16A1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060C1-165D-4852-B498-D962C66867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914A-AD53-4B24-863C-DCE158FF8D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29DC9-DAF6-4CCD-AB6D-FD25031B95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D0F09-66C0-438E-BBC3-E92554B99F80}"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13B38-41F2-4761-AC23-597EB55E8D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B6929-A202-4190-8D4E-03969CE573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5AD36-84E9-406B-830F-FD6338EB9A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A9339-7C8B-43FD-A6C1-F909A6E2C6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3DDD5-F263-411F-A3C6-548C1625C5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168F-C622-44FA-BE33-EB0E19962B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85193-AFC3-4B52-803B-36F28332BA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66760-6489-4BAD-8C91-C9A42E87CD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17D7D-A66F-4907-8B2E-C8A786B68D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76836-2E47-494C-840C-C36928E437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A5758-5F8D-4250-81CE-2F7A0464C4E5}"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FE8AE-FD0D-430E-B923-6B368CD0E8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8116D-261D-4439-8840-5C2E84D419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CEF87-5249-4387-8019-59B9968089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A7AA0-E0C2-4534-9488-8DE907D1BB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5282E-0DFA-4AB5-A818-F88D493423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339CA-2E2E-4464-99CD-264CF79049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8E0B7-BDD5-4531-A850-0A4DD920E3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ACEBC-60FD-418C-8D11-6C5812C7C4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15174-6407-4200-9051-85DE702F1A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AE0FD-8A19-4D38-8065-8DB379BB64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3D44F-8327-4C29-8EB7-CD105E9C95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EFE7F-B2A8-444C-A824-CF9C9B3A204B}"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FB17E-371A-4AEE-8AAD-D9FEE622AC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E00B5-CC0D-4CD5-918F-B4B3286B56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6676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8960" y="6480"/>
            <a:ext cx="5086080" cy="63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71600" y="1981080"/>
            <a:ext cx="6438960" cy="3305160"/>
          </a:xfrm>
          <a:prstGeom prst="rect">
            <a:avLst/>
          </a:prstGeom>
          <a:ln w="0">
            <a:noFill/>
          </a:ln>
        </p:spPr>
      </p:pic>
      <p:pic>
        <p:nvPicPr>
          <p:cNvPr id="1620" name="Picture 3" descr=""/>
          <p:cNvPicPr/>
          <p:nvPr/>
        </p:nvPicPr>
        <p:blipFill>
          <a:blip r:embed="rId2"/>
          <a:stretch/>
        </p:blipFill>
        <p:spPr>
          <a:xfrm>
            <a:off x="1333440" y="157176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0376E-C0C7-4C6A-B70A-362EB6ECEC7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a:t>
            </a:r>
            <a:r>
              <a:rPr b="0" lang="en-US" sz="1600" spc="-1" strike="noStrike">
                <a:solidFill>
                  <a:srgbClr val="262626"/>
                </a:solidFill>
                <a:latin typeface="Calibri"/>
              </a:rPr>
              <a:t>1/8</a:t>
            </a:r>
            <a:r>
              <a:rPr b="0" lang="en-US" sz="2000" spc="-1" strike="noStrike">
                <a:solidFill>
                  <a:srgbClr val="262626"/>
                </a:solidFill>
                <a:latin typeface="Calibri"/>
              </a:rPr>
              <a:t>).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73AC2-3D7B-44AE-A12B-AA99B9478434}"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4B691-4B5F-4B64-8872-5AD1ED10DB04}"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66180-8EAE-4801-B6C3-DA46A016596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90720"/>
            <a:ext cx="8167680" cy="462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6480"/>
            <a:ext cx="6396120" cy="654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1:08Z</dcterms:modified>
  <cp:revision>36</cp:revision>
  <dc:subject/>
  <dc:title>Deep Engagement with the Shifts of the Common Core State Standards  Mathematics</dc:title>
</cp:coreProperties>
</file>