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5EC4-B504-402F-821C-AA63C02FB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D371-DE09-4142-BD45-F2F84B0C9E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0050-DCE0-41D8-9FA3-B10D504121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9DC8-E5BC-4EAF-846F-B7C7B6BA6F8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566B-0F9A-4364-A99B-B92775CD81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0A79-2EFA-4CDF-B61E-BD4E86BE52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4953-1B7D-4970-88B1-D5244F8F6E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63D3-E56C-4A8C-820F-C7D2921161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C15D-2ACA-4A0C-A446-356F9DC18F1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D60D-5CD3-4259-89B3-3A91D4C22CF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3B39-EC7E-43D4-B785-CB64BDB7923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28AE-C8D0-407F-98E4-2730BC23D4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F2B7-CE8E-4086-B508-6DE7CED1367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1A57-4019-42ED-A72B-0B3BE2DDECB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C58D-2D66-4BFC-A7E2-FD7C413A41B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80E0-8C8B-4348-8856-DFD09194AA6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E409-87F3-4C0D-8378-0B1BCEAE0E0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7D6D-749D-4D8B-A65D-F2B5AE30463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AA5E-DE2F-4E2E-B8F8-0A4EA01CC86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3015-EDAF-44E8-AFF9-004CC5FE562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84A5-DB5A-4D06-98E8-8F5C8C25F0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7E9F-6E2E-410F-B168-6A8560CB246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E701-4F24-4C73-BF0A-E63A8B946AB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E1EA-AB3A-4C07-88B3-57179B768E8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D7D9-9308-473C-A052-4F2B4AAF38F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6401-5C77-4ED8-A12B-4A1BD9788DA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D1B9E-687D-4FD3-9BDB-A5AC82CF78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8B1F-92B2-4019-BC6E-BD9B355E26E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1BC7-B93C-441F-ABA3-EBB971412D9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7BEA-ABB0-44C8-B703-526855EB457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22E9-8A67-4ACD-B5C9-B0F5B9A0B90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87F6-97A6-4135-B357-8780F4F672B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8F79-3756-4653-A6CE-8B4AFEB6557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A0F1-0C29-4B70-9E35-E8B32ECF4FB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68EA-0ED4-41C0-8D78-77931170FE1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5911B-0725-41D7-82F3-FB2A72D557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A6CA621-FB46-4540-B3F1-7D9C78A7D0D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C01297D-0A8C-4A37-8FAD-3F4A897B3C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5231A3F-4C93-42AB-8ABC-E9985B33724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8ED1587B-648D-407C-8195-041D9E0484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09AC9DB-4C2C-4D58-AA97-921D9C0F87F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A2ACE2E-0818-4859-B184-81C0E6A263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A48EB7B-13D4-416D-A51C-DDA3075F3D8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65AAD1D-2681-4471-A137-326235D593E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A777B6C2-B167-4871-AC0B-D8CA0014680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5EFE869-9F97-4095-938F-E0B65C8F18A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B50F716-5DB5-495C-94F0-F678F47D6C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BA25198B-4BD9-4DC8-BCB5-07E00011857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E4DB428-0C0F-454A-989A-169F1706C36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84904E4-1F09-438C-B22B-E96723244E5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9A5C6CD-B2E4-4C49-9B0E-8F8145DF850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87D9B19-0D21-4D77-8CD9-63C50AE61C9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F4768385-5121-400E-9569-0963EF8100D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85C2068-B878-4A67-9D71-89BA99AC2CD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F21BE8D-FAAE-4B83-8F2C-E2D212C1DD5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7D8EEE3-71CB-4CF0-AD94-FB376DD85CE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00A0A38-60E0-47C5-BD42-5114AB06674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BF0C308C-F2C3-466F-B69B-49C310F4E8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B904C5CA-B270-457B-A639-26A8B8D43FB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C0F6AD30-13CE-40A5-9BCE-263037A9A94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1FAD4A2-C356-439A-811C-EC5C4D7E810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30C46B9-AECA-4DFE-A38A-2D1B741212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ED1BA49-E457-45B3-BDC7-DF28D6FB2E3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255E14A-82DF-4F65-A6F8-C4B7CE5FDF6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9D4121A-74B7-462C-804A-F6237605B3F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E133A4BE-246D-4EBA-A39B-B363B1D6076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5E3DD56-90FA-4134-8EDB-6A6EF2BC88A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47006A9-9E4A-4C09-B21A-747B233CC11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9019EF1-B007-48A0-9328-6612974603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DB0EAF-AEBE-4C48-BC6C-0A1E7885253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02B3061-63A8-4D65-BA4C-853868913B8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CCA0CC9E-5D92-4F20-9C20-F8ECF9C6CB0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F3439DE-9456-4F5C-A6C8-63D803D4FD0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647929E-D3B9-43B1-B5F8-4241A916EAB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DB397FC-4A2C-4DCB-B227-CBE9F09BD07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02EDA9D-1554-4127-BA13-C10E70E4FFC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D250611-336B-4809-947E-91EA92F5193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77CA4036-85BF-4A36-A17F-8F679B2B86E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C4F1ACE7-07F1-40A5-AB02-EA101498D78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F95CFCB-1226-4F11-9F21-2843ECF883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277B537-B089-4CC2-99F1-62B1FC5B80D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86A3F4D-4CC2-4890-96E3-388663AC4E3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7368E90-2E8A-4E8A-9B81-92B03EC13EA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3E8CFA8-DA2B-4946-B18B-E8BAC998267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D46FDE99-9D1E-4E05-BCD2-D198C5958F1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229A6767-0BAD-4FB9-9EB0-E776EA65D16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DA480A6-B914-40A5-927A-CDBD656BA67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1B6724C-E4D6-4C5D-BE27-BB258E7BC1F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A100CE8-D5F8-485B-BF86-8179AD077CE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E34414D-C768-48FA-8FEA-BE5492DC8CC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44A8A67D-6F98-441A-9C8E-5526D6FD40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1B39395-A7C0-4E53-9071-C0D8689FC8C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EF0CA03-FD28-4B0C-9C60-0BDF5ACB9CE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07C0D6F-A434-4CE5-8EF0-B91213D76ED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B27272E-8C98-4BE9-ACA5-47617E0AA0D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4A607DC-2BB9-485B-A812-FE46EE69C31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452A4F8-11BB-4FC8-AFEC-B55FEEF80CB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DED4F3F6-38DB-4D83-88FF-78C4E35FD90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9D5F16C5-7822-4511-8BA2-323A05C642F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9341394-241B-437B-AC35-8AABE8B6DE6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B757FB9C-36BE-40D3-9830-943306F3F0B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128FEAA-21FA-4E9E-991B-7663E1B6F7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0FE61DC-C7A9-47A3-91AC-2C699E62F04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FC898B0-60E6-4123-A6F1-36347AE3213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7751DB14-FCF9-4CFF-AE3A-82A2A4D0F7C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3390D1D2-8EA9-4CF9-B836-F4FC90B4A95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59650C4-1121-4250-8A24-55AFCB0C78F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6CE6173-1EF5-4298-9992-3F570EFDD04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7056A92-FB06-409D-84F9-F7C218441EE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156E3F5-BD36-4F6B-B3AA-18B4151DE9F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2D01525F-C3ED-4104-A03A-7FCCACAC037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68078772-4413-4E87-8844-EC7FD902E4B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0A2AE82-4AA4-4916-A1B7-22BB621C9A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087BC40E-2475-44C0-8C50-EAC933F5720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CC62365-9C27-4D04-9005-DB189FBD2D3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30890CB-21B1-46A7-A82C-FA48635F1AD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A076026-B447-4C0E-B2F3-F0DF512D37E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1BAA585D-19A4-4DFF-BF6E-7199DB13AF4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9F3BE1E0-A24E-4E49-A862-18052EB48CC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2049602-2360-4C49-B530-BD12941F4C7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0023AD8-9D02-4B14-9D88-D2AF19DFD19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9C20B97-6914-4565-88F4-AEDAE294440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36EA7C2-0209-4164-9F60-9DDE54C4A11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9834BFB6-9FC7-4B52-9363-3D7C752B84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F49C1698-C20F-41F7-B0E8-90FA86D067C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43C4E86-3320-43D7-B161-2DD21F33284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0880D15-F56C-4600-B263-A7A7706E11C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407C19C-B3C9-43FC-9637-EE4DEE307C1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FDBEBBA6-B9A6-4B1C-AC12-1FB28B86A09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8AAC4EB-6FD4-449B-991E-AD8DA490908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0C359A1-65C3-47DF-A74E-8076E662451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AF86EA65-BC3C-4599-898C-8D0D124BA9C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60A479A7-E466-4CC1-9B6F-82C8F0C7603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56C0828-EAF7-4848-8043-3E9FD9156F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2555CF1-FBBF-40C3-82B1-700D7B02EA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6D256C3-1B2E-4A54-AD7E-ADD3F6C8562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A74F657-0C7F-454A-B4E5-41F840AD9FF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7EBE76F-506D-473F-80CF-7245A0393C0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B952057-E247-4505-B5B0-AC7F9850735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5E34AC9-001A-4A01-9FF0-4D07C5B700C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312CB84E-918B-423C-990B-D06189F827F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88BD03D-2199-42C2-AE6D-780A8FA088E3}"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D744FEA-C04C-4444-BB75-BFE4B76E4B8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7087250-422F-4565-9C2C-9A2EB4CBC6C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0FBB5AD-07E2-4389-9654-9A7F94B4C9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C21CFE8-242E-4BEF-932C-773E3257C0D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5A87E61-4339-469B-AC8B-DDE884AA13FA}"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7A6C2899-01EC-4B0C-9193-CBFE8341C34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0AFA750C-86EE-40D3-9C46-1BA590B2F90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9CB9B02-6676-4B07-B48F-A76049FB631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23B67DD-F4F1-4B5D-9806-C031C61F6CB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06D5DEC-649C-4830-8927-2425CC5271C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B05B571-9AC7-4874-B99F-1949A54B8B7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CBD899EE-5163-4CA0-A506-EA9AE5F978A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2D3FA74E-2279-4A38-9B61-3E79781A6AF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10CEA99-C549-45E8-9DC5-B5136FC733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6401989-1F50-472C-9B35-024F8985354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22C96A6-B13F-459A-9C12-319C78FB00A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2068A68-78AA-4773-9F69-99E129CBC75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FA41FB9-D78E-4CCE-9A4F-C68D767E929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D2EF19F-B196-45BD-B0A8-EDB9C1084D5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A4E6D1C3-1C2F-42B8-9916-B0833FA14AB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65515F7-4076-40A0-B189-8107A9568BD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AA1D6BF-7576-4153-9A0E-F5B908379D0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27B45CA-5A93-44C3-A40A-E893892EF88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D45BA6D-222E-4F23-860C-A9552517BAB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F431F40C-3C7B-41AF-932E-EB98B1DE58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77A579C-F145-4118-BB9A-CCB8884AB22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0DB99BD4-0C47-4B24-9C2D-F77007C641A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3F3CC60-3F00-4C29-938C-D0CE57C4581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AF151BD-A5ED-4AF8-94F4-2753B4B656E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7983334-A64A-436D-BD07-1F84FBAC939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27B085E-1CA0-400E-9170-62C0B125148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BE8B0980-7CCF-4155-892F-106C8DD4D76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4B5C514-59A2-4CBD-9A77-7B715B64639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FAC8FE0-EAE0-4A64-B491-5F0579C5856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8D793A6C-7F46-4192-9DA0-AA7FE35BAFC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07F3E6A-DC10-4F76-A72E-217AF007D58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44A78F5-D81E-4AFF-AA35-242A5392012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D4CDAE5-2E0B-4168-A87A-C7171B051A8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51E1654A-7A7A-41D6-98B0-CC267A3F922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4EEEF166-EDD0-46E5-9A87-869D294577D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542C296-D98D-4761-9DD3-5724CD5EABE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CB37E41-CDDE-4FA2-9FED-76EDA1A9FFE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73A2979-CC31-4C94-B706-CF5311D6F96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06A5AD6-F1F7-4C82-9CD0-845893AB519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1DFF9B97-91C9-40BC-AECB-DC7B4E65C8C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8B6D93B8-894F-4B9F-B0EA-E0D2425650A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D6EB55C-0FB6-4551-90C8-21DA5D3014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73BFBA7-C2C4-4A9A-A171-AEABBF5B23E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52CE884-C328-454D-A097-4BC210E8503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FA1EB94-C86A-41AF-AA8D-DA21DDB5499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A1ACB60-303C-4CBB-B351-F88AE377B0E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D7CB019B-66C6-4626-8649-031B49E5C5F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A07257F-A233-48C8-BF3D-996DC79CCBB2}"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1130B3C-0DCB-4CBC-B859-1B829FCF05C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F4818B8-227E-4BBF-8A0B-8B186A00526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BE11087-2CA3-4DB2-9F3C-43AD23A2E2F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B8A1A8A-C44D-45A2-B93A-E86F6526725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E3FEE371-C307-4893-B591-B3C27CE464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B7350D2-94E0-481F-97CA-C2FD6EA8CAF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24DC8EE1-608B-4280-9338-FEC16C8FFA8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413C19E-661D-4356-9653-7C5067A8865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BB3CCF0-7DF5-45A0-81F8-027714B08A44}"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DAC67A5-410B-45BD-9B83-7B694A8D803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B65DAC4-07A5-40BE-8F0A-D7FC7B924DF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3AD99A86-BB4F-4591-9C37-27F08F935A9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B79AF7ED-318D-4E62-81D3-230776F663E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5E9CCB1-B111-4427-B342-F7A28F8C9D58}"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B4F6517-174E-49A7-A16B-716274AC651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7F86B0B-81F4-40E3-8093-536F9D14CD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735E2B3-38E8-4293-A273-87F018FD6DF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E221319B-AA15-48F9-8145-83EA944F160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319D023D-41A0-453E-A1D6-DBCA977E68F3}"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4342C962-458E-4E93-B137-BB3267A4434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0644117-493C-4212-BAC5-ECAF58C3331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36396786-BA44-4744-805E-793447B0D83A}"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2E2CABE-ADEB-461A-A720-F1E3FC98DCAC}"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B802F0D-F9B5-41B5-8EE5-E6EBF451B31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CB8991F7-E4B1-49AC-9BBF-311F6C69351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8DC46945-9E3F-4217-ABFB-933928DC48AB}"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C5525FE1-82A8-4637-8F67-F9F326D2D7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D48EA32-2A21-40D3-BAD7-C730C7CFB38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CF22E52A-2500-4239-91A2-5ABB4FE2F841}"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F0A5D380-0046-4F4A-B2CD-9655990E9B6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54E3E378-D01A-4DED-BBEE-C44D38FC113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D198FB26-CAE5-4382-B0B0-E12B36C68E7D}"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103FE2FF-93DF-433C-BE4E-60594FDD6AB8}"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370EA042-D0F5-4527-A8B6-DAA921966F8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98FCE1B0-1764-42C8-A1B6-A53DC8E839E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238EE588-C2F3-48C2-A4CE-6A2A1CD20B8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B7D8A809-07B6-424A-BB1B-33896082164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C809DB3A-7B56-4FFC-9BF1-02E466E510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D2EC6D3-63C5-4512-8A2A-8BAA6793567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9171AAE-2CB9-4BAA-B049-4A8AFEF8B79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26AC3A84-53B7-40B9-9ED1-DCFABCCBFEC0}"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1607F51-0E84-4A8E-B88A-F716F9033829}"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E78DDB5D-FE5F-45D1-ACE3-E55B43DA281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502A0D31-C0F5-40AB-8061-AAD93CDCC0FA}"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714978AB-1B7D-4DC0-8C89-4CEF1627613F}"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4B0AA37E-0D8C-4BAD-B8C9-CF51843B9561}"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A2F98B29-17AC-4EA9-9146-D442C70AF6C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2ABBB988-F287-4777-8AC2-8AA9E6FFA774}"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52241DC2-3432-4C95-A80A-94F098EAFAC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BC0FAF4B-63B6-4D0E-9CF9-05A3748B7B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58A90F2-DFA7-4687-AAA1-C7B1782A2C3F}"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023D820B-1AD3-442E-8521-60630B7EC343}"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FEA57018-F1D6-4E51-945D-408BCE8FC1E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D1FA4DAB-E201-4679-A604-C52B37E13C98}"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01713EC-6107-4CE3-BF1E-C971EE1A4F75}"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4501202A-5F85-43D2-B79A-12534EB6EC7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8EC572CF-6204-499A-8345-380683F92F0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19734730-2017-46E5-87EE-128BEFAA2B1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AD1F51E4-E081-47B6-9A12-F14E24FDB6C3}"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63C9D4CF-408E-4D0F-BA04-A79DA425D8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4C13152-2FD0-440A-8AA4-C07C69C13275}"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19305642-A789-4C62-BF49-4796BE616A7B}"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033DEDEF-92F0-4417-A7F0-2CE400EFCEE3}"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52F38FA4-2F18-4D89-A53D-E86184BAF083}"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416634E1-3133-48B2-82CF-98C524DCBF0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CFEE1EA3-55EC-4308-9884-924A2DB0806C}"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5A0ED9D6-4D92-4D88-909F-6401FC62BB94}"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874D4D99-5B80-4783-938B-FB9BBD070631}"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0114E77-6BC4-43BB-81C1-6276EA7AC91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128C680-4CD7-4450-A5AA-E8107962AD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5EA7F7BD-5BD4-4E0E-BD73-1C2A40B55CD7}"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41600F77-1F98-4F3B-8B68-DFF52705A059}"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91869FE3-E7B3-446A-BD75-BA1ACE2B4436}"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0308E0DD-72A4-4356-857E-0F09860A5960}"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AA0B3107-DACB-40B1-8ADE-E73748854916}"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8606805E-9580-48EF-94CB-18BCE48AFFD3}"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91004BC4-7AF1-4813-840D-02AE357E3F3A}"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8ABDAB56-86DC-497A-BFBB-8BEDEA5946BA}"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2C5DEB32-6586-48AD-A76F-F1965D5D5656}"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CD31C423-5AD8-483A-9B87-C9846332D956}"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80FB9CF4-4A65-457A-A41A-873F205D60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D3BB3B29-73CE-4A8E-834B-EA402DAD1D24}"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DF8B0BDC-81A0-4514-838B-3BAD44A21050}"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A458EBE-171F-4F96-9FD7-201D9845D8F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294BC2D3-AAB1-4C6B-A14B-66D3B2281FF7}"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0DC51537-60B3-4784-9B0D-0F87313C463D}"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F0A2539E-4E5A-4EC7-A5CB-77A6B0EC61A2}"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C1C1D639-7D08-4770-95E1-7E66BEEFC198}"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6A8069D3-BC06-4E38-B31E-F58D844852F8}"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8BE3A3E4-8B26-4E23-A6A8-0ED8B9999613}"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DA1F2C09-A359-4724-977A-3B04DAB8C62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75C0B173-CAA2-41EC-860D-C9ED84E5F41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BA6FB73A-2820-4091-A609-09272DE1E3E1}"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EE4DF093-8B52-41FE-9D10-8FC066E403A2}"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7A7D6E65-69F7-4D4A-852F-B59F85FF252B}"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39E377C-0F07-4D6F-9A24-1167CA269525}"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2CE59CB-53A6-49C4-99EF-4C6082DEF795}"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A01D7688-C1C2-4254-AE6B-8A08EE983B49}"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CCF7C670-F256-4E0E-AAAC-17D0C34314F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9640CDA1-925A-4B63-8454-EFBF5300615F}"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78C1C0A3-2573-4655-A6A8-8375F50697D5}"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82121728-C8B3-4913-BE03-C544A2D7BEC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E714D78-E917-40EE-B940-9D124C9FCFF0}"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EE9B6577-84EC-49B6-8B48-351131CD1AD4}"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7361E0BA-B0F6-4609-8D97-69E462E18CC6}"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08188295-0455-4F85-BF15-D83227D4798A}"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C8B55112-A884-4B00-A3B0-D3F02636AA5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1221E48E-7850-4F29-8543-FCBA524C5EA9}"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942C349F-58FF-4C65-A59D-91EF81D5B73A}"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19AC5990-6943-4093-92D8-DF080E81F76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00130C6B-188C-47B8-83B5-8E3C8F38B4F5}"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8F42AA1C-E058-4DF2-BAA1-CBB2FB8379A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BF3B3E4F-7AAD-492C-AC3E-D0ECE5E2A5BD}"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B239471A-B757-47EC-9802-0119CBF1538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17E6E58E-6149-4060-9DAE-F359314CA898}"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483CBB2E-7BD7-4808-B38E-F6E6E2D8EB4C}"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37DC18A6-139D-4FB5-9EE1-3FAAACE1340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B683E4A5-F855-4562-8E64-72B439DC5FA7}"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DB13AF3F-E0CE-4A15-94B6-97EB38481D7F}"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3715F7B-2209-47B3-9624-6726D603C54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D253BDF3-FCC8-49E3-81B5-4B6DD3B1376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46D7361E-864E-41A0-B301-B901252DE7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B64F842-5D46-461F-950E-31260316BC9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ED5A11F2-7568-4930-8E62-1B0F7006B9B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30240EF3-574B-47AC-8845-E640175C68EA}"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3001DF5A-6FAE-4A38-B92C-4C9CB6C50F3E}"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288058D0-D6FF-46A3-941B-A73E3CA1C5B4}"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0D2FFD5C-F5EE-4BD4-B14D-90BD47BAD92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0266995F-224A-4EC4-A484-39C01343F5AB}"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3B8D98F5-B677-4ECD-B694-DB077AD59B82}"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83D0B7C7-7965-40BC-B76A-B8E41EED48A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C257D903-9079-417D-9ADF-219E61908F17}"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51D081F6-E79A-495D-86E0-0C4B32A5644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11573A18-0644-4550-A71D-50800CEEB864}"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06D69AA7-5B75-4559-B508-4DA8E47E38BF}"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3078CBFC-E814-4529-B6E5-6D4B7B9C2110}"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E00DAD17-4080-41BD-9B1F-1AB1756251CC}"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B8E302DD-D154-425F-9189-6B402707F34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087CE19-FCD3-44DC-90D4-BC4F4DA6CDAF}"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0F94AF36-8F9C-4304-9961-7E02B54A69C1}"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C07491D1-1556-4650-AC6C-F88B8369599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DDF4E76B-ACEE-4011-B4CC-1798CEF0DECF}"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8212E566-F701-443F-A86E-58F875539C1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2B0CC16E-E33C-42AE-B465-AB63667663C7}"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76DEDFEF-C571-4AC3-9CFE-6D11EA22CAA1}"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89910E90-9874-496D-A5F8-25757CB2D9DE}"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70282ECE-741B-4026-A90B-035E60C7DE63}"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F085894C-F8EC-4AD1-85E3-91CD1EC73AB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FDBA9620-2A56-40B1-97B1-4EC0331F8AC1}"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B93A1FB7-6B28-481F-A55A-F34DAA156F93}"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0826EADA-744D-41B5-BECA-2D1A2DE4E74B}"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960DD945-1C3A-49BA-AD95-594213259D44}"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2ED085B4-E9AB-4909-B5E1-CFF9F224BDA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7A99BBE1-3CD0-4F25-B9AF-63E751ABF3F9}"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0472D751-C9AC-4911-9071-693AE3155F50}"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6E64FF0D-270F-472B-BDA7-5EC192E5A3B1}"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C8618A17-05DB-4060-92A6-FCC11170A05B}"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406BCBAF-E2F9-45B9-A72C-AA872E5C74BE}"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9786D32E-8E96-4455-9F48-334615AC54A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716B81F1-1FE1-4482-A9CE-5E5ADB123F6F}"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505B615C-2B67-4EE1-A801-DB9838AB6311}"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BD4A0104-1D72-4896-9AAB-F49773E37F90}"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62DE33B0-D135-4FD4-975F-37EC9D4DA65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D474F6D0-C53D-49D9-8D77-95D8359F6B48}"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3C2246C7-06F7-4B87-BFFB-115F914F2396}"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DA9E8CB5-DEE9-49F7-875E-10E7B3ABE4B6}"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A8BC1CA5-7064-4FC8-B64D-E22666B0245F}"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B9CE43FA-9561-45DC-BC03-7606EFD5046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30AD12-105A-4172-835F-72FDA1A4F7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BFC508E0-EEA9-417B-9638-1379C7CDF6A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95DBE8F-1A63-4E37-9034-92AFACE6FFB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C5E8FEB-33A5-49EA-B649-4D973DAC3CA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BFD4887-C783-4884-89F1-CEBEBA86290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BC7944B5-2108-418B-B81C-C82B8513333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18C5A5E9-F476-4A16-B3BF-B543EBBC84C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5AFDE07-8AF0-4FA3-8409-0D45A8E5609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EFE8B60-023A-4C8C-969F-3205B5CD4DF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4CADC0B-0E20-4017-8D40-56E98668AF4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253F1E7-CF17-4C3E-89F3-24D5E1F48D3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0239DD55-4028-45CA-AC5A-FE38819234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C4C34AE-3D55-4759-9D17-3FD61A7F6C9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E2AD2BBF-65F2-44B3-86F3-BB5011D3774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AAF5DB9-93E8-47E7-981F-A1D929368C4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8FBD44F-84AE-4EDB-9598-F45AECDF75C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A26C7D7-A55B-4B51-93DF-2F9BC138848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0E4D10A-C030-4EC3-AE9E-18351457665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905816CD-E33B-4B82-8224-8660787620D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C754358-A84D-4BF7-B80D-BDBC0825697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8CD3B40-AEBF-4EC4-B6BA-259A8916106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D11B152-8C4F-4578-A1BF-200F580025D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1182A8F-BED2-4E84-917D-A4C7446429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5D57F19-2615-4617-A238-42F043EE0E7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480610A-17E4-4DF7-AF67-17C1DA4CC9F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41FDEC4F-9602-4F55-9CF3-F293B92DCD6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D8B76F5-7C01-4E4C-9CFD-A5C34CA7E75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5ECDA02-D0AE-400D-A16D-1B6A746C89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CD212D7-DF24-4602-B517-B7D2FF9D101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204CC31-969C-4E8B-9DE0-4DB5383CAA1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460FCBA-C438-437F-AE39-6E5634D3808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97147B0-D7FC-4471-92A2-8E092E6D010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A1A8E98F-7155-4A25-8850-FEE0F70E16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4E42B9B-83F2-4F0F-AE60-69C566C9187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3D216E87-F81A-432E-B1C1-ECD5447FE66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1ED8F56-03BA-498B-B7A4-51B81797104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1873616-809E-4F47-A114-2ABDEEEB3F0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91225D6-AB58-44BB-8589-B2AE0C7A095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9213400-17B6-4901-8502-2CA50AE604F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EFC60644-6DCA-4777-A53F-A15DC38CBCF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BCC7E2A5-019E-4A68-9EDF-99E4CAACE41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AAF10C9-3FBB-4D2D-AE6B-4ECDCA32EB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70ABA88-1145-4445-BDC2-34A97CEC42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FAC3DF8-E664-40CF-8580-EB82B5A34C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4670-29FD-4B2C-A0CB-4206BDED36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E81F-E9AD-4478-AF31-DBF93E2A3A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C6AA-0A85-4C36-B01A-996773D326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5ACD-2C86-4673-A06F-3D20EB603E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4C53-A870-48DE-A794-A26E4D5B61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9902-B2B6-4341-968F-DCC086BD7C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8EA9-B2AD-4B50-913D-B241CB2803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C2D1-B8E5-4349-98F7-6DE27E6073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BD47-3440-469A-805D-AEF2CA678023}"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7386-9A86-4FEC-8328-FCD9FE7EB1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323F-18E7-4B93-80D7-27B6643089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C5C1-3B97-4937-8E42-A6227716A0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823E-7A8C-4C7A-AA8D-ED70210EEB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98F7-C7AE-4A3E-9FBE-A4EAD7C5EE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DBCA-FE47-4125-9571-8601DD8D2C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EF2E-2994-464D-92DE-1BAD500DF0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69C7-3069-4B50-BCE2-CBB760C3EF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6272-017E-48DF-BA9F-2FF23D4324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4FF6-F35F-4702-A4F6-B40B8E21DA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B67D-27B6-41A8-92A7-ECFBC93C501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CFFB-4F6B-4447-943B-5F985BCABC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B526-35B5-4A3F-BE0A-03EF4A7900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2FE5-46B6-4F6E-B379-6743325CF9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4472-CD1C-45EB-AA7B-ABB2F14F66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4AD1-FB33-48A6-8803-64173F57A9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70AA-32CE-4D8B-B8DF-51D208FED0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1C7A-B572-4993-BDF5-292BD8DC2E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1A80-A28E-4AFB-BD9F-114792B3B2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4679-64AA-43C9-86B8-E076E45F15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3D2A-74DB-483B-8A49-933831B615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DB43-A97B-4DB4-9583-E3492AC817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6229-0432-400B-B861-5A0AB61E2E70}"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9268-E8DA-416D-9EF2-401979F7D6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5828-896A-473E-B0AC-EC032CED02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5A94-2741-4744-A378-F1E8DD5C8F4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41E4-4897-41B9-A3D7-263F928CA37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6411-BCA1-4373-8CF3-1C07A38CF3D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F9EE-320F-437B-93AA-1E689DD9776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