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F3D1-6E0D-40A5-B9CC-9AC12D11C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2342-3B19-4439-8142-B74C41161CF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4046-008C-415C-8C83-43E63C5EFD9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47AE-2DD2-49BB-A82F-B30CEE4A972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F040-497E-4C17-9EBD-3E0773043BE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B4DF-E3E2-4B22-93F0-4717917879F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67749-802F-4471-9F68-191501B45D3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AF05-D16D-450D-8584-B7C0D89D4CA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6B973-9591-4FEC-9E0C-FB22D2705A4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CE51-F555-4B3D-B40A-97316652210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75A9E-FF20-4FC2-A211-5C8CB523ED0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3601-F807-490B-A8E0-B3FC97BC669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9E14-A9D7-46E5-909C-13B71409649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9ECB-B94A-4069-BF35-2591D391A06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4A08-9756-4D9B-AE24-2282E6AB885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AB73-0CBF-4E84-9827-2A354FDE903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F949A-02DE-432F-9469-C343CD118A0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2D68-8BDC-4D61-9F87-656D6DF8761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72C30-D67C-4BD4-B089-BD40C368002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29D1-1304-4E02-9A3F-E47AFEF9B04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2A26-F36E-43D8-AC70-1400CDA01A2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BDE9A-363F-466C-8576-E2CCB666D10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D655-AC6F-42E6-9269-8F691B11E03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E76D-8495-4AC3-81EF-3B771883A02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8214B-A15C-4913-BF38-97976BFC268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F4EA-C74B-4A3B-8386-31792045643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43999-308A-4498-8C51-CA68A175B93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CF17-13E6-4538-8655-4B65CA84CF3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90485-A8AB-4637-9533-0390829A9E5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3026-C6D9-495D-9CC8-3CDEFC08099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69991-AEC2-43BA-AD40-21C7F73CA47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781BC-E10C-48C9-B053-A075B278158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D2C35-2134-499B-8D50-023DE6F3508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0575-DEFD-4D50-B3F0-2B8404E0A4B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392A4-B289-44F8-B7D8-2F25FDBEBA0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036224-8804-46E1-A813-55CED4099E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2E76B62-5279-4DE9-B6AD-0B3B51A1E10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20A4B0A-F0A4-4F1B-98B5-34D79A3FF15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E3A6ECB0-4A5E-4BCE-AE7B-32F056EA317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D5FDE467-2546-4704-A2F0-E46047FAE49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52C1B90-3B8B-47EB-997E-B3AB120C9DF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4623880-73C5-41B4-960C-B47CB1DCE58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437C702-3BAF-4290-96D4-B34CF0D2760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0C1400A-B778-477E-8705-DB7CF8857E8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EE1BD7E0-81D0-4B4C-9820-AFB7ECFB7DC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D58BEA81-4927-4212-871F-FD2C2A43FE2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10DD2F5-8C21-4DCD-B46B-FE1124CE88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D989730B-650C-4B79-889F-346738A4BAB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D68E9370-8488-4823-8651-64F96C47F6F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8BFF452-3CFA-4C8C-8D13-FD04EBF2C14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C8A6CF00-F1EF-4C24-8476-EB742A6D2E5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5504428D-D617-4D6E-A702-08B276D3C58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4392382A-E235-4405-BC62-EAC37796465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F602B93-D4F7-4E5D-9BBA-93E3E1BDC49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2E01073-CA45-4F80-BAB2-3315F4838D5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8303134-4092-45E9-9C42-2F0B416524A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53309791-10F6-4E44-9069-5B1ADC5CB79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9D29E639-547F-4855-AF86-553C42954E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F0765677-995C-4FCE-8733-A803D64D2D3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A6E07FF3-B08A-4746-8C7F-6E7E487E71C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0CB8B09-4173-4048-95A7-2FD73F29F06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605CC99F-0006-4CA5-B103-2F00A420755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B14BD769-5281-4FEE-A400-217F4B49CCB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B176AB0-8A3D-459C-BB57-A23EBFA7C2B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78C1E65A-0D17-4453-A570-1FE81CED99B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D7559E86-B117-485A-9CB6-E9692B8477B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E9C09C0-4144-4E47-9C92-093385B4DCE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489481B-AAF8-4029-B939-FCF6C3BE3C5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FEAA945-6A16-4F62-AAFC-BD1EBDC35D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20D628-1B05-4014-8DDB-2270A8321FD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2E0D4659-4C1E-468A-93D8-ED08773110C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FC11339E-0E6E-4111-8503-6071F66F0E7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0EE4D549-E3EA-40F5-83A3-88463B460C3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CE9B660-BF05-4140-B0CE-F1037ECBBC3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A972649-DFA6-4A09-A7F2-7238792880D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D5EE5991-8837-4399-A6A5-7A68F4A8351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0EA6F30-569F-4624-91BF-A1CA05EA1C5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D3E07253-7C8E-4E2A-A405-0F7908D6E47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F7A1CD66-4B6E-4A7C-BA63-47469E0F89F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699459A-E81B-477E-B32C-40A20D7EEE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AB1C9A8-D462-4F9A-88A2-5EADE6653B2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1ADF79D-6C27-4693-A4FF-7FD0D7E2C98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2046046-AC63-48AC-8592-4A515FCF270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2361DC0-AD4B-4F83-B1E3-3CD7366EAA9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3840BF08-69EE-401F-9311-331D1F31E38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26219A25-3462-4046-ACCF-C195DCC17E3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31DAB7E-7A7F-4D34-B3F1-2ECE4DC28CF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756033C3-B1E7-4DB1-97BF-437AA9859CE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BD39DC5-C28A-48E2-8440-287B74725AB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F3B5A4DA-88BF-477A-929C-939FF70B0EC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35E0B395-0AA0-450D-BBBE-1E9C09EE2C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92D637A6-2363-48FA-AB11-759C5D9445C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2F11E02A-4BD4-4F8B-AF78-9844D9F0681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FDED606-8EF3-4818-9A25-E4E0BC9FB28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EEE025B-12B4-4F6A-8C86-CD50B5EDEB2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E79762F-ED01-40C4-B8D6-13CE57082B8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6E80BAA6-A02A-4144-89B2-416EFF45922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E05A4018-A399-40F9-A7DF-20A92A1FECB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EF642CFC-A190-4276-B0BF-24F6BC168F4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499E3B6-CD79-4A3F-9BC0-67A667DE6DC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7A22E13A-2D1D-4979-AA15-847068C6B5F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B08E16B8-2D22-43BA-B610-EC8F6195F1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949A7030-C493-4CD9-AF91-D66E7C39AD5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F5FE36C8-7AEB-4513-88B5-7C107A1B743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5E03374E-5326-42F0-82CB-BDF02AF0F22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D2806935-B0B3-4D68-BA71-614F5C1B734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7AA0255-DC3B-497E-B461-26C8E504AC0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DAF9F14-A596-46A9-BD60-4E452AFD084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2458ADD-D7FE-4B11-9707-A969A967857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82AEFCF9-D9EE-4E42-9D88-DD40130208D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118A4EE9-1555-48D1-B156-62245A69C73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F85537B0-2F35-4023-BFF6-593E744F5C9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6468E07-88C6-4046-8F04-D26137ABFC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FBD768A2-528D-44FB-BA63-9CAF5671483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BCB267EA-CEEB-4BE5-98EC-3C77435F6CB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F32BE0B5-24A2-4F36-9E2D-56C74BA4C95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C08FAF7E-8BA9-4E36-8F9C-871E7EE4303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71A363A7-409F-4E9B-A178-298328032D5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5BBB14AB-A33B-4DD0-B9F7-15BC83F42CA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207303E-8FFF-4271-9D57-4ADC26C4326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54BEEDA5-1103-4994-9A29-C9412BDD521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52A15A25-12A0-4CD5-8679-84C26771BE1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A614936F-53D1-4D53-B729-1B09D2E1B1B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BB8303BD-0C78-4B31-A936-C45DED52E3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B2C08678-2A47-4DBA-8F69-C406328F032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785D9A0F-F9C9-4CCF-8EDA-DDED0A0FF6D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1DD0A8C-0695-47AF-BC5F-629079FB729F}"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BD349F2-0585-41EA-8FEA-B8A827382C0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490A7F3-7010-45C2-BFF2-5CA436300DA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067890CC-C230-4929-96C1-DD42C9AF0C0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ABC879C7-C424-45FE-9E41-A7253E9C862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680DF694-885B-42FD-B256-550571AD0A6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43CD03AE-3B3F-4064-9F41-40D2772071C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391D7500-A78E-46D0-AC37-75FB26C32F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2531FB86-1573-43AC-8957-5EBF9AB701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BB6F548-1C86-4EC4-B598-2D929266F3CC}"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3F7A287C-0C0C-4C3B-BFEE-0C4B2C14510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4A7BB04-FCDB-49D9-9125-E9F16887CD8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4E90A049-3A09-4961-97F2-2E09ECF598B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562B97EE-A37A-47C0-9786-1933623C6C9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425F9F60-5C50-4E9F-99C5-26A92884EA4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B0154A4-5216-4A1B-8F5E-A291C5D8492B}"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0FB426E-019C-47B6-AEC1-F582E92BE8DE}"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7A1210DD-2C86-40FF-9E87-B60570BA1F6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2A92A740-FFCD-44BB-9B42-55A2D40606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660EF3E6-3866-4565-931E-41ACEFDC2F7D}"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FA305F2F-CF47-425E-8B90-6C2D4DD7B32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C4DC5454-836A-46CF-9538-C9B0B726A2E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93643BDE-9896-4211-B03B-6F8E2C595CD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BB01410-096E-4542-AC47-2DD257837E5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3CDA3FA-9B49-4231-9CEC-09235864DA1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0FBEBD0-FB31-423F-9309-22697A3578C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00B1659F-7709-4200-A9E7-CA9A01262A9D}"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269B8A47-23D9-4D7B-B4CB-D9516780736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9909D576-0E13-452B-B35B-93F63801979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24887C8-8A22-48FC-AE7D-5086B0A2A7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ED554208-22EC-4C45-96C2-DF8413DBA9C4}"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1A5AD24A-26F8-4384-9782-8BE2E3B16C0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414387E5-930F-432C-A299-56C7867E9058}"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2B7882B3-E106-4D55-A603-9BE1170872B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688610A4-ADEF-4013-8025-5BDD5A612580}"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751B5B59-1836-4BB8-93BE-A5EE15CE4B8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EB59909-1392-44DF-B09F-A0E0F7816B0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4FF0392-0A29-4B36-B463-85C71BD8992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E8FD81A-4E4B-431D-9C4B-3C91661C5C2B}"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8D543E07-8C94-4B85-B1A1-90B3AFF86D3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CCDAFFAA-4DF2-4709-A784-09717F7E85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FB88D5F8-E54A-471B-A198-221B23AF5505}"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D5AE2EB5-B3B5-44AB-9906-50A6C73BB6D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2242260-2050-46B1-99CF-010F92BCD1F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C57E0ECE-4757-44D8-860D-8D13818AB1D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4B0ECFBE-3140-4DD4-B7D5-1C0C2FEE2F82}"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37588F5-7D4D-4BD4-A6D0-4F8894BD7A8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F372E58A-09C4-4A6D-ACAD-7A5DC052BF9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5BA3A278-67AE-4EB5-9E8C-95F20E18BDB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5283788-D678-41CE-883C-DEBE1362B35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94B1211-D856-4ECB-A3F2-4BCA9873B049}"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BAE79BB-02EE-49C6-9851-D928B89E4A2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F2FD027-C79A-417D-89C2-6D6FB52E4DD5}"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9E3A42D5-E8FA-4396-96C7-7B7F192E947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0CAED682-E146-4430-9DE6-D3E77F00C9F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9A371B69-EC70-4891-B3C4-36F6C9D7DB5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6EEA29F-092D-4554-84A7-850220BA4FC1}"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DAA2F238-379A-41FE-A18D-41D66807BAB5}"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148E2215-5436-4F1F-885C-B33D2566836D}"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7221A4E9-2624-4E78-8C4F-306418C9B96E}"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B639CEC3-1955-4AC6-B40A-AE57706D48F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D4327EBF-4575-442A-BAF3-5E5CAEC12A2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8113C1A-84F2-42D9-9E44-A115D028FE4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78FFCFF2-3AF7-43B5-A120-274FFCA2F005}"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2BDB5D67-78B1-4DBD-89A2-11934C36C95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B86919E-7103-484D-8169-7060E3D6781F}"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C27E564-6608-478E-8A5D-012E73080597}"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C0D15999-AAEC-444D-8921-AA1F47391897}"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25EE176E-75E5-4446-808F-89728C8816D6}"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5EF7BAB5-87F0-4238-A662-5160A01E8AF6}"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C0106DBB-7123-4409-824F-ED2157F34560}"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2FEAF7EE-7BC7-4238-B1A3-0245D7C8E9AD}"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E918AF2-BA83-4D68-8891-25DEBC6AD94E}"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7D70F8CF-67F5-4BAD-987F-9A0BA672DAD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FD1F478-4F43-4AFC-BF8B-2193DF04EB72}"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668C7937-7E5A-4EF2-A441-37B806FC83D7}"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5C1D433-31AB-492F-B8D2-FDBDCB67AA88}"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9DEDB9A-3D35-4B13-A463-83ADC157AB47}"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DF18AB4-1D23-476E-92F2-DF4C1098D009}"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FA53D5B9-43C8-485C-9F2C-DDFE371F9B19}"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657DC6AF-BC4A-4BD8-9501-8B314D263822}"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F33BA526-D46F-4852-8FE2-8AEC785B4DA3}"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DE256A7-75A0-47E8-89EF-9375E91C2ED0}"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BFB37E9C-6FF2-4FBD-94DF-1F6F92ADFE59}"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4AEC4176-CF9A-433C-A51C-FC3DE8ABDAB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B61DA631-85C1-41F1-B4B6-E99FA072A4B4}"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A492F475-4EAD-4476-9AFC-D94FC423E23B}"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5B0835D8-DD8D-41BD-BA0A-9568910475FF}"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9606A3F6-0751-41EA-9CA2-BE90522493B1}"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C583CD7D-EEF4-4537-AF60-1F28C18646B0}"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D3A76C38-D8B7-4D0F-A17E-C02F1D8E3379}"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D4DB283B-1EA1-4039-A802-399FAFDC31EC}"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6DD02AE5-CBF9-4B70-BEB6-1802052DE94B}"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2F4589D3-2C18-4F74-8C88-5D5C30849E67}"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EC5C12D4-0F6A-4D73-9D4C-700BCE6B87B1}"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07D4798B-EE1A-46C7-9835-98E06D3F0DD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523B5174-65F5-4254-98FF-6A391D2E8016}"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FF626582-E6CC-4F6E-949F-5B94DED0E0AD}"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B3BFD9D6-1842-4827-8F22-C10537BDB1CC}"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6DD2DB86-EEBB-469B-8FD9-4552D59E9678}"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EBE3B9E6-4A36-4556-BA7F-07416417E3C1}"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1F725826-BEF9-4A6D-91D3-AC21C1FE2825}"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0779E268-2066-44C8-B716-F05E6DB0F46B}"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DB448E83-D5CC-4164-814F-3328804984E1}"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593D5266-FCB8-4622-8FD9-3A54ADDFACE1}"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C2752C8C-A4BB-4E50-9968-F9098C6B3D61}"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2F837669-05C1-4C70-AEF5-1E05F20F82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C0E2927-F98D-48FB-BFF3-0CE7D483079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063749D7-8395-4188-A395-0764D2B09E52}"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31FF3B16-5138-4AB9-B960-DD4B7B040111}"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55BA6F09-7CB2-4DA0-A301-101B42AB9FF0}"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BCC8D4A4-F603-4A89-9B18-0A8D77792FE7}"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8620138A-FA4B-44FF-AA02-72757BB651FB}"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0F882F46-C5B3-4E5D-BA35-03B5E936CECE}"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461062BF-D1B9-42A2-95F0-96B01564BD54}"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3CDD6345-C1B7-40A6-BCD6-F98E79AB516B}"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60C0B950-5CE0-40B7-B445-7D49C5682EAB}"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32FF0AAB-F528-4EE8-893D-E6CDF5976486}"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4C2CD742-CDBC-4A88-A576-358642570D2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3FF8C0A-125E-4A60-B777-91617DC36BE3}"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413ACEC0-A6A9-488D-B1C7-B6C4485C7091}"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4D510500-7DEA-43FF-BD3E-74008D65F27B}"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3E354FB3-0420-47C7-962F-8F665A3F6254}"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D876809-24C4-47AC-9FA9-534CE658674F}"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CA9D53FA-1DD1-4BF2-B0E6-A527B42493E2}"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A1B09184-93B9-4BF5-AD09-3E7B5BE24AE6}"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280D64FD-B9B7-4EDF-83D4-E49DA5181A18}"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481221B2-A73D-4314-AE61-537346A69781}"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BDD3B62E-6188-491E-B28D-C2CD3296032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DCAA426-1316-4D32-A14D-590668E20D09}"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97935F5C-7342-4D47-8DF6-31A8FD2DA348}"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364B7B97-CEE8-4D28-82CA-A66CF481C8B7}"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351E1B0B-F5B4-493A-A1E6-9A16A1B9E7E3}"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F810FA1F-D01E-47A3-A6DD-81FDA0788852}"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535038CC-F885-4E63-B948-D643BCB5AD03}"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86A862DF-C8FB-488E-A1DD-23CDB2DBF1FC}"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69C277A0-7375-4DFD-9253-968E67960FDE}"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D67FBB01-4A70-4F8A-9301-478656DC6F42}"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12E588A-4029-4516-9393-901F3AAE492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C2C5EB9D-61C1-4FE0-A8DD-45B31D2D850A}"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A5D1622E-E426-4F7E-9100-AFB1877C6D81}"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4849400A-97FD-4DED-9CC4-D866EE2AE75B}"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99FAC293-6022-4CE1-984F-1D1951192862}"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1A80A1B0-F9DD-4178-9F07-2B205B36A9C5}"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6E446F06-77E1-4875-93A2-BFE7E3E6AB00}"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AC2C1E31-2537-4CAF-B81D-157695F45C4B}"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3D553FF9-9A8A-4C2F-A903-92FF60498B92}"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7896610C-32D8-4E2F-A919-E92E00D67667}"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BA9FC13E-6EFE-485F-9F69-698744FE6DA5}"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AFAD40E9-AC50-4EAE-93DE-ECD5E623D78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33B567E2-D35F-4B5C-80C5-6E22831CBCB2}"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3B39E420-68F0-4204-92CA-A1952C73DE25}"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80BA514-6941-429F-99F4-F4667550F434}"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C6293381-3970-45CD-88B2-C93603720013}"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7D907520-712C-4F3E-A89A-FACFEAEABF10}"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9C826DFE-AE13-40E5-BB21-6BEDEC41ECEB}"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AAED27CA-E87D-4498-AD0A-87E11765AEEA}"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D8737C76-5419-4E98-8719-330FA7A8C339}"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B2AC4FD6-4252-4C09-898A-65D5B5E07220}"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6F06BC4E-3EE7-449C-A1F1-3A513F3404F3}"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F2069ABE-FBDE-4885-94E5-4667DE3D805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B19996F8-D963-4262-AFD0-67A70D04780D}"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7290763E-B997-45A7-BFEA-274C9F256CEB}"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7612089F-8BF3-498C-B3C2-A9B061794190}"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0D956C9-3DE5-4620-94C2-F91CACBD0DBA}"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2798B862-3AAE-4A27-ABAF-FC1EE2CCD885}"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02DF8C52-8583-4C8C-8FE5-E641ECE803F1}"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4C435BF3-3920-4FC6-9D15-CF075A5D6D5D}"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6CB6DAB2-4105-49A0-92C2-129211FEF15A}"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8F6C4023-6356-47D9-B012-B8A7B29EE0B2}"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C2985F06-7397-4C76-A7C3-BFF66991BD9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3D5D04B8-6C17-4A48-9C56-A255791D416A}"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11120C92-6B56-45E9-9208-03A0C9DDB90E}"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79D87C48-06D8-4D51-B943-137B9506F57A}"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275CAE08-985D-46B4-A76A-16146CE3EBAF}"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EDF60121-773F-4271-A3B2-3344DA83E76A}"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A32A0963-A1F8-4432-8A26-0089EE32C293}"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6B50B9E3-BC8F-433B-AB4C-94CC1903AE0F}"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E1A0F189-DDCA-4C67-A887-8ECD33BDE791}"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17F52832-FADC-40E7-B5DE-82367202F8BC}"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483EE844-70F6-42F9-B2E5-6E8E1E37959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F2DD388E-5C51-4C15-BA5F-2BC19169F9CB}"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2296CADC-C81D-40FA-9D50-80D09F49B777}"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2B64FD94-7D5B-4CCC-A3B6-7D4F6579E914}"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294BA2F4-BA04-485B-BF04-F1385B451E57}"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98E2D836-A942-4B68-BF3A-B1ECE6E2DF84}"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210A358E-F9E5-43F9-8DE6-DCD0BF2B9804}"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4A436DAB-7766-4B2B-8FC6-B871DADF0ED9}"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694FCD1A-94A6-463B-B657-47487631EAF7}"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7BB59BA8-CCC6-4BFE-88FA-A6A51302FA1C}"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A7EB049B-65C5-4222-908B-DECB26546B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C3E2CFF1-4AFF-4ACF-856D-9E3BCDB598F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98456204-4DA4-475D-99D8-7C8BCB10EDC0}"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1EFBFB69-4D99-4698-BAE1-6EDFF8DDAF27}"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91BA2F13-47DF-4C1B-9C42-96556CB77265}"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E17553E9-6CA2-4431-87E4-296BAFC760CC}"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4A5F25D5-A6BE-43FA-B58C-7EB2F04AC5DC}"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D1AD9E5E-48DF-40EE-ACA9-B7E157A5FB3C}"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A940F9A5-D897-4D8B-BEBC-405DA3577F8E}"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340473AB-8D6D-479C-A9EB-AC995E63F371}"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672C3521-01E0-4805-BA2A-AA21806F9F86}"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5CFEA322-3AA6-4289-88D3-98147487FED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C26A5F66-F301-4439-B102-AF4BDD54D60F}"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6F86E39B-A316-4CD6-9CD6-BB02D4BCE1D0}"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1D0FAD32-CD65-4A44-A9E6-01469A5BABA1}"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8F2E59E2-4140-44C7-BF53-1A3DECB30FE8}"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2E8CB310-CBE0-4875-9F4B-9B708DC38823}"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C0EBED56-DE6A-4C7F-9CE5-30024FCB5D83}"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52666B5F-B6BE-4C08-B151-AD9F2373997F}"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96587A35-A89C-4137-8233-932F3ED6A851}"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94019E34-ABBC-4CA8-BE76-2B037FDAE637}"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9F01A3FD-71BF-446B-B888-A052B9F9E92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07FF6A7C-A82E-4ABA-94BF-A396807529B9}"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B9BDD360-AD6B-406B-8787-54E22CCAD4FB}"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AD486483-670F-4EDE-B668-18450340D972}"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8D43A216-2415-47DE-9C88-5971D7754B0C}"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1D9C46E7-EF00-420C-91DB-D6E7DFE1AC12}"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2D4821CB-9C18-4EB0-A4DF-D826F616D24C}"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A52E039A-A7C4-4508-B6DB-71B694F6C40F}"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86AB3B6B-B7F0-4418-A5DC-30FB7BEE0B54}"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EA8E8FB7-ABCA-4FA9-B173-6232BEE6ED77}"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F094A2DD-C312-4500-B1C0-735910EFB68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6F4C5BED-6EEB-4EAA-B671-7604DA117EAA}"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CDD3802E-545E-430C-8555-C7D41D593262}"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34A52420-2EC3-406E-BFC9-ADA7511C9F5C}"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B8B6AB0C-8559-44EF-AA3A-0BA8D933BEA1}"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DC81C038-CB91-4378-A4F0-D8E393E73D7F}"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909028D5-CD61-4E9F-B71D-CD4E56254455}"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66FDE46A-CBFA-41FA-81A1-DB89FFCD57B9}"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DCD219D6-87BC-4EDB-AAFE-99FFCD342E1F}"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139B69BD-05F8-49B1-9FC9-9ABD433CEE96}"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EB47363B-7D4D-402D-A4E6-55FA1C45D7A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7A3640E3-7BF5-4552-9475-195CEB794962}"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553C8225-02B6-4C56-9E2F-ED0858D9BBDD}"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31F9779D-5670-4378-B605-269159FFD8A3}"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5951A9D1-02F7-4D7A-A08E-036AEE3C9B05}"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0B213825-0E2D-406C-BDE0-D8BE9194364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554ECF-4E5D-464B-9B38-5871D0E6A6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CE363AB8-42BE-4BCB-86A3-F8B72FAC9AD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7F2F91CA-5360-422D-82F8-F93AFD1BA80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F6A37E75-0ABF-4FF5-B5DE-308F47411BE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EC7CE568-7623-4A05-85FE-5AF77A499A7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A06F815E-C3B1-4A94-A478-385BAC4CB51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74778AAE-F1C0-4911-BCCF-3D765C5F9EC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DBE5B51-713D-4F75-8907-B7F13BDD83B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4995050-7304-4AF2-AD53-11926A3E1B5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FFAA0D09-4548-48FF-9F80-A90D00E6A1C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E60B2C5-42A5-47A4-B8F3-1C3DA563F8B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2D5B3DA3-9C9D-43BB-92C6-FF31141FE9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5EB727C0-A98E-4B98-ADEE-92E05B29B77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B0586A1C-02E2-48F1-8A49-205F6331948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BCD2CE4-B713-4A51-AB70-94A7BBA97D5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44FC44E-CD56-4085-ACC3-3EFC3BD8C55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1F5DCFC-AF31-4040-9783-AE9B001A8DC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37D51A4-E84D-4B6D-8613-10027BEFD4C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E0FB4C16-48EE-4F9C-92A9-EF92ECE4487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F1A99435-7D86-4BDC-9002-7EF60ADC568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E38B0AE-2BDA-47B9-8A0E-72C0223C3C5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8C0594A-7A4B-4D0D-B146-018F99A1F45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E4AE787-A10F-4CC2-8C58-E3AA8F07DD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A8E1441-7F06-474D-BADC-D91361A7950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33F61FE-703F-4A07-81D4-E048E48AB46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127C0EA7-3697-4509-AAB2-46801075B07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CFC62A14-B880-4300-9FA9-716169A6E91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79011A91-9C7E-493A-AC0E-2BE698B048D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4DF343B-AB60-4A00-9CC2-3E6B21E0A5E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6AE3F4C-54C3-4EEB-8B58-2A62750C9CB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C010F59-2E94-41A9-A48F-248283F7816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86473974-762E-4EC2-BC38-2C80E5EABF7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53520633-0A21-4BCB-B18A-FBA180EB93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D6F29F4-C988-4F13-AD52-75A45BA09FF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4D2433C0-2CAB-44FC-B092-45C0DD5EDDE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05F220D-3033-4DBE-9A21-863698FDDA4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921DE35-AFD3-4853-AE8E-E83FD4B15B2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89FA880-57AD-4154-B1E5-E2FD93C8EC6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0E5E9335-5587-4ED3-AC33-12B732392B8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25D94722-D3ED-4134-BEF8-3BD4BFE11F3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363291ED-C3B6-478E-8BB1-76915B077FF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488140E-00EA-4DA4-A098-C1189884E13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7E277F8F-CD03-4CB0-96A2-09998A5BC89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727880F-756A-405D-B361-101B745951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4148-099A-4143-B85E-F88F269BC0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11D49-5FCC-4B95-8B68-4D4A38FDCD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322C-10F3-4044-BB79-B6D8522224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A021-FC50-457F-A037-E1687B483F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9CA3C-D5A0-45C6-A9D3-DDE1EC2D05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645B-48EF-429C-A5EC-5FD78BA7FB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1A1F-C761-4746-BC9B-EC19D1967F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7F3D-6E3D-4CF8-A9DD-B866514974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922B-1061-4042-B0ED-7E855E0E9F8B}"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1970-DE27-4088-8958-2398EC2DB6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79690-C0CD-4D81-8000-B4263C2A15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5D44D-81C0-4703-8E32-F1AFC3E396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9B28-A690-4FF8-8A1B-23B2A170E3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FDC6-0FAC-4F87-B5FE-3A24F69454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E857-AF28-4AE6-A751-418F8F44D7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FC27-3984-490E-A0BA-9DCDB26F5A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6D4B2-9E00-4231-BB49-EE845F01DD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9727-9F1C-492E-828C-91E691B7A6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0AA3-1DD1-42D2-B1AA-05873DF4C9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DA8E-0058-4E87-8744-4D601056AA28}"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B03C-7792-4DF6-A7CF-A6C6DDB1A8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881A-50DF-4C66-9E57-61F4A05362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04228-EEBE-4FA2-B940-142841C1D5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A281-CF8F-43ED-BC0D-6630B0D900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1CAB-BE5D-40C8-8A69-A8A2874897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409E3-FC5F-4C8C-9BA3-F051C3FA2B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B1E7-9314-4828-9500-7E66475CCC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BF6D-5B9D-474E-AE4E-FA86D1A000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691E5-B6FA-4BAF-A2E9-018393321B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1CC0-EF61-4098-A73D-9E2E2E91B8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5C7D6-38A0-4E27-BE86-AB51FF408C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50DC-0580-46B1-A401-8B1C90DAE3EA}"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86017-3D51-4F4B-A13C-D826C1CD82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CFE2-B675-4FC8-99BE-DF303C0D7E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B85BF-744B-41C5-9465-C3E5329813E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F6BF-2CF6-4A9B-8A4C-B75BC6D93CF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EEBD-C3A2-4C59-9567-5F4133A2E4C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A35F-A8B4-4A61-A36D-BA05CA1AA4B4}"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