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60D2E-98BF-429C-B389-3F44B9239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E1AA7-08EB-4190-B951-3E2538A6DE0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3467-5FF0-42D8-A57C-47A5B241FC6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B7034-69F1-4BA3-8096-6F271982010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93CC-28C7-4053-BCB0-DE66C29D5D3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875CD-BFD6-4813-BE7A-54C0BA1C82A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902E-3B4F-4AC3-AE8B-52B3CA096EA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080A-EA83-4D27-A57E-5BE41195E44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9760-6300-42E4-B8DF-EC648B516C5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EDBF3-87A8-4AE6-896D-600AB69ED4B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3EF31-6EF5-483F-B326-5A6100BAFF6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F14E-D09D-4B4B-803D-3FE1F575610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DAA62-2992-449D-850E-CBD54520B2C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DB29D-EA6E-48F5-956C-33B7E0D8CCA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8AA6F-0618-4621-B408-ACEACDC7F23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E466-578C-4452-AAB2-41CDEBDC76D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9FD1F-28E1-4282-8666-0C7828A2D22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1652-92D3-4999-84F6-C4E7B63ABD7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40D60-4150-4033-97BA-AF806B2F34C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2207-45AB-4C9B-AA67-FF9E7D01190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E920F-8505-468A-9D17-409E91E495C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516F-764B-4D42-9D16-DCCB1C1DC07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37DF-B434-43A4-811F-C6B92DFE9BC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FFD0-56E6-47F6-872E-FD1B95450CE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8725-64CD-48A0-9804-F1652F35CF8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ED2E-DDB8-4A94-AC3E-191D84AD835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0F838-4F03-4559-8C83-6A47A29B82A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FBFF-2386-42CB-8A82-7452E5C8D60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B5525-767F-4E2D-8692-08DBF2D65D8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AAB2-27D5-43C1-9219-9484E5941BE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1EAC7-2D9E-422D-BDC2-BF6725E1DD2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8E5E-075F-4FA6-BE55-7C14203A929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9D58-DD33-49FC-856E-CD2BD066682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37F6-C6A5-488A-8D73-3901DDE5DE9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9A9AC-B048-4C8E-A4AC-B8373D97EF7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FFBB3F-F4A9-493C-BA11-E9BC82A670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90788006-069F-4CD5-A7E4-9ABD0567FE7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33F3EB4-B072-4E62-92AF-97169C4B867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844A9871-3CC9-4B6C-A5A7-058B026564C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DEF83A54-1D59-4363-A0F6-D8D6DD0EBCF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56F8A97-EF5F-4346-BC47-8AEAA7CA81D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5913D09-F45A-4DBF-8230-9768C8F0AE1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9ED73FB1-EA2C-4F1E-9D89-965D59D0769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90C947A3-9C08-4CAB-84DE-F99CAEA7BB3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97C6347E-25C1-49DB-9B00-6D9E3BAA551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EC0A48B7-EBF4-4924-81A1-B082F37DF55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D76D315-AE93-48FE-A047-B0A04B99FE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4890DECA-CF38-4D23-9909-F55E1521E2E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3B35B60-DDE9-4BE0-9A1B-30406B601F3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7D2ECA9-CE82-4839-BA8A-F9CD5E9E0E7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7A7A0428-70DB-4071-8E9D-15ED391A6A6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F4D168DA-5DA7-40BF-8B36-5D655E62EE2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7EF31CC9-2101-4D55-B114-94E0B4A8BEF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3C4C4D3-AD96-41AE-A470-C3B142708A2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EF2EA65-B1F1-4C9B-8331-EA72AB64FD3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C36B1714-30B6-48B2-B189-B1DB10AD2D0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26A9012-C956-44E8-8E3E-B26E4579A0F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D9A110A9-EC39-433C-B651-D86597F665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BE3F2AC3-2502-4BA3-A8AF-040D5B67D54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730897BF-F35C-4A76-8613-5DADCAD79B4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BAA167D-F8C0-4A10-99AC-989454F9513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1C66B7F-9213-4C25-9542-D23DF2CEB66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E1C8D29D-C192-41E2-89C0-AFE00216337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C4A0152-7D28-42E3-B5E0-1806F4E03CB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03034561-84AF-4F7B-8A40-912CDBC4E87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516ABE02-6991-4E0A-BDCF-6E672F12CEC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8459E38C-CDC8-4447-A521-0ED59032103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113BDB4-FA1F-4B82-A6FC-2027763074D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2E35C868-F460-4FE2-AF4D-552E12FFDA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F167A0-62FE-4E76-A2B9-772DEC60DB0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FAB90E8A-0953-4153-9A7A-87E49FF50F2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78D288EC-85F8-4CE5-973A-D5838BE638D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20CD816C-55CD-4098-9CEF-6621274A8D5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C3D2531-31A2-4B82-930A-33BF7CFFE77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2FACF867-2197-4365-84C1-EB8DB31482C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6D42CA8-A630-49C3-86AC-B3B933E0FFC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B1567653-22B0-4E9C-82C3-7043335DE58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BD7A978B-47D3-4828-B421-E51088FBE50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0FDE2C22-0AD8-4C00-BA9E-638257B5EA2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78B1DE9-3A89-43F5-B2E7-2535739B03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7B37F6A3-84AB-4084-B575-19CBE496D0F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BB4DBCE-AAB5-469D-9A65-D5B61FB9817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606A8D1-FFC3-4B0A-A195-91FD21E9580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F1A44862-A0FF-4B8D-BDEC-64E96D8A37E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FAEED34C-605B-4381-9963-CED5C61D91C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A419F33F-F73B-4BEC-82B0-7573D2718E0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E325552-4412-40AA-83C9-53230A376C4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3A5D21BF-100B-4EDC-A10C-52E5A25FD38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C812CA31-6459-4D3E-8B7C-1929D4ED09B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1BEC8027-2DDB-4FAD-A3EF-45B8268D384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F04F1E2C-535E-4236-B6DA-9ED82873A0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5CACE30E-577B-4DEF-8BFD-30BB298F2E1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9C62D8E9-1B71-4F9D-8E4C-F91EDE6246D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B791C42-24FA-4D36-B341-1C9E2F37C229}"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528B66D-A272-41D2-93E3-F38F6A91F4D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3FD59CF-80F4-4163-BC68-501543EA761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730EA381-B7A1-4E8D-86FA-520833BDA2C8}"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510423E7-AB95-41DF-BE8B-4C299093747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346AEA1A-A6EE-4DB1-B259-403604DB157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FD2513B-2672-4F4A-B2EF-748E8DE76CF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4F7C0330-6D22-416E-B694-9EB535FA10D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A35F83C7-19ED-4501-81D4-8C72374992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8210175A-168E-44DF-BB3E-DD0631B7403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71E5DD0-104F-4E55-BBDA-97D857F831E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1DE57784-A942-4E3C-99A8-BD92FE55237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C0857BD6-77BD-4367-A208-310EFFDE232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2CE80C2-3101-46A3-910C-FA80160A740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7BDF1EE-4A00-4208-A165-91CE5A9A92E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A77DE9D-3A11-46D2-8DF0-0A657C04204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F08DDBFC-198F-4B52-98B8-41EBACD0A1C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4E585D6B-AE69-4713-9907-FDE7125120B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A5FDA483-2BEA-45BC-B31D-BE9A9892CCF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7614821-F0E9-4EFD-897A-D3EF83E5EE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6C8491FC-470E-458E-A0D2-AC447EDDA426}"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587F189-DA2F-4C1A-8066-8B7FCFEBA1A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346E6ADA-7DB9-40FD-AC12-A735D6D1D85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A7079053-133A-4B32-9931-85E290C5448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8D82EED2-E427-426D-9F66-4B95F158E84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E659ACFE-7ADF-4A34-A468-708FB4C6516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9A0B926F-CC6F-4F1A-BB44-B23B1D1AF6D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91B9B16-2696-4514-ABA4-FFB4B492057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A0BC0A9-959A-45E5-BF1A-E018E263218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EE7AFDE2-647F-4F3D-85EB-2063541AE77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C77491A6-5003-4451-A7C4-7E3B15EA4A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0B43F851-A7A1-4C29-A43D-D315032BA36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DE89B2FB-753E-4292-826E-94409C24204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4FA144D-DA62-4848-B93C-3544604F55FE}"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A06F8E5-9B4C-432A-AF3D-568595BB303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8E08702-8A2A-4B7C-9053-02951A9F96A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0EFC61CC-5762-4204-AF04-C59B301E57B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82FCCA5D-F67E-4599-83B2-776ACA149B6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8989B847-657D-4B9E-ACF8-02E4C760949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ED57D7CD-7DCE-4DAB-9A03-B4BF97435CB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84836F4E-68EE-475E-A24A-82CA345D3F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2A80D8F2-36EA-4BDB-8AEA-FD595E56C7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AF98F8A-0786-4B61-817F-1F4A399556C6}"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30B8F81B-2C7A-4835-9F21-06F6C2D7A9E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39D446CA-A554-45DA-AF62-8D333FF9ED7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4613D04A-FF4A-4B4D-8DF3-90CB6C76E89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92161FD4-68A9-4EAE-869A-17C3AB398D5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00C43DEC-8434-4CD0-A1F6-3E4377302E7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82AD1A2-AA6F-4BB6-AA8F-5765D72112E7}"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F6C2963-A1F8-4A86-99A3-C66C6FCD547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3A52BA8A-3C8F-422C-BCB3-01ADF98CF21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F907E22A-78CB-4334-8881-505D1236A7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193E59C-92F2-411F-B9EF-FB3E83A6E097}"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CDE138D0-6B1B-47BD-B095-46A31D23C5C8}"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F835D639-D3BC-403E-A6A0-15E6878E442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90FAE649-0525-4FCD-80B1-56F228647DE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FF88921C-3F64-4EF5-8A9D-82DD45F2F52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CCC71893-E930-4756-9A2B-2E40E4B228E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966E46E-BCB1-4CB2-BEE1-65BBCBA4E4B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48804845-F9B3-495C-8DCB-EC350DF415D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1AB8EF9F-0FA1-497F-9F5B-30D8AEBBCC7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B77ED423-7D28-4676-9C16-BA0FAB8596A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3983A03-CA63-419E-AAD0-61DF206985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76EBD0EC-2D3E-4C25-A50D-726357F0B23C}"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F116B0C5-6BDB-4D87-B083-949A4DA782F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2997470A-E7AC-4E11-BAA8-8497A65F311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2108566B-3EE5-495B-A151-5FF41D57EF5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117359BA-9C83-41E2-B522-E2ECE36ECFE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54BAAD75-4040-4865-BC17-8EBA1A23F4A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44F33003-1F70-428A-8A0B-3FF4A97B8AA6}"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A7AC5867-38FF-4A16-A21A-CFB3447ED5B4}"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4BE4749-14EA-48D2-8378-8E10D78619EC}"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4DA6296-233D-4AC0-B612-76FAA96CF1C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431A061C-C41B-4869-A6E2-D0B4ED754C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CD621247-F254-4286-8234-E9D7790B3E8D}"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8F7CE38A-0591-4C73-8B46-7723B479CD8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1A0D518-8BCD-47C4-B820-C14D404EE96C}"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FBBCD83-0983-4059-BD03-D43CFBB05DF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ADBD862D-9336-45DB-9C92-FC339A67B1D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79B3C9F-9C71-40D1-8980-0646A91B51F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E5826934-656C-455A-8F16-EC13146CC67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620FFFAE-9B1C-40ED-A09C-60022EF27E8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C3901F81-1AFB-41B0-9E56-59ECE4F81DB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96B845A-9E27-4696-AEC8-531869ECC39D}"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D752C364-E2AC-4997-B354-28AF6FD1D3E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29CECC2-509B-4910-92C0-100D113DC2C7}"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F9D8166-D5A6-444C-90A9-98F32FD1B8E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F827F563-B904-4A4E-ACBD-4FA0A48C011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BF3B86D4-8BA8-4EE3-99B5-B3E6B8754125}"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F1EBE043-4A65-4D54-8CE9-74A9E950D383}"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A439E22-E943-4F2B-A8BB-F48F7E8885C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B0BCB971-1CB4-4160-8D3A-39BC8C78DF8F}"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62BA8F9-1C18-40A4-837F-44E765025D89}"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9C370801-C4EB-4F7B-921F-D129DCC3FD70}"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8995D57E-95C5-48D4-9220-E0EFF6B3DD6D}"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E5C06CB-6D76-40DE-A0A8-64C75A008CD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029A254-675E-4885-9F93-CF3A56E3B72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30F9BD6-AB93-46A6-BDD2-D97C50D4AA5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D4E9AD7-0B38-45ED-9005-0ED2E79811C6}"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B17C50AB-6326-451B-80F1-28F98C29F253}"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B03C7FFA-FE23-42AD-BC13-48E0D2137B90}"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E138CD21-DA43-4B22-B84C-658EAE49C46C}"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F179369-DCA0-4E85-B1CE-1145AEBC7483}"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16C53C55-85BD-41CE-8DA3-860AA62E1D68}"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15674A68-2292-4193-A269-2A147164D5A4}"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3AF497A0-A272-423C-966C-B3F39A8FB77F}"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750D7855-6BF9-4820-B51C-6FEAAB328DE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0CD62CBA-6FD0-4D37-8AF8-5D6C34F3B2B1}"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65489C3E-83D1-467F-852C-F3428E181062}"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2A69D09C-C161-4E4B-BE13-AA4FED4954E8}"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B2A65CF-FDAC-4D70-B101-693535D63B5C}"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EB79D1B5-9D6B-45F4-9B75-4B30159E726D}"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06CD9702-2944-47E5-8BA7-B13123784B2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3E0D6CA2-E186-4D7C-8A16-B993FD190DD3}"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7AC19F88-7597-4C65-BD16-C3F991F4CDFF}"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47DB61D7-20D9-4DD0-ACFA-886D125A533A}"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167BE9FD-0B1F-4CE4-B20A-F74F4D25C3D1}"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E11F17F3-9803-4779-947E-1E62B2B863C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D2B2A9B-544C-4EB0-A2A9-A5200716EED5}"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D62FD849-B280-442C-BDF2-F7F7AE266BFF}"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44A82284-6F40-4DE9-80FD-C2AAEFE01D71}"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75DC9FE1-B039-4DB2-9B01-EEC40E3D7291}"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85DDAD2C-952A-404B-968B-9F642B3365DE}"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7AA6CD0D-D7F6-49FE-9743-BE20FFAFAD35}"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BB61AEC1-FCDF-4796-BAD6-E3E0ED1E0264}"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06BDDD2F-6200-4354-9894-D5EDE9C6C18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7BC5378F-7F41-4029-9A86-A11004A061FF}"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DEE8E4BF-1D33-4C7B-9FE9-126EF000EBBB}"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6B8A966E-0E5C-48E8-A20C-964DAFA9CC0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96FA3056-6090-4FAB-84FA-1A67A1AB45A8}"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DA47E2BC-AA1A-479B-8266-4256E0636877}"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C8A43131-D84A-49C4-B072-5F5C5D4A9E18}"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3EE8BDEE-8F70-44B2-B256-85548BEF371F}"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BAE78931-6E97-4C4A-BA00-FD24EF68043D}"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3497139B-CFAC-460C-A033-D8CDF5ADC484}"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78DF65E2-5F06-4784-8617-D4AA98F67248}"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075E0856-6A83-422F-8D1F-9D4979F1FB93}"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B5E8206D-DB89-4225-9459-DC1CA2435DF5}"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B2E582A6-167F-4A66-9EA0-D60A622955F2}"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FD2164D3-FEA8-47BE-8E8D-840716E5C6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49551D13-EE9E-47C3-A445-4B2CF472661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EABC2BB9-A660-406A-892F-57887EED02C8}"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881CAB4F-585F-4BCE-A7DB-806E37E159AC}"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9E16B39-9146-4860-8D08-A735B8BA88A4}"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0CC1ABB3-C944-4A91-84FE-25DFF1316289}"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04D06FA2-4A37-41AC-957C-9EA274D5C760}"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5D67D8B5-D836-414B-91B9-1CE12C3BA656}"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92B97B6C-3A54-40A2-AFA2-3725128DD2FE}"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82736279-F881-44EB-B30A-EE72FC7F94BE}"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7C1CC75E-B620-48CC-A9C0-4BFEF92A2C69}"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EBC8AE58-66B4-4073-810D-19CAD4048D9D}"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915E00E5-273A-464F-879B-27BB307E8E3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8B8F58C-8F4C-4BD9-BBF7-F16FC5BE1786}"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C12BA0A2-30D7-4833-B20E-00D4624E028F}"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3C8423F1-05D2-49A0-A826-490301BB53C4}"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E0439562-9FAF-42E7-BB03-39E84B912684}"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AAE334F-FB6A-48EF-B034-ACE1681A7F26}"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8117E4CC-9843-4BAB-89C1-23C3928D614A}"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EEFD14F5-1FB1-47EA-A453-72E095AF9152}"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FFAE7D84-4AE6-4B79-8DA2-23594D76E9C1}"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B31683E1-CE67-453D-B392-67EAA2EBAEC3}"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691E0305-F896-45ED-AF08-9202E36CE14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4CFC615-4C70-4022-A3E1-D5E83BACF3BC}"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76C480A4-F664-4243-9728-FCEEE2652E60}"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3BA80375-0A36-4A99-84F0-01C52C0BABED}"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832221AE-DA03-4BDF-A5F0-CFD2E34DD6FD}"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2B93A9DC-E3FC-4617-9F36-5190E76D3D54}"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B7943791-8807-4F73-9EDB-5A4F3880D282}"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57E818F0-1359-45CE-9257-871F019CB2FC}"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F32B4A5E-3AA0-4E31-BC74-30B9C23968B7}"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16F95430-EFFC-47B7-A438-D85119911B8E}"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EE4BFBD-2012-4559-B2B4-AD53B9324F7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F8BD1C1C-D022-40C4-9277-9E9264C5F25F}"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9C3D6566-4C81-4E29-8ACD-246A2AC41741}"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BC92DCC2-760A-4E51-B2B0-4784CCD31F85}"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A4AAABCD-A351-4943-AE0D-1D1B67018B8A}"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820BCC73-82BC-484C-BFD3-F5E4050FC43D}"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A6DBB577-3EC5-4962-B054-B02F1BB5E3D7}"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DD20A682-F8AC-41D4-A2BF-23F0D4C4E488}"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C464B7D6-9F66-4B7F-9444-6E7BEABA88FD}"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9C58EB2C-AC5C-46E5-991D-7D4698DAF4BC}"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2980D73F-D704-4C1B-B500-E0DF0DC8EC59}"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3C50C2ED-D2C1-4A75-AB86-264AC269CE0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92505642-12E1-4753-9E06-FFC3B989BCC6}"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8E23B8DD-D7F5-4793-94E5-CABDBD1389CC}"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27C48DAD-D6CF-4001-A2B5-FED18FB801C3}"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FC9CBC10-C71B-46A5-BB02-1D99B865C8E9}"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89EC2827-542B-4D65-858F-990FBFCDEC19}"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050D8861-CF8B-4DF7-BC09-FBD40FAAE8F7}"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E7E5DD5D-AEB8-46F0-9EEB-FA845B1443E3}"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32437729-7DF0-45C6-8A03-2E008C1E105B}"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A2695C46-05D9-46D5-82B8-A7F3D2C3D365}"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EFA3CCAC-497B-41F4-8749-F38D5C822776}"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2932D653-74F0-4E56-B3D8-56CB05B28A2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25A16386-B221-4358-9D64-A793569E78AA}"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22A5F909-F214-44B4-8F40-3945F2C4E1D3}"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8459BC34-01AB-4A4E-B713-E19498153EBB}"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78F2074-580A-4573-A69D-D6DA81734B69}"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28E65AA3-363E-421B-A087-56F6D2985972}"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044D716F-C874-4254-B1F7-98C435C59BD9}"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976BF66B-078F-4B19-9B71-AA86850CFE42}"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8E884C53-9361-4B6D-B207-A0EDD6D25FF5}"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C7CB35D4-EF67-4265-85C1-E06466A6881A}"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C47F58BF-96B1-4EC4-BFDE-801D7E93A53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B8966EA5-8775-4F51-9000-19906C20C200}"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16AECC5A-CB02-49DB-A7A9-1700D1CF5698}"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0A5FC97A-74C9-4FF3-B1DE-6F1FF5A58CD5}"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AA4F051B-A9BD-4FEE-B25B-E236776270C4}"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F0947C71-0F55-4B81-AD67-AFABABC3695C}"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17A3C5E3-2BE8-485B-AD1C-EAB8BE0C7052}"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9A273729-EC5B-4B65-A8C9-8F0C41A31329}"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55036D7A-6116-49E6-A0C1-E0CFA6F2514E}"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7B707D82-3C79-4085-98E4-CA1122B014D9}"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111FC02A-9EC4-4519-AC8E-5C15A50DFE9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2D72585D-707D-4782-9C2D-00F14D0A8B26}"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1534A547-9719-46C8-A400-C1263A999340}"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5AF31808-13B8-48D8-A183-85CD54C4AE3E}"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699362CF-CB25-4EA8-A3E1-0E78BBC679B9}"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DC2319FB-B00D-42B6-A10B-84BFB63831ED}"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100E32A8-DFD8-4EDB-AA49-B5480769766C}"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FCC8D22C-6752-4C35-8CEA-44ADF7B64C3C}"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92FFCCAF-2105-419E-ABE1-71FAF954F0F7}"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26529FF7-DAA0-4F66-8CEC-48E926E5772D}"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6C956565-4924-4700-8B8F-1917C606E1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F55E2812-8757-438D-8F7D-1288DD183B0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27FA2C6F-130C-4481-AB44-A48328F85FEB}"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475D1393-4FA2-4211-9518-D170693ACD4C}"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9B71C26E-08B4-4657-A1DA-74FA52E373BF}"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5A5D2F8E-50F8-42EF-84D0-B2C4C72A9090}"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39BA9DFB-3933-4732-8572-8B8EE1A7DA05}"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DC3E7D24-D078-4565-ACBF-28DAC5652D06}"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22586269-52B6-4F10-9578-B54FB170EAE0}"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6D9F932B-BC22-49E3-A332-7B5FB9B4DE97}"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B8501AB4-378F-430C-909B-4D7554EBED7B}"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30D4EB7E-194F-4F9E-9A62-2ED1F419E26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4376D6AE-6943-45E4-926D-1058DD50AA13}"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96ECC517-C944-4DA9-9934-8233376A41E2}"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E7E7EFD6-E2A5-4BFA-A70F-800570F5E948}"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BCFCCF7B-262E-488C-AB05-DC7307A824F0}"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B0255BCD-79E6-45FA-8206-A17221BC77A2}"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ED9F7B10-CE5C-44F8-B2FD-96084D5B9007}"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8DEBE0EA-6AB1-47EA-9B11-74A40D2A3BC5}"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C0CD2ED5-797A-4880-9B61-AD6BA7115D15}"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94C6F31C-8505-4A43-9CD6-3C6790F0F60A}"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06EA1ED8-6EB8-4871-B745-BBFD5E43289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F4131A0D-98B4-4DD8-9183-FCB5A77401B5}"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147C1EB0-F81B-4EB4-818E-28AB0002CBF0}"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6266CB95-275F-4F4C-93BA-B7475045CB54}"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2EE4F473-36B8-4C6D-B5FA-D2334C7559FE}"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163210F3-9403-4BB3-A348-49C0BF64670D}"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31AAD6B5-172B-4F51-9DEC-15FD428AD8AE}"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8F7269F6-FC45-43B4-8BF9-E3FCAFE45C5F}"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21E65C84-403F-47B8-96B7-80C92FFCDABD}"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07DA0B64-0A6C-42F8-BAFF-ACC9DD593180}"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0D7B0958-12B2-4090-80E0-0C6EF2901AB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F8A5145F-2700-4893-A6D7-8BAF6FFA342B}"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D1AF6390-293B-4659-925A-674DB2A8144D}"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9D6F93ED-39BC-49F3-9320-2F001B3EE0DA}"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CF999139-F673-4F0B-8245-D649A43A541B}"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241D4E61-9596-48CA-B143-D8A3C18B959A}"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D8028087-13AA-4B4D-80FC-6D61E2AAF139}"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BBAA60D2-1434-40F0-885B-634BB0AC22BB}"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24D89233-C116-4A31-87FC-72AB78C416A0}"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0F639616-0E41-4520-B693-0A376611E6AD}"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46E4E877-575F-446A-B905-F3DBE9079FE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E828F024-43BC-4952-A143-DA7F507305CB}"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E94F6663-CDA7-4839-AF4B-76B3BB9D308D}"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CA32CC75-63A4-4F73-98F9-984ADA4F6DB3}"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E0C70FE6-E694-4CFD-8151-0B7FC9895D83}"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D64E01FE-75AC-4165-BF16-A0D93F8E79B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555AB0-8CD5-423B-B761-847F6F7827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55341D6C-A742-4EFD-BF8B-46C8A335C3B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762057B-A714-423B-8F69-6345C8E7987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3BC135BC-0DD2-4C6D-913E-12862E61689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4F009D9-CEF4-436F-A893-D55DC0287E8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576BEF94-27DC-4E93-83DD-100618B3876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ACF6FF1E-4DEA-4691-AFD2-08C2B8E9E02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360C0F6-2806-4790-A030-3639608612B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A0EFFCD-2355-42AA-8087-F7F6845545B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78B5B090-DB28-41AF-9829-6FB0F282DAC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8A332D7-2502-4D58-BDB2-9970E70AAA1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5E923DB7-148C-4938-9C56-A80ACD5E4F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F8875979-44BC-4193-8B8C-A4412D96305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C66E9A2A-5CB8-4381-9E91-E0AA89E93AA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8F463C2-383C-4563-AE83-E3CD4651D7E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96DE792-2E35-4311-B469-8A42D2809D0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7F99478B-024B-43EB-95A8-277C2EE9D44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08C0436-4B60-461A-B9E1-B603529554C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4F3C30F9-6C57-405D-A6E5-940D41AB727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9670FF58-188E-446F-8E0C-1C361F934B7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61A5536F-7357-4DA2-8D1E-B99062446CF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F716496-8A42-41B5-9D8E-1219906EEC2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3A529DC-948D-46EF-A144-C6108ED369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F7DC8349-AE77-42B0-80C3-14A86B4C86A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7105ADF2-B415-4658-BF06-6335F05DBB2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D0D9E51C-07D9-4B97-B0F3-CA45CBA5632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5DF608D7-0EDB-455B-B554-B080F96ACF2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9FEAC73-C79C-4D0E-9FE6-EAC675818EF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E3404AC-52B9-4DDA-96DB-66467227967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DECFBF49-CC5A-4A8D-833C-6E93F9C2140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118D4A8-6AD4-4CF7-9E5E-3921A86D417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5C0E3B26-5829-40A8-80EA-BFC45BE8A86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51615AA4-B5FF-4310-B154-C9C0157A0F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2A7AC8C-361C-4A9E-9FE4-9274B5CE8B3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412272A0-64A1-4B3E-8EE5-0CBCAF85D08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761E669-3DCD-4B1C-93A3-DEA5A11CC6A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56A1F10-CC43-4E01-BDE4-615213EA471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015EC3A-E6C5-4AA0-8442-20B75B96477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476FE6B-C4D9-4806-8159-1759CDBA7D0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B14F81DD-053B-4099-AF0F-8359BDA4F42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65AF7AF1-223D-44E5-9EB9-EECD6CB4471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4B1EE98-DC75-40AB-A297-1E693F9B330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0410A80D-8EB2-44D8-AF2A-E24F2D2286E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F09BF066-8704-4808-8160-35695FFBD1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331A-082A-4FDE-B7C5-719C3063FC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8950-0DD3-41D0-81E5-8BC6E59EAB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2635-8889-4416-AB79-3BF369481D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C0FE-0971-40F7-B72C-BB52AF1CC0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1627F-D27E-4D54-AFCA-2C749BC831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BC904-2B59-4025-9402-4A77A25456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5565-897D-4BE7-90D9-C66FF60109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2F6E-E58B-412B-AFED-57C92FA7A0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E17A-6CA4-4102-96C5-6BFC24476C7B}"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7F10-3E9C-4DBD-BFC8-0E54EEA50D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F1D8-FB8F-4809-B683-E88FAA2460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24408-7CAF-4EC0-9DEA-31BC98A344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1A27-1740-4156-91D5-32111735D2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17EB-495C-4A20-B002-89B51CBCB1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ECE1-B03F-4F14-B713-44700E57B7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9D483-B624-4684-80BE-85D1620AA1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406A-9108-43B3-8C0F-51A3CD5A8B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7BA7-D30C-4BBF-9F63-2677D3B75B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EC13-4743-4A7C-A937-A83EC5170B4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EF76-9335-414E-84EB-99D88EC4A374}"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52A7-186B-4516-99DB-5A99E31EE7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5913-1118-4330-9C7E-D3C4965470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30B1B-7A60-4064-8306-AAB7B4E95A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28D89-BA8C-4210-998F-8598C76AB1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09FD-3F97-40D8-A2C7-93634408BB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ECB1-106B-449F-A222-0ED2B920D5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5B60-2049-4BE9-8975-17E82104D5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2B05-7BC8-4637-9301-CF380068FF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C303-F7DB-4EB0-899C-67E84C32FE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E5545-C498-4054-841B-C4BD08083D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F0B4A-F9B0-4D8B-A6EC-FC8124F297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A4A0-E470-4A82-BE4D-C99E12254AC5}"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C04D-491F-4DD6-9845-3E4A17A49E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C9EA0-656A-4AB6-BDA9-5D44B6233C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5473F-B8CF-45C4-850D-072F52254904}"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C859-D075-4FE2-BF56-206D627CEA1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BB4FE-3D0E-485C-A41F-896C9D3F181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3399D-E445-4A7B-B964-BF4A05ABC1F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