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86BD-0031-411B-A134-BE6798603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7475-CCF7-4C5E-8E89-8EAF31C01E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9C58-C0DC-4FDD-8811-8EF91365F3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DE32-9C1F-440B-84E4-2776B222298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83EF-5B37-4EE4-AD56-8568633AECE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DE80-253B-40AF-A78C-73EDC8A361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9891-3F1E-4C1D-8EB1-35FFDEDDED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264D-D39F-463C-A411-0BB38CF008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A140-CE5D-447B-88D5-8A79FE4D95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6BCE-BE5B-41E9-95CA-C8A8D23704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B99A-1CB5-49C5-9F57-B17F1A37F3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3838-B06C-41B7-8758-404415D018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3D1B-4C7F-462D-99CF-AAE2810184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4AA3-3F5F-4E67-9CE3-0E8CF20C75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8958-7D09-41E0-A49D-EC9A4FE6460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AC71-6ACE-4CFE-9886-3C7CE3F6A3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0E80-CC0C-4DBF-8827-C522C83D72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F64E-8D77-4625-A7F7-F02B3BE6620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EBAE-BE86-43A0-8E99-34E11070D22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A3A5-DF18-47D5-9C61-E92B0C8C46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E3ED-7E4B-4E58-B1F3-98292F4FDA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236C-BFD7-4A8F-A0C8-92569A356E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D2FB-0D37-4758-AA5B-4163AAC9E4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9A21-C02E-4577-B361-4B8D14DC7D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B5AA-7259-4758-8EEC-F8E34CA4A4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6E0B-5830-4E5C-A29C-9D2AD1D52B6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BFEF-A655-4190-8DA3-A86AFE98E00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1EC5-FC3B-4FF8-9C2E-439AA1E68E5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A15D-E499-40E5-81B3-6DE3376E8C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7CF1-3DFF-441F-9F6E-9C5FF807C1D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AAFD-D74A-46EF-9285-D51F22562A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DE1D-F3AE-45B3-98C2-7E7DEB6DB7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51B3-7932-4C5E-901A-A5281BBF0AB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AC78-362E-463A-AE36-80C618F74E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EE30-3336-4624-BF39-C962C52DD9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48B60-1D17-4627-ACF8-BD4B13D162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90CCFF6-EFE9-4F60-98D1-BA3757740D3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0B7B11D-2078-4E9A-A942-4A667DF78A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15619D0-3FD2-410F-93FF-F8C3D2D76F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BCD8043C-6CB0-4CC0-9225-92C8197870C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94405C2-19DF-4124-9C5B-D56B0CDEE9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E262CCD-93C2-42B0-B2C0-8D90121CBF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BF05021-BB50-468C-BBB2-33C88A7E9E9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D5D1505-3BDF-4777-98E0-942409279F4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0204891D-ED78-4E36-A39F-E7839D68613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8032D6F-48BB-4884-BFC2-2110ED01BED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0AD23C2-538B-4746-9C3D-5870F52BAC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5389E5F-FFF2-49EB-8B8C-1F432E0AECE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13E9F69-6919-4378-A72B-BA37CD01CE4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B62CE83-C373-42B7-9B03-C2A2606944F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D77A5BB-7970-4C86-9FED-C41B030BCA5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8236A430-7761-4618-86AB-94362D4EF27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75E7BD6-55A0-477B-9B6A-72D1DED4368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35B23C9-4065-495D-B7D0-2ED84183CFE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E158239-4BB2-460F-BE31-1C558E5A48C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958683C-7D80-4752-8EC4-8E82703774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A367F0E-9A01-4D9E-8A51-630EF321A21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4EE18D0-41F4-4979-8C7D-B45ED1F4C4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E9C01F0-A19D-4AD7-87FE-CABE94FCAA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A8D9815-1DA0-4BBD-9253-D66789E3F52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91F865C-BFDD-44AA-8D3D-CA75DD0C5A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B22D1A0-0B6B-4DEF-950A-37902C4DA16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3DD9572-9E58-4F09-BA07-D06320BA7B5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6B30DCD-79CC-413C-A694-0BAFF610008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2EA473C-B4B9-4C36-8D83-85BF9F05279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3E64E0AB-A159-49FF-8DF5-20356B263B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8D7B7D5-0549-41C1-B054-0B10D2711A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D0F8C64-B53A-41BE-8F32-8D784045A03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0192C26-A6BA-4488-A9A2-D4A510E355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E1CE9B-F905-4C00-911F-C55AA819E75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0EDD75D-FCFD-4390-B592-08B2EDBC447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817EAEE-2D39-49F7-AD5C-41D1D07F3C2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513AA16-49DA-48BB-BBFD-18A25DBDEED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58A7C4D-512B-4E45-9D48-EE21E317C8E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5354AF6-A533-479C-AE1F-8F382C1FB99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BAFA4EB-9BB9-44AD-BB8A-134FC092E3E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6FDAD9F-DA6F-4392-B77D-1EBA94C2A33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4F8139A-74F1-4DAE-8653-5E33FEF6673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CF2D82B-B01B-4EC7-8240-321864A9B24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2DC5811-303B-42EC-9CFA-8246996F3A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6508E41-AFA4-4844-9DB6-98AAFAD5797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A0C74E9-A219-4E76-912A-EECACAD37BF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0396B85-5B6D-4B29-A366-78D34027949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6F12ADE-EB90-49CE-A3CE-83366CB6955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28777998-81CB-487A-B11E-5EEBC09F2D0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0FCEF6F-1FF7-47E1-90E8-40BDA941CD0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C8E5617-01C4-43EB-BBAC-40B09C4EB20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D0216FE-FD9D-45FD-89A3-2508C4FC5EC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E1D96C6-8C96-44F6-A55E-118D16C3150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28D793F-5BF1-46DD-BFD8-680E5F3A904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63BC6631-2428-4434-8B23-6B64C087CF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32D39FD-5CDD-49CC-98D3-D262EF08A0D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AB1F9A04-46D0-4621-87B8-EBEEE5E5201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D992188-E017-40F0-9DB9-C6298E88B24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CEDA17C-0B58-4482-8E83-5D7DC646F63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BB65A7E-2C89-4C9C-8712-3C3A29F0739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5ACAEF3-3E40-4B1A-8579-9403A75C02A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8164FA77-B33B-4C89-BD29-E1D8C26C7ED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278F6234-ABC7-4760-A6CE-D199E4F8BE2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177206B-C137-43F8-AA36-4707C6C341C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F131B5C-C7EC-4BA7-B9DD-B2089DCB6A8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4F8EA3D-E00F-4021-8250-0498ECEA3E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3A2D78D-39F7-4048-8A0C-96EE77B70E1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10DBB5E-3E5C-40CC-B146-3DC0E32EE9F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2E3BA3FD-9ADE-45DC-8E8C-E4049262E1D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E2E149B5-D4B7-422E-BC32-7AF9F62225C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775F3E3-9DA0-4DC1-90F0-12C64A85E28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A79E831-C186-473A-8D16-0ED1A111DDC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CA0B1A2-95CA-485D-9272-C1AAE8DC909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A0292C3C-51AF-4526-8B3E-6ABD2284138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F4872A65-CD64-4F2E-9491-DFD545DB1DA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A46F21CB-2062-42A8-8290-35E62D93E9D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C0F5549-0DE2-4F37-AF2B-2117EE095A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20D69BAF-7FF6-4E67-BB83-46C9C09FAFD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7026828-165B-402F-99F2-6715142A56E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B82BA6A-BA3B-420A-AE15-63A3ACEB337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9F7D940-9CE4-422D-943B-EDCDBB36A53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9BE2E0CD-BEB2-406B-9381-2E2A70E8852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BB6C9AE2-84D4-4155-9901-9F2041D00DD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A94632E-86FF-4081-8215-BD54302E9A3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1666017-7E26-4A42-8F9F-90F24871DDB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41E2EE8-DF84-42F1-94CB-5ABDA098240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C84FC9B-E168-44D6-B29E-A97A6DE78C1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AF57D94F-BA91-4534-AFE5-98FC21DBED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85A28B7E-72B3-42BD-A308-6BA5F80B3B1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8A1C150A-6F09-4AF6-9FE7-B6C93A2B2CC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7611B7C-CFDF-4610-8CB3-ACA57CE26BD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7AED17B-E86F-47C6-992F-6A9912C9F61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44858CB-7044-4A04-B78E-3BA456563E8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35BB34A-44E2-4ECA-8D88-4A10A84ADEE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871203C-0728-4769-9A52-CF477EFED66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C61BAC30-1B00-4C9E-A388-EA8E88A9582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26D407F-FE85-4FAF-AF04-C48A8F4F8A1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382DD41-3652-437B-ABEA-622A678DDF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4371E19-EE47-473D-AAA1-487D789E24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00E8B80-79EC-4003-97C4-7122986E551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D7797E4-4295-4126-B569-FDCFA0CCF89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37FB0CA-4188-4946-8513-43404C99D2E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9AB71ED-66A6-4124-A466-71879A483B5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7EC9AAF1-4CD6-4B51-B15D-01354AFFF38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EF69A8B-C87B-45FF-8BE6-09726522558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2815286-42E3-4145-8ED0-AAF7ACDB73E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7779E47-C44D-49EE-ACA2-4C75487B9FA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9C9E19C-2602-4A65-AD03-9E304951B5B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247C231-EDB7-4D91-B9D7-F7DE5712F7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0AF7907-0741-4885-8EA7-4F6B0E7504AA}"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935C090-AAC7-420B-B8AB-098AB3F9CB5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E5B4A325-E430-4310-8084-FC485670B77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297A68BE-64DF-4EFD-9AF5-FE214262458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31F5769-7E4D-44A8-8A80-162590706A5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20416FB-1F38-4CF0-B139-8E2E12056A6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133B425-528D-45B0-B22B-C486F83D88C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CD4521B-BC05-438D-AC03-4B833F75351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3E662AA6-8D33-4294-BCC6-A214CF12C09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FB7E5959-B1C6-41C5-BD11-9ADDD89D6A8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C445ACA-ECCF-41B7-9C4C-E881226A9C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DFAA735D-242E-44DA-A0C0-AD80FEAC36D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5D7609A-8A60-4B18-9551-D66C23C3A31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7C6007F-482E-4D3D-9499-E328F0928B5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4FA4B17-6AAD-4BAA-940B-F51C0F7CAC9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0E194020-77E7-4D5B-B8CC-90CBF6C72E8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39CE491-4E3C-43C9-9E08-B5B6562C046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D0E335B-FE35-46FC-9724-BEA0290DE5A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6CEBC15-FA50-4DD1-BEB2-FA2291C1AE8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1FAA0B2-77E4-41BD-A3D7-367DF315884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AFFA91F-214F-4ADF-B617-F295415F1B3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6B5C1F06-D615-49F7-BFA8-B12D39F5A7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7C8CD07E-90C5-42C1-BB46-9489C2A01CA5}"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3EC96F5D-0029-424B-B4C0-EAC71FBA8C2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12D2096-87C6-46A6-ACAB-C2E1D7837B6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1A1FD04-9151-492E-8283-2C73F0D673F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CAA77C7-B7D3-4C49-8002-A4BBE4ADCFF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08541C6-6199-4CD7-9C76-1C58970ABF0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5E4EF9F0-049F-4046-8A71-337308A0A4F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DB13ECD-EEFB-48FF-85B1-63B8AE9F50B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031DB6D-1CA3-431D-8E37-A68F4BEE6DB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900009E-3431-4CC7-848D-CD332BAFA5E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83752E8-FCE3-4C5C-BFB8-F9CC1E3AC8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07C9D5-A801-4A58-9A96-E579A454270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7C523F5-5EEF-49C1-AC8A-5A3B9AC6920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E912458-286F-4A5A-8A14-F2667F81D79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12F3C78B-E999-40A7-B54E-94BFB195230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6BCED94-3FAB-44FF-90E4-387954B43F6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8CFB76A-FBF1-4F25-8402-D4D4DD77CD0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2872785-71A3-4E04-A9FD-8995D9B2077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D01A876-4CD2-47B2-9570-3B64FCDA460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832BD44E-5271-4AF3-88AD-F41550AE1B7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1BE391ED-3FED-4ADF-92F4-AA13BC1A4F1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FC45BD5-8A23-4CCE-A060-A82D817C3B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348373D-FA06-4E6A-9975-BDB4873DDD7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0F66E44-F440-49D2-A613-AC5C2D58868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6802AD2-C729-4D91-91B2-63B11EDB190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395AA07-7D7D-4C5B-AE2C-3AD938185DD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28ED5678-EBB5-4A9D-BCB1-89F33FEBE07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17678A6-1A00-4229-A357-90C06EBC136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9FBA3E0-194E-4068-AAB1-FEB67011C7A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BA91FE6-0FB9-478B-976C-85D8EEF2A12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CD17093-C044-4574-B772-D17CCB6EEC1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68951CC-2ABA-435A-A139-CA104C201CA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0D583FB9-6AA8-435C-8B49-608EC983E5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B77B7E7-F250-4B56-8F30-489A377D602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A4C8E13-DFB0-4CC2-BFA0-560983EA050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A3E4D38-E8AB-4C07-9029-C16B5A02B42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E9AC320-FC1E-4937-826D-134804FEA9C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6082CBD-8C8B-4230-B219-3685D0D85BF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B4E124F-649E-421B-AF16-098336B56CB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8166818C-B76B-4F3B-99BE-99248AECDD8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9980B62-AF83-4DEB-8F3C-4050F34505D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7D98A05-90BE-4458-BAF8-575BD784C25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D9FE515-EF1F-4CC6-A6D2-EF0F14A91488}"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BBB4E61E-AE19-4FD3-ADEB-8DC3163E4C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65C7496-575F-437F-B0B7-6248B5EE75E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97512BB8-FBF6-4ECA-94E6-4DC14025738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7FCC8748-8936-4AD9-A94C-8AA3C94411A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F2DA2A66-328A-4A30-89D4-1A441E3E20F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8025FF0-8CDD-4F04-B344-44AE9760DCC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94E4AA3-A25B-4BAA-BC23-2BE56C0FED6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454A577-0A9E-4126-B812-97BFEADED85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1426BD3-6DA0-48B9-96F0-13D1627780C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C7FED82F-6EA8-4A0E-8505-31CA4AC90B0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51BF688D-3714-4870-B6F7-E08586A8039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EC66ABF-9EFE-4AB7-9B21-1F815EDD6C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7C177493-8FA2-458E-8B59-8C58567E70B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A4781381-6179-4CAA-B728-981CA6EBD817}"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41E7A67A-B704-417F-A7C4-B2110F26607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41C526DB-E8DB-44E4-A2E4-4D87DB60B51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14F3C276-B57B-46A7-9015-FE9299AE819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0F843728-DB43-4268-AB40-5AFF9169B7E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F1FE6093-A5A3-451A-A759-1D1D6DDD4B0A}"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BAB901A-AD27-48A8-93DE-47BC9C7F85A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1975EB2-7402-4CEB-B864-7F43A4FE455C}"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85262A4B-3B15-44AF-8A2D-DEAE9492E50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43E12F55-DDEB-481B-A7B0-627B10951E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40A9C21-24F4-4ADD-A3FA-0C1470C6FF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CB2923BA-801C-4A10-B356-A3F4DDF632A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4730309B-3DFE-476C-930A-F7004754AF8A}"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B8A5008-B01E-44DF-B7BE-C2DDCF9290C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786F7C22-55AA-44DD-BEB3-803F36FDBFE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D61DA218-A7E2-4E24-A384-D01046C7C6C6}"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19BF9141-F130-4E47-AFFC-F822D22B096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92BBFE95-B550-483C-8F10-05F5506476C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8BBE9437-F0AD-4BF0-A312-3201B3A49934}"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7760DE8A-1F66-4358-A43D-BD245E528B9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29DCB035-7EFB-46D0-AA84-1469C5944A71}"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B59F472A-57DA-4F9D-A320-DD326768E9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2A91F6C-E74C-4F24-813B-8835A0D7496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A6A3BB7B-18E0-46FE-A774-17C96E24646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FCC4D9FF-435F-4767-B284-E93242DC084F}"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5EE6F27C-A241-4504-863D-3A3043FEB72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61CD0AC-62E9-40DC-A172-989129B7AE8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18C75D5-C760-489B-851F-39C0BB7F8349}"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501F306E-964C-4AB4-921F-18E147C8B65D}"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90871E4D-263F-4FB0-AA26-652B2A3B51B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1AA52451-ABDF-4D1B-B1B0-1AF0255943F2}"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561E1E03-5E62-4066-9C05-B28C6980572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3E955F5-3F3E-4ADC-A891-3F4D61A7814B}"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A6475923-002D-41A5-BFA9-6CF53A5A7DA1}"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FB10BB86-B04E-4924-96A1-62C3E7B2B422}"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53FDCB7E-637E-49E8-9CBC-C3D379B63DD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B493B2C-F60B-4E43-A0FC-BE4552C42B6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19C527C1-F12F-45FA-9D4E-768E6179DCAB}"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8A68F55F-80FC-4734-8D3E-7451CDEEEC17}"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50A2EAA2-67D6-4D54-9489-B41FCB46FA04}"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3D93FA9-8CDC-48D7-BB3C-F1C4814F13A4}"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963FF44-4EF1-4330-81CE-30A7965138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16323C2E-AC8C-44CC-B5DC-7BD42A717058}"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901DD0A0-7CA9-4BB0-9CC7-09D6816D7A97}"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D0FEF908-3D4A-482E-9AD5-935C13D48B4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877C54C8-506C-4856-ACFF-B39ABEB42A41}"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5FCFC333-CB59-4E96-872B-1EA8E55E2984}"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B955DE97-2EDC-4A9E-A07F-1993FC40C350}"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86863B92-2E5F-4903-93D6-AB9329EC6E7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AD1BEAB8-667C-414F-8B5F-96B9FC2287D2}"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79991BB-C4D6-4E4C-8D1B-7086A018ADC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6AE51DCE-1B34-42EB-9F67-216743D66CEB}"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D826FBB7-1648-498A-A325-373DC9DA53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98C3E15-15F7-43ED-B2E9-06F3F87C00D8}"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8D854FEC-9CD5-49B3-88F1-707B5067773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24A3BCA-8991-4EB6-8DB2-36FF9E1E875F}"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5898FEA3-D51B-4E3E-9B16-70EAAFDCF5D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BB033F20-3B18-48FB-986E-50B46FD2C5C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D4913073-0001-4339-97D5-9A500AEEB655}"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36679D56-1E68-43AB-9BB2-D79A4B22ABBD}"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E7032F62-218D-4AEE-B68D-40092B65F250}"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7D1F3B4-B20C-476C-8246-EBFEBA0C36E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1C690B5-5ADE-45D0-8C0D-492476408A75}"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C70B6F1F-4B4A-4700-9037-125D8C36D5F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93C64EE-9475-4503-A57D-E025FD83A8D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775C4B82-1D39-44BC-B043-C6CC8DD291ED}"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56A64735-BCE1-4F3E-A892-708925288788}"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51959BB-7865-4C83-B42F-99CAE1DA4E0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9ED54F29-D111-41F1-B648-5E94D002F3B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3929D579-43B1-46E5-B74C-32BD2CBFA62F}"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926BB0C6-FAC7-458A-A95F-1C8C727394F8}"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90B2BE29-653C-40AA-BB99-13E3A526D85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1B43E283-010A-4AE2-AF8B-5D7ACADADB14}"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39A28F3A-8B8E-4C05-A34F-AEEF089BA64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3B13A9B1-62A3-41FF-A39C-0D2968068A08}"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8CFBE420-4951-4A1E-A21B-6DFC49AAE549}"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953EEA23-CF82-4BBA-AD57-73309F20B3F1}"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6394495D-CB59-42DF-AA0C-08E2BCFC0D3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5B5A613A-0C83-445B-A677-8DA2F2F8B8B2}"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50689CF3-9112-479B-89D4-4BAC0E090A57}"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FBA2B025-03B7-49EB-8ACA-28919C49F23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4952CED2-50FE-420A-97BC-8B27D725F8A9}"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88E55787-B9F1-4596-ADA1-009C7A699F00}"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E252F69E-DBAE-4B48-8E14-6631A501668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CA5D647A-52BF-410F-8D3D-22E50ED04099}"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DEE89000-E947-4EC0-8D1F-6A25EA7459B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F1F6D70-FA8B-41DB-9712-9AB2F1C28AE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0381DE34-B031-4B5C-AA1A-89D78261C99F}"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4C350EDC-E468-41F3-98B9-C274986A0256}"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8C978BA0-65AB-4311-970C-9CC16B44B8A7}"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6867A819-79B6-44CE-8DF1-E249EABBBB5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AF4B9E7-A9BA-4E9E-A921-0C7B5EA1016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9FFBFB0F-6F32-4C0A-A849-652957165B3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D503F6EE-E509-42C2-B2F3-D61517DFB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339BDDA-CA33-4BB5-AF81-1732DBC939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D20B2658-B1FC-40ED-92C6-53FD3AD9D0F1}"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B8E551A8-76B3-4FD6-A373-70957BE01150}"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4281F2F7-B7D3-46EB-AAFA-1D45B81D423A}"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1F68DA5F-FCB7-48BA-8537-B54E2088D5F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B2E2B05F-7BEA-4EE0-B2D0-64137E6C1552}"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6A4A4F6F-4D5F-4913-A906-0C5F38CF2654}"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FDD157D7-E5D3-4296-8DDE-FB92E27D463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FCCDF3B0-6553-4F71-BF69-20D934DEDF19}"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52AF55C9-8DC7-4570-8970-388C278BBCEA}"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DDFB88D-812A-4757-935F-BF31419A55D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8FB5C849-35DD-43E6-9250-21DAA1B7B6E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AFF52341-F101-4CAC-A526-7AB87E363BE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097BF39E-2D50-4147-ACB4-4802BA2C7679}"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52368430-FC7B-4B7B-A3E0-39E16481A96C}"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3F0BA4BC-1907-412A-81E1-F250BA5F617B}"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ECBABD5-5391-4968-A258-A81953B8788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20627D5D-D044-4BCD-826E-65C5E7273502}"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E0258A9F-C7F0-49E8-B145-78BC0DFBAAD1}"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A36462C0-9299-4DC0-AC71-7B8FD9FE16BC}"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B084FE28-E1A3-48AB-9CC8-359A935F23D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5DEB205F-7D34-430C-863E-A180B753597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8431E50-E639-46D3-AF2F-49517934276C}"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96C4B3ED-4A43-4296-94F9-49236C91D067}"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FA71FAEB-4473-4740-B809-43708CD39A7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CFEAB37D-3CFB-45ED-B96F-43E4658C8A2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763FE1F3-EFA1-4360-985E-F918EF45F4EF}"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E32F09B5-8519-4D69-8047-5ECA2EE978E1}"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554A022D-BD67-44D8-A632-4E3DAD4E44C2}"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E51EAF00-3F26-455D-8D56-0A065F08F8BE}"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4DC925F0-6993-4D6E-AACB-951B5B61A44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3BE16AEB-91B6-44DA-B089-C94AA9D3F8A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A43883B3-C476-4360-A7F0-CD5E15D481B5}"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E56E2440-E55C-4962-9F9F-A93786C40D37}"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94C8530-0BF1-4F25-813D-BEF9F3D8DA67}"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70279732-E8D8-4BC4-A43D-4DCE9011A50D}"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9D1A22F5-55CD-45F1-82F7-6C3D6C87713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67071818-B213-4A27-AE66-19CE733C9582}"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5579EFFD-CC84-4734-B40A-54321F1D1F71}"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F4BBCCE9-9F15-4FFC-BFAE-6069E6FA68F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D7D3C40-6E1E-47B3-AC31-AB930CB0078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9177CC03-CDCE-4874-B140-E222A5F79057}"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C88F883A-9A9C-4D39-A70C-45ABC0557291}"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B91143F2-2420-421E-B7FF-F063AFB2F402}"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1E0E55C5-040A-4AA1-9A64-57BC9A680F77}"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A80C594D-1F2A-49C2-A3B3-7A41A779482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8FA841-9509-43EC-A535-629155C4C6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1EEE9FF-7D34-406B-9274-54DF9CB8BE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16AAA91-2369-4D07-91BF-BFDA1BB7E2D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6F34495-BEC3-427D-AE50-41337AE932D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F246B20-7ABC-4CB6-8679-FD3A39C3CD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56BF3AB-8BB3-4230-A612-C78BE05CAFA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F4DBA306-00C3-4B07-93C4-2D3BF1FA0F6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A635CB9-0626-42BA-8B6B-C753DDC3A49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248387B-5B49-4252-9ABF-67BD5B1B403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9C113E1-D162-4739-98F4-68B7EA6C530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B6B3D07-BAAF-4386-BFF8-B7B21AD3CC6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9D10219-E1CF-4ECC-B4BA-837A389393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5EBB2E8-A80E-4057-85BB-C6F2621FAC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7FBF2A7-15A7-41A1-83CE-8E6E403C873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6655377-B47C-4D2F-8A1C-C5AF7B3AF1F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27B77AF-53ED-4A39-91EA-95E963EB6BF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79AD54C-18B2-4F6A-98EE-2EA6493C669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B1CDD36-065A-4703-91B5-885ABD3743E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E37C376-A642-44F0-8C2A-FFE945CBF16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70137547-A06B-4EB3-AEC7-06BC0D778F2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F88667D-DF2D-4D80-BAC6-65FF14FC6F2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DD95E20-2996-4523-AC7E-DE597D29A61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786105B-3972-421F-B374-1E3027D0EB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404A4BF-7BC2-4A5F-8749-6B5529025B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F662259-7130-4AF2-B445-A8401AACD7A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9BE1AF67-C6BD-4CC2-B0E4-91301F20D87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CCCF6064-14AB-43D5-AEB8-9DF2DADF957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34A03EF-C9DB-45AA-84BE-B4E72F477AE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8EACF73-770A-4B59-AC10-E64B7AF47AB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36C0A77-DA3D-4CE8-B2A5-C2A66D81165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05747CDE-3B93-439D-9FB8-C406A81AC66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69D994A-9372-481F-AE95-FA9CFBCE36F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1E89749C-ED3F-45BD-A117-0D8BA909BB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CA6097B-FE19-46AD-804C-24E0A80FD61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B0893C82-2D6B-416B-99C6-4E31C92D314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2BE4CDC-1171-4197-8833-5588F2CB0C3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6A86345-D238-41FC-8FCD-E3AA151302A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80D9AB8-A118-408E-8E03-81CDC9F665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F79A9BE-2E53-4C83-BB7D-09F7123086A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CBD8F130-0247-494F-909D-AB8FB20EE49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08AB6DA-4ACE-4E8D-A863-E5B0F006EAB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C2F556F-28F1-40CD-A289-52D47D94727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AD7DDD9-CF27-4A6B-BC1D-D61502D569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343DAEF-9040-43E9-AABF-44E85DBFE6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F17F-1309-4454-982C-5F83B350A6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B709-980A-4057-8C7A-03C0800F6D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EF68-14ED-47B3-B411-28D677A059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B409-3205-4F56-9D3B-351644716E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00F9-1C74-4E8D-9FB8-FF11172DC9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B3E6-6F93-47E2-AA66-62B088EEE7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ABE5-F44A-473A-84FF-738FCBB132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E6BB-1D13-4DB4-B851-A650BF641C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46DE-1D7F-4D27-BDF6-D7C2CA5885F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4A32-9D3B-4791-BC0B-16D7852932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6B3F-0E38-4E80-82E4-9725C03D30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93F6-EBBD-44E6-BEEE-F202F19076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F934-70AA-44B6-96F7-5FA244F5D7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0289-B833-4C96-8AA2-9521E29665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0EF5-7692-4D92-A70A-F3081B8E3C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8B2FF-91A4-4F15-BAE4-280B0B005D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1699-F402-4376-A8D0-D1E1F3B0A4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2196-454A-4366-8F44-522061B0F3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608B-CF69-4E30-B485-7FCA59CAAE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1EB2-C0C9-4991-914B-9B367C30B632}"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102C-2760-450C-91D0-9C4BFED3A9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2AAD-EFC1-4D16-8335-C158E2371D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A870-567B-46B4-930B-D2AC12C8BF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8422-1833-442F-B228-D8DEE4F1F8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356C-07B9-4ABC-BC80-04C1E2A6EA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521C-DFA3-449A-95C1-982D699CBB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7C0A-78DC-4234-AE5F-88C7B97FE7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A13A-9CF0-4083-964E-E45F0B1792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9CA7-9989-4869-91CD-77103F59A2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82FF-A672-4279-A9A5-6C71CF0D47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F430-38E9-441D-A2C8-57E35238FB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2077-4916-4B0F-ABF0-6762BC1DACD6}"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A5D4-866D-488A-B012-A45FFF3C13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05C3-1925-4F29-8CE3-18AA3B73E0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BB2E-BF0E-4937-B70F-0512349E415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87BD-2ADD-4684-96E7-969F7BED1F5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1F7C-8026-42A2-A5EB-4007593F289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6429-BC1D-45D0-A431-E8FB53C5864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