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2014-8163-462D-BA2D-DD54BA009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54DD-DF7E-4A99-80D8-7D696B01AC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7F95-C383-49B4-BABC-8E8ECB55C9D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5B3A-7C70-4DF6-8407-320DF907753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A03B-176D-4B51-813B-FF30A14ED06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8305-963F-4EB1-8899-C53A55B9DEA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E817-E523-49F3-8E79-7253ACA31FD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7C74-C197-43BE-AA22-6BB3DC80901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2C0F2-9077-443D-970A-56C5DD6F693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95327-6C84-4FF9-AD4C-B30FBD01FA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92C7E-2911-4462-AAE1-982CDB20F5A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27EC-1CA4-4203-8D45-124C0C3BBC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A467-3344-4764-A54E-79DEB31843D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B531-0F5D-4924-B7FE-04F57FE8261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1B64-EFFF-4E37-991E-23841EBADFE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1297-53E7-414C-AB2A-76185E7C833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C8E0-9D77-442F-AB42-BDCDAD89DD5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80A5-4CFC-4EE4-83B9-5B00F4E38A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4B60-01CC-423A-BD0F-1646384B1B5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A74D-F9DA-461F-84BC-2CB3D3D9B0F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B96E-3BE0-495B-82F7-40167507F3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3A2F-74C3-4641-A589-F8806A5EED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BD0A-75AD-455E-B469-24C755C07EE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8A29-008D-4A53-BD42-3493EB20C3B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546A-3D90-4DE6-A90F-4917816B5D4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A073-A338-4EE0-96FD-4E0C6B0288E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5F02-7912-43C9-964C-149DAC81262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700B-CF73-42E4-8028-1D8637D54DC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1A76-BAB3-4106-9BDD-5D1D06F959F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41DB-125E-484B-B1FA-D42AD9E944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A9F3-E613-4294-A579-2C1ADF925BA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50E1-8643-43AD-B058-279DF34B8C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1578-1ACA-49D6-B7C5-42542E0FED3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72E3-42D1-423D-8C64-3B2200010B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A38B-A9B6-41B0-BF94-01B1EA66DC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5A749-B7BC-45B9-91B3-2108349DB6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0076355-EACC-47DF-A154-3B33DA01411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DCAFBBC-8E55-4C1B-A365-3C9350A9C7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4E22359-377F-4777-AA99-1A343E1B2B5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095D2E97-0A27-4B2D-BF9C-F80ECEA4C21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203122C-9B28-4562-AA32-751336377F0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30F0FE6-BCA7-4474-8DC7-349461D726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851AE36-56B5-4141-AF13-DD7D4B7DEF1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8B0E0E5-D7CE-4AAE-8986-4C3969E4395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4F4B88D4-1375-424B-8485-05E8F5DC41B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5AA59A69-F5DE-4F9A-8BBB-E540D8A6DD5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64EDE97-786D-4D4D-9A14-0B8EEB4DD4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53D08755-C155-4028-8622-4F37400BE81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F0085EA-2F2E-4CAE-A9D9-D306A2E82C1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06658C1-2523-4F78-B01C-05AB9C3DC8C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EF63390-AAAF-4EF4-A4DF-579A4986ACB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0CF9C879-8019-4E2D-86BF-05CC31E55B1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48500E5-E4D9-4394-8C4B-14D980FFD37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048EE69-F674-4B43-90B1-92AA7C6068D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2FFF37C-519D-45F4-A739-88026C17D60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33914F9-4D65-4356-951D-EBDED1B42C5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7303CC8-7B7D-4526-A89F-073AD066B88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9E2012C-7B66-42D1-8859-38DD02802C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3C35BB2-D10E-42EC-8FAC-EBB90C738DC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54C0D216-39B8-41DB-BC46-C4CC7131F7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BE77CBC-81D3-421E-B754-D9D2587C337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F928D15-E194-4350-8EA0-C8CF1B84659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3BBF9715-C3DD-4830-A0AB-06510112103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AF6326D-C439-4EDA-A98C-86CFABCAAB8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40B2E573-796C-43B3-B9DA-8C99B224561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26BF8EF9-600C-4728-AA49-BD98A68704E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981B97B-B4AA-4317-A565-FFA76373B1F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22C0A18-AD0D-4A8C-982C-85EB4F0AD4D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5FCE27A-C4F0-4E5A-8551-9FFC1A3505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5E30B9-802C-4EFE-AE68-A91DD98AD4E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D47B225-B76E-4D51-8C77-D8FA98D6AF4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A26DCDAA-01B3-4DBC-A762-839220529A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3F78729-E1EA-416B-ADEC-511BCF1BFE8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4DBDE7D-A373-4AE6-81AA-2B1C23608AB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5A9D26F-2417-4ABC-9636-ABCC310CDBC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4B63E52-1940-4678-BF29-8FAD5423F20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964CEFA-936B-4354-8F12-D1DF1AC5A84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0B03938F-DC02-4E9C-AA64-D2512397814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B230F87E-B442-4C0B-ADFF-C931F8DBD6C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38CAE86-02CC-4FDF-88F0-0DF6C4BC0D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30C4C32-03E7-4C41-A661-BE12BA52B04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E85ACDE-27FA-49D8-B4A4-51BC44E08D8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5D835D8-8DE1-4F48-9FF0-EE0D468869E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A36FF72-1214-4365-B596-DF8C56D9A22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BAE1B3D-E71F-47F5-A007-4CA501DC3C7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A456F45-B1F8-4BA3-9C75-2E1BF65D818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A70C6C9-F853-4A31-86DC-2529910A032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D808682-1C92-4BEB-BDC9-0A611533889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BF7F2AA-CD15-41CC-ABCD-118002F1867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4645B094-E7CA-4DA0-8A81-A92184F7ECC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A74F68C2-591F-4599-9D9F-00273B0394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5C5DA7D-71C1-40F3-BA12-D08B9A5AE50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30B2BDC9-1C36-4473-B76D-B93F4C8B313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8F5771F-BCFB-4AFC-B0E1-4DFAAF275FB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0D24073-BD2D-47C1-992E-C69D62C5B36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CFD7143-40F8-45BF-92B0-E532ACD7F34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4ADE518-DB17-4560-BAA8-2E9129B4A8F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03054688-0FEC-4AFC-962D-F655362FED8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77757DF4-FA29-4DF7-B3A6-E6DDE38842E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69A7C1B-7661-4F5D-A60B-7E06D816386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89BAE65-5C7B-459A-A142-8AAA47B0995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37623BD2-5980-4109-8320-B1832DC746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B6C2A2E-C465-4833-BA3A-2142B755207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4C0329B-A58D-4346-A998-60F55D100C0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ABC46791-6528-44B9-B641-5F028FA5D30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2D648651-E3F5-4D9F-B616-252A20090B4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297F5BA-E0A5-4B1B-BC6E-5875D5CBA1D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BFE08AF-1D54-4207-B3D0-D6369345DD9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B5EBEA4-71A1-4B95-A5C5-F4CBE9D5812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82E9E14-D545-43E3-9F0E-95959372396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38938466-753C-43C8-BDE7-D03DD9BC6DD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CF222D9F-B358-4415-840A-B8EB7EEA40B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EEC0805-D7B0-41CB-B089-7F9667FD55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3A41F65F-DD03-4A82-B631-7F0FCB4794F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C2D899F-29E6-400B-9F86-D57637D90CB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073E923-5466-4F23-9BE4-801F4201A48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3824F2C-586C-48E5-ACFB-023C370C96C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BD977203-38DB-4A91-B9D7-9442900FF44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93CAD99F-3CD5-4BAE-85D6-4B5C91C8406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7739C1E-083F-4EAA-A853-AD7D2F797B6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29409CA-6952-46D5-B393-FC4DBD99BCC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A2C3C74-7F8D-4A30-A479-C08E44F36DC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8A38B56-9565-4655-8975-EA3B15E036B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BF39798-7440-4E36-8668-EBA987209E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AAEABB3-6433-41FA-99E8-E1E4A3C44BA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977B60C4-30D1-4453-8C5F-23FDCEC1EF3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CE9570D-BA3A-4394-9D2F-E87111CD1C7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C79733B-0EFE-4A13-906C-4FEB0543DC4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E8835EF-5B2E-4CEF-8D03-75F2635FE4C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D1231B3-09BE-4B32-9D02-1A375145561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1D3CF464-83A8-4745-80DF-2DD9465ADA2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8129D70-20A8-42EE-A1E6-E8A30C7E5D3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4212E5FD-DC49-4161-B003-0FD61E39B0B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DACA603-97F9-418F-A2DF-0F71CFAB81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78FB848-3C9A-45F6-A5B1-1863768426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60BE22B-F395-4DDF-B478-74DD7CF23E41}"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A8EC5D4-8BDF-45C5-9F6D-0C1EC376617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C466E8F-9FDB-4D00-9B0C-1B4C89B67ED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D96CFE9-41AE-4249-8B2C-11225858716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519641B3-1A8D-4957-97C1-A638D13CFA0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8C89D8B9-C251-4197-996C-BFC23F325B5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2ABADD9-1D39-4EFF-8C8B-6496A885B1B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BCAA542-ABAD-4FB0-9814-AD545A11780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E6482EA-6929-4211-91CF-AFA3A4A1FC1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23AF932-97F9-4EC5-B944-451E8A01DC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E1554C7-BF23-46F3-B25A-E61D4BBD6BC3}"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F7027A4-67F3-430E-92C1-1BF56A40A79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DED2776E-95EF-4A58-AD82-5E94DB2E83E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2F284F95-020C-4D98-867D-B7D4834213F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5A951CF-45B8-4FD2-A390-461798AF910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EE7CF96-952D-4F5D-A78E-7F774F04471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024A7AE-2A6B-46AE-B30D-C7900CA643A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682E5C0-A7C2-4ACF-9949-0E65EDFB097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1243458C-5C7F-43B0-B6E9-FC2B629C2FD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7328882D-55BA-4AA8-BB99-C086BB6533B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02F9AE9-81E3-4EF4-98DF-D1B7C01935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AC30B8D2-AC5E-4B61-A655-7C7751B9CB1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06EEA16-5CC7-4696-8A82-D128A406C24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15D5C03-1694-4F4A-B3C4-AEB1AF469D6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ECC1F2CD-CDB9-4D5C-8E65-600012E73E6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4B0BD329-57B8-409D-A908-DFE5267E6DB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3AA3C230-A0D4-4F4D-B75A-B8E162A5E3F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25A606C-6006-48F3-B3B6-93C580E3CCB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5D40992-6412-4D60-9F24-F5597D01788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8223571-1507-4969-B3A9-ADCB5A06EA6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D3BCDE1-F3C4-4C2F-AD44-A048957B945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BF529F9-5327-4CC7-8476-3A80A9D4B5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B42AF62-B8DA-486A-B22E-DD24689C4D4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CFE2CC8C-6E23-4F99-8B46-E315DF308B9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8272864-F235-44FE-A0A9-6286F833BB4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D1EE527-5770-4C43-87E4-AFF715B04BC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407BF05-A298-4518-93DB-6371D1E113D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D431F5E-3D6C-440C-9350-AC64ADD1A90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B8BFAEB0-885D-4DFC-9E49-04679422B02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1D77ABB-DB68-43A5-8889-AF5BD1C8D2F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03F6B40-D49D-4691-99E5-0D44E2627C1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7BB2DF5-3DDD-4464-88CC-6B850168190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DD8D600-E08A-4912-A147-CBD602EAC38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AAF6B3B-EA44-4849-8448-DF65FF87B6E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3926204-EE80-4CD2-A0A7-22D9385CA5D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EAF755F5-1DB2-4B29-B974-4E3E9E2BC93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2681E664-FE1B-4E16-A0D7-B3B119DA2B4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4348207-6F5D-4545-B5EF-136E4CD03FB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F5C205E-E8D3-4552-97C1-A20F74BDBB19}"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3FA7BCE-78E1-4A28-B429-DAAA69E835E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DF8D5A2-1DD7-4EAE-B939-ECAA27CCFA4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D2DA662D-81F5-4315-85C9-713CC7E045B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35470871-2BFC-44AB-93EF-0333E32E6A15}"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7720664-268F-4DF9-B0B2-2192A4A307E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1E69EBF-E0DD-40D1-9EBC-1D1F21C55DF2}"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7E1ACD1-0F23-4CF8-9124-1CA37235E26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CCCCFD3-9A4C-474A-8935-A80C026073D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29058313-49A7-488D-92E7-3601D4C697D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A654CB09-B0C0-4DE5-B6F9-F69DB25D3C0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F14E14E-EAA1-44A1-BD77-11A7ECD5FA0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BA025E0-CBF3-4161-8C4B-0A99FE920AC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EAB368E-FFF3-4DDC-9214-0146320F6D9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39D7313-0332-4414-9CB4-BADF476B10A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7020897-5145-42AC-B47A-0C30D1ED4C2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27762127-ABFE-4E34-92FC-940DDEF667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49903FA-C52F-4918-AE0B-CF64658ACA16}"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8FA4482-8D2E-4143-922F-AAE52891819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9B02773-624B-4EFA-966D-E2B302F4FA9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4313224-3453-4B4F-97FD-E9393705448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B69E90A-7786-4A51-8DF3-DEF1B2EFCBA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B2DA6905-6FC8-4BD5-B8E9-DFC0F7F7754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C3DFB17C-00F2-4F26-A61B-FA032E70816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E996DC9E-0719-41B0-B7AE-856D04BE160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AA163BB-D24F-4D6B-8AA5-D5AD5ABB773F}"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3E39EAD5-3C6C-4E58-B78D-90FCF352302E}"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5CEBEDC-5C40-4195-AA05-059088530F7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2BEC015-83F5-46F0-B618-E9E3CB3D605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A42C10BF-E267-427B-90CF-608F7AC8F9A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28629420-D8AF-4460-9585-BC0DEC1D126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B11FD3A9-608D-4D20-A761-9761DD94D156}"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E375794-DCC0-4C14-91D8-07D58F9AAAD9}"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66304B3-AAEB-4955-A9B7-D8260282E88F}"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36AEC08-95C2-45B0-87CB-D8ABF39FB89B}"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D40AD8CC-8100-416A-8D49-70CC4C3AC37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534E8602-CAA8-44CD-8396-AF7AFDCCDE7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7673AE59-8CBF-46F8-A171-7F944E4E9281}"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976704B-CCA9-458D-8EA0-EF489B9B63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A6FE4F5E-26E6-4B35-A28E-81B2D61EF37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C87F135B-ED70-4DF9-A8D0-E11F1EE3036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E010D800-5FB4-48AB-A39B-DDC1CE554D24}"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FEE71B11-DA3C-491B-8F12-B4930745FFA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28EA69BB-9F46-457D-B10A-288C7B7E75A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17E8D94E-F473-476D-93EA-AECA6E154F6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63B23578-067B-4F99-BBF9-46D8E1F92DE2}"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2D13944-066E-41F4-B5D4-9424197D03B2}"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A1D76336-8FE6-4155-A9BC-A31372CDC5A6}"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299CD546-1083-4DA9-B436-4DAD7407579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02EFCAA7-8DF7-4457-B890-80483713DE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2322FC2-043B-463E-AD4A-638D052A097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1E2F7B54-21DD-415B-BCA2-B61CE902A0B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841C1B3F-D601-4790-BC89-6FFD94773837}"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91111F3-F885-4F25-A18C-6B73B14297B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F01B92E2-0A5B-4302-BAC4-870AD841D13D}"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C5B35BA3-2AB3-4CE4-BBF7-5C8238EE6C7E}"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9E8CE990-74FC-4718-B7BC-D91DCE42B75F}"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502B0917-985F-4FE7-86F8-67DFB25FBB08}"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47237A60-0ACD-4ABA-BD73-28B7CC6FEF93}"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2758F4DB-153C-4B6D-983E-B4A3A0B4EA2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C933D121-F4DA-45A1-8809-C34D23DE3B22}"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8EFE4694-2EAB-4442-BA95-576B5DA911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8112B24-548E-4238-96CC-075646FD3B4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7706D380-A962-4192-A54D-B8F475568E2D}"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04F60B38-AEB1-4E1C-A15D-780D95A7F67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B1B5E081-13A0-4C54-85CE-9A313936433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EA68A9D-FACB-4BC4-859C-43B855AB627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3DABD94E-D72A-490C-87DC-459608CFF2E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786A8643-854C-40C0-BC2D-A49630FFECE5}"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0966C72A-76DC-46BB-ABBB-8A277221DA0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A32DA640-532B-4659-83CC-2BDCDB4C468B}"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7BD845A9-91F4-4001-A649-3624BAEFDC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5F8225F-5283-4299-8D20-B63C417541D9}"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4C24693C-E32E-436B-9AE2-B7A5AEE20B53}"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7BBEAA06-B1D4-4E42-AE9C-3E5EBBE7C76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D5A5DC72-B89F-41D3-BE34-0EDFA132CCA5}"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A7452454-B8D0-41F1-83B7-A05E5434AB4A}"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0E76EE90-CC7A-4C36-92D8-1456F6C7C51D}"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8AE0C732-5950-419A-A6DD-C3241B47ADD5}"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0F69F5F5-3349-4258-BF85-CCEA7B154A1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FB41D89-F0E1-437A-A17D-C2A1C7398784}"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2F23E47-BF08-4222-AC31-2E971DCF9B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51FF06A-DDA5-40BB-86FB-D1BF2B399A01}"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661EFC82-7AD2-44EC-AD3F-30AFF85ED2F6}"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EADB3413-CDA2-4573-8E13-0EEEF2137F26}"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4E967645-1944-45C4-BC32-060D8DA63BD5}"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B0E3F182-76F8-47E0-BFC0-5E2CDE94577F}"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5D54CEE1-812C-46DE-A842-6B3A00313BCE}"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C86D15D5-948A-4DD8-A53B-146575202E65}"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F13BC51E-701D-4ED5-8C36-06AE6BE3213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8284FE86-0721-4D03-AAE3-801E72729BE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32494F9E-9D59-4F4F-BF5B-BCCD742334E6}"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37A5C565-FC92-44D3-9B33-F4D5BC55BF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5472EB37-5A04-46AE-A177-622135B4F45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3AC77452-9E4C-4308-8ECD-AE8A24E2B38B}"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394D74E-9E29-4FB2-A220-5189EB40229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AEFF0024-8F71-4690-92CD-F29FF30D2487}"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9851F8F2-A366-43CB-BCAE-A1CE0C48C18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6C81F38E-D496-4989-8A91-FAF7487AC1D3}"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023C4BB1-ABB7-4FD1-B493-95F8D10D4F83}"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944CEFEF-E75C-487C-B517-CB974D374272}"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06526B7B-E410-4E3A-A4DF-91C3454D72E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FDEE553D-D1D2-4EF0-9E13-F70A7ABBA0EA}"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03CE3E66-7B9C-4C79-919D-F6E4B05C4C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79002542-FB53-40B3-8D34-5B18F466BE2B}"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5F094112-6B9F-4F25-99E1-57D0005F63C0}"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0295FF5B-8E7A-4AFC-AF19-FB8AEEFD59B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CBA160C-A27D-454E-A141-ABC89C23894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527ABDF0-0AE4-4E27-A01B-069704C565B3}"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463E653B-5155-4E17-BBF6-CF6FC250B4A4}"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67F1744A-CF88-4FB1-9D92-D6790BD299E2}"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AE89BD70-556E-47A3-A402-E092128D8235}"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C8D7CB10-1FCB-4F15-BBE3-4160157808B7}"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556A1D05-E453-4227-AED4-AD51811FE8C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90569985-BC6A-42FD-AA66-E18B7DEB7865}"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A76BA86-EFEA-4881-A5D5-B62F59699BFF}"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CCEC417C-21B6-4F96-BF0E-AA7CBB28250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DCBF1739-510A-40E9-9C1E-33981A629B3C}"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BD1BB4A8-BDAC-4037-B1FD-D1C825474903}"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1D57C0C5-1A54-4FF5-A054-150C3868D153}"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4626DABE-F462-4047-9B45-C7C188B8E98A}"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FF9EA64F-159A-4ED2-9ED5-7E863ED3CB59}"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854AF4FA-BE61-4EC3-B61E-FEB6A769AA5D}"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1C12E30B-D33D-4DB0-AA9D-67260A22CF7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30E95713-6401-471B-87BE-382B1856F1B5}"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14A0FB5-09A4-4101-954D-940550F4262F}"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AF23DBB7-E8E4-4B29-BC25-C468A78059BE}"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B29CDA9B-7AA4-4733-91AE-4B4D38A3189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30435F4A-5D45-42DE-8EB6-522FBBDC541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503F5514-C67B-4520-A360-77DCF72073A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5A7E2829-75C5-4293-B523-09364A9E1BB2}"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6461EA0-60F8-4B41-B064-3518FE4E59FD}"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0F2EFC1-3EEA-4136-BACD-14F3809FAF4A}"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B933E2EE-35CA-4DF9-B611-35C40C2340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5B91748-B2CE-42F0-8C44-589ACB77C1F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F7C6C831-EB21-4C40-9592-5947C2BEF3FE}"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FE07F435-24F2-4072-89D0-6E67FA6BC1F2}"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FDC9E333-DB40-49FE-8F35-C79891BFFE95}"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315397D9-0DE4-4090-BC2C-EF5C67A6F39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3F29F0F9-B78B-40FC-BE23-F2CFC6A32063}"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04FE3736-DA22-48FB-AD6B-461EBEFD3C0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14B4AAC8-27E7-47C6-9294-70204CCC6F3E}"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DA586A66-405F-4306-AF12-B7DBF3521BE0}"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C9767FEF-292F-42D6-8ADA-E7A14DBA2603}"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2C35A77-C911-4DEA-AE96-1A98918A0FA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CCC892CD-FB76-4195-8322-BB0AA3A41E70}"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57484967-C826-4B7C-B739-F3FB99D22AB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675C435E-CE4E-419A-8B02-B7E34620421E}"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E954D650-1FBF-44E2-AE46-6C62326B165B}"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13F9B203-F47F-4F60-8C79-958CCCD60ABA}"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3D56C4D5-16DA-47DD-8403-D35E535D38F0}"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926C91DA-F501-46A8-BFE8-849037280304}"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BA31D2B4-8596-487F-BE2F-D317F1859D5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63BECCD5-ABEE-4107-AB76-77AF39FA08B5}"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DA91A5C8-9015-438C-BFA0-C71B10A748F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FA1559EE-8675-44EA-A696-38E70D0DED53}"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6E45D586-6140-4C37-8601-F59280A4D089}"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4E9ECA98-0029-41F0-B11B-DA138BFD5C4E}"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58AC2A1F-7B76-4D58-B96F-1F292967B11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7EBE8F6D-0C1E-4D19-A1BB-8B17DE395EF2}"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EE6AD398-9064-4247-A71A-D0135A1B8AEE}"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5141BCAE-6D80-4DBC-BF69-0583E81E4C4F}"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E5E03D4B-F6FE-4815-9C61-937EC2D3C9A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B359E3C8-88F1-4F18-AC2F-93DD7540B63A}"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21CE17BA-479D-45EF-A7A3-01D62A72F26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BFEB42AB-7733-4A40-AE2D-52F804A73EF2}"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6A2867F8-710F-4077-A927-84858B402C4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856C0110-0D43-4E84-BD47-18517A0692AB}"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073F3FC-4CDF-4079-B530-5212E038B423}"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4081AA35-7F2E-45CC-9439-8B5767E97CD8}"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2ED85DCC-B684-4F4F-9735-2841E4D01C1F}"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B382B0A0-7C68-415B-8451-F775390E4EB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FD181D8B-140B-40C2-80C3-F87DEB6E1389}"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CB306F93-0B62-4056-B61B-90BCE019BC95}"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34F5A0A7-A876-4D5B-9591-01DD97EF6CC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7136C072-9027-46C9-B328-16B2DDDCC27F}"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50C560C6-F4AA-4112-AF06-1A4020082A5B}"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4E2D82D2-2899-47FF-8AB1-CC907E47070C}"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99D37E5B-712D-44FE-A32A-09A17D1AB3C9}"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445C6BD3-6CEF-4326-951A-AA774B4DB8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51983C-9876-41B6-99DC-A9060EC045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DBCCAEE-DA7D-4467-9FDB-97E375500D7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14E6AC5-389B-400E-8271-175F509BC47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F1D5909-D4D8-40C1-89F1-FE6FB3689A3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EE1539B4-0BC4-45DA-B40A-7028E1D3382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4C1974B-1D3D-436C-ADCF-2C683BEB3D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67DFB887-D5AA-475F-862C-E808197514F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88A3E4F-1E6B-46DA-A3D3-FEA589AB288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E7A0E79-E8D6-4341-9738-A9CA59D4D7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CECCF3B-8268-4D29-AB28-5942687D90B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7F4C9A5-9746-40CE-A0D4-C02802ECB1E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80585BE2-FD3B-4E96-98AA-9C5A00F3B6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CDA1FA8-731A-4297-A686-A5BFBCA3784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CBBD0627-534B-41F5-9C94-32303AF2E4A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115C8B-52CE-499E-8CEE-D3D1DF36AF6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5AFEF0B-E88E-415F-A5B2-77FA1952193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D5D6D6D-9A86-4794-9508-C81D8FB210D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F6C6F2D-CDD8-4A1D-9185-3E99A468244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8D50E82-AC8B-4B55-B792-67E7CB4047E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4BDC32C-E41B-4B4A-A370-B96662A1465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2F3E946-65AC-46A2-9DEA-6853EB673B9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0604951-011C-49E5-9929-5AE139EECA0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5EBEF41-7723-4830-A410-CFE9A27B01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D1C653F-054C-41EC-B24F-9B7BEF13E1D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040E625-EAF0-4F8C-97E0-28822B8F1D8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BBFBB13F-3DDC-4A87-BF6B-82E53571A2B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A5ABDA06-598D-4A75-8980-8EA7D7AF4AC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5194F85-7FF4-4225-AB0F-F63D4440BB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740F04A-7067-4977-B277-ED4A2EA7212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6E7D501-ECC7-4946-8000-D17835A8B89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C55FFF5-270E-4D3E-A9C3-71E22F2541C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11224BB-A7E1-45DB-9754-7AFDC96E997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EEDD4D63-03BB-4CF8-B863-24C0FD1768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6BDDAFD-9B7C-4705-8C05-044B4FFC30C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B3938296-1300-411E-8BA9-D51B30F99C8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B45BAB1-B765-4E53-9AE4-8BA0D400BB1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C586D6C-023C-4FD9-9375-3EBE8179D86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68D8F38-8FE1-46FD-866B-6A23B45FFD4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75684A2-DC6F-4812-BDFD-1D7C6DF0269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A8A2DA00-83C7-427B-A65B-01CC69D1FBF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63B3522E-1FB6-49B8-9492-304500D6109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F2101E4-A18A-42C1-BCEC-B3AF9D5F5BC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F0A9471-889F-4E06-ACCB-93AB936D6E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39B310B-23B3-44B1-9042-982C8F42FC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653D-42B7-48E1-8CBF-FF68B75FE9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ADD6-E231-48F5-A772-971BADEC46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2B93-962C-4883-A76C-31C5885F56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EE93-3F18-4139-8E25-C00ECA0A41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EF6F-72CF-4548-8D32-8280E39E93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CD8F-4732-4347-ADAE-138D0F424B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F242-9202-4EED-97B4-5154FE4E2F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2717-07DD-4A72-9BCD-E2ECE66415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E3F4-D316-4A07-B49F-2C15822AD5BE}"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E8C8-1960-4D90-977E-B9D8B36FE8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34BB-0099-45BA-A931-802B8F63A7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A3CD-2B4D-4446-9A62-9183DC7CA0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9C45-167E-49BC-8805-A72A5EE026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98C2-BAC1-457E-B90A-078447A4B1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A045-5217-41FE-839E-3AB205E00E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1242-A919-4DBF-ABDF-F892D6B0C7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D868-B4D3-484D-8231-367D7A1CCD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5561-360C-4D54-B52E-59CCB9A644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E5DD-95F7-4D68-A313-408CB380B1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CA78-4AAF-4358-B434-8A09E4376D81}"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7468-DAD5-4BCC-B6AB-E518DEE09A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27BC-8ACD-466D-8A1D-EE3554C157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9EFF-167E-4312-88C4-FF1E2C6026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6F13-1D44-4E68-8F14-FC8D71C700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5EC6-6D33-4B7F-B100-6198D0496D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5C73-9B13-4CB1-A46D-FAB84E4FD4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D8DB-CCA5-4ABD-A244-7EE897184F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8096-D018-4389-BB73-F2CA63A9E4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534E-1AA4-484F-9573-8BC87CA680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DCC2-207C-4629-A4AF-E995123833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DF50-4E50-4618-B293-8BE19518C9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8CC1-10CA-495D-AB66-C0809B61888F}"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9E39-C607-44A4-AF8E-3363F189FD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362F-DF5A-491D-967F-473BC88757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6627-EE33-4C2A-BC79-51101F3FE21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9C6D-2792-421B-BAA9-A41719A251E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CCB1-183D-4131-A6CD-F99F6C39214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4A7AC-C66C-4950-BEA1-7823D1B33E7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