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9BBA-F4CC-435C-9407-CA889C7C9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E22A-E2B9-4BEC-87CE-9DE0104C2C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A5B2-8691-4C24-AF04-2E5AD142B7E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0D34-9F7F-4EA2-8C51-97AC633B235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ACD1-4ECA-498D-A29E-C9DAB5FC911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54BF-44F0-4508-97A3-69BEF511358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5A1F-AC5E-4F02-A60D-EE3330CEB57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4D57-BFF2-4A43-8F4D-41DB73C3A0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7464-9C78-4755-9495-09BDE039EB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B7FF-C789-4EEA-89C4-C672BB4F957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4798-E6FD-45D5-B796-56B18E6023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76F8-5FC5-43C9-88CA-6532CEAFBFC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AAD8-A1F0-4588-9C09-10A81D81CCB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C4A7-7F32-4C72-8BB7-AD2CD1073F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C9EE-E47E-4B9E-B709-5A7E7CC90F9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6BC2-48E9-47D1-BAE7-09E257FEAC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5F952-0AE7-422F-8497-CACD5A6DD4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F396-2A29-41E7-92F7-666D387DC8D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1AE4-4344-4551-AAD8-1A544ED49A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9795-3EA0-499E-A195-508EECD2B4B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3BCC-EC92-42FF-9B3A-C1BF5FC1511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1B38-A5A0-496A-9215-6D917F733D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A3D9-263B-4670-B87E-4B2FBE5A285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2A79-4B6C-483A-ADD8-298D8C3B34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BEE3-1071-41F2-BE01-2B88FDFD5FF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462A-A333-4D74-A5CF-8E4D4A7A45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AABD-94A7-47A0-BA14-E0A8B12ABD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021D-EA7B-4A70-B9AA-09FF1771C2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A881-BD8C-45E9-B120-D1C60302DB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EE12-9EC0-417C-A789-1488636A137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6338-EB61-4C22-A095-3F924E6943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F17A-66BC-4BE6-B2FA-51682EA536C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220C-3017-45CD-BF35-C5CAE1D3A8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02A0-33A5-4E05-9E5E-E3A1B43A358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002D-05EE-4F67-B048-ED20B119281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6DB7-8DFF-4031-80FB-4D49C5FE8D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23BB6-A63F-47CA-BADA-54AD2E972D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A0ABBB7-7557-4931-9C75-EA913889B36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F49B111-B657-4F48-A119-C9DD0B47D32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1D08FEBD-DCE0-4D09-B8F1-1200B9C954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71CB6A0-E6C7-4D82-8E2E-9F3A9321EF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96AC8D3-AB67-4D67-BDB0-732CC5CE8E2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19E0F0C-99C9-4C28-857B-5C3E0A9EB1C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5B34546-8F41-431D-A4E9-2707654568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83E48B7-E0AE-4490-B4FA-AF428F2ABD5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493BF490-6FE0-4175-8E18-17E999DAC2D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97FCA631-920E-4230-B5B9-FCF3C10068C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535F89-CE7A-4BBA-BACA-A24F9DC0F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89D643F-F912-41C1-9FA9-16463E5DE77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BAD8C1D-0096-4D6D-943E-173BB29398B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B51E4BE-BB4A-416A-80A0-CF35A9EB63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CE3F1BD-B5BF-4B79-AF00-6D1C1056E58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1F86ABE3-822F-4662-9B7B-F39F0D4FEF4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40FDBD0A-63C2-4B24-A04D-3D13ACBD16E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BE9860C-D141-479B-AA91-BA7CEFA72EA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AA84B67-3BCE-4787-BE8F-F6856D3CFDC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DE14130-18D6-43A0-B3AB-42C74E139C0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4F3A39C-55AE-477E-A4B6-54ACEDFE4A5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39A1D1C0-4CDF-45F4-90E5-17481D4C8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5F88CEF-FB79-407F-B660-1FAD7EF6773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2285A503-07FD-4FF5-ABC8-E5192461441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4DD6677-C7CC-45CE-88F4-4BD2B58197A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D618D67-8A00-46FD-8B22-04A0A08C0B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D525357-5406-4C4A-99BF-E2578116882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231F1A4-946F-4719-A0C9-F150A7FC8FB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03B7797-31EA-4A4E-9F1A-D48C5B4B159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D1C28A8-CA8F-4390-BFCE-FD89AEFF89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375C94E-4A20-4843-8A8E-24EC5765D4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30B6344-47F3-49A0-8066-AA3B7921F45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218989A-F038-46C6-8EE6-6F73DEED05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386FAF-DE71-4782-B2F8-018ACBC7804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C6C0065-ECB0-4247-A6CD-BADF12DCF93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10B53681-7D05-4D13-83A0-ED79FD27AF6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AC92A05-229D-48D6-A1A5-2ECCA9DAEC6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4BE1CB3-3DC6-4B08-9952-A00EBB91B5A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DBAC959-E84C-4615-88C0-F509D283F4D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E9E179D-2E89-429C-A528-C70E5A31DE9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64F53AE-660D-4251-8969-7A371DFB8BD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EC70DE2-8042-49A4-BECF-0F2CB1D0449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65C59777-5F8D-4271-820C-784573CEEDB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905AAA8-703B-43CC-886C-CAE7DDE7F9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5BC0976-81FF-4377-983E-641ACBF92B9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8301BE4-93B2-425A-BBED-673D1965FE5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EB679C4-5CA8-4515-A805-1961FD8136A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E6598D0-DCA3-4E79-890C-B825629CA05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3F9AF2AE-D5F9-43DC-A29C-CACF827608E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14CD5712-BF5A-43C4-AA71-0C2C77CEE4A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0F7B710-8791-468F-8793-08E452BE1C2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4AA691B7-89EA-4165-B290-6C98464211F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71CAD25-262F-4167-A359-D77E8AB4993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ECE6C9F-2247-49FE-B7C5-85A57E04133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DBFD62BE-EC9E-46E4-9C5A-E25B927AB1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C13113B-05B4-44D6-B2D1-2BF6857EB7D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8FEDEDE4-9E9C-4591-B52C-8B4947F9A7B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10D9645-D889-4277-8A9E-7A4F6F9542C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B1FB163-5259-4C7E-90BD-4E5D4099B43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31953AA-82FC-4868-B8D9-31687D08700A}"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3DD3598-6415-4F7C-80EA-67281244C88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F60A073A-5FBD-44D0-8249-50D9F531545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C58894F-EC70-4F6A-8017-5FB76B35A44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A20056E-ECB2-435E-8D89-3A7D2F49F7F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C1551E0-EFB2-4E73-B96B-982BA21F07B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146BAAC-5744-45F6-9B54-B7AC802E5F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85BB957-0870-4D0F-862E-05885C39487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BA0D967-55F0-49B9-86F4-2E4973AA0D5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935565C4-A168-411A-AECE-28D75483F9E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332CDBDE-2251-45A0-93B7-1E016387E5F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D2EC643-46C8-4E86-B35F-6BEE2A8420F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51C40F3-581D-4326-8F13-D16C9BE1B1D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B56BECDA-47A9-4DB3-B7F4-94A6A41E18E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B0D2215-9667-42D6-BBE8-04F558F7608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250747C8-C5FD-4F0B-998E-23471F2B900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1E2FC802-1291-4827-818E-F2ABE867277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2E2EAB8-07C2-465F-B612-E6A866B14C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5EB948E1-C8E6-4272-80FD-B6BC978BABB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1C05392-24B9-4E32-A31B-491F336B8AD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5BB94D3-36B3-464C-A678-CD64573B307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666A062-BB31-47D0-A0B8-943CCA20ADF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6CF8834-E24C-4C9A-9CE3-7DE3308384D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63C0AE76-1377-4EAC-B873-AB8523CBA7F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BEB9117-6CD4-47C1-AA64-E9A11AAC450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8DBEC56-89A8-4FE6-8895-DF5C6B14251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9F643FA-BF81-415F-861B-2F93C148375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EB0A53E-E266-46A0-B1DE-DADE6A5CB3C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9840086C-BB5B-4E2B-8EF7-540812D48B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649BB3C-11F5-408F-B389-C3D65DBF071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3ABBFCB-342A-47CD-BFFF-9C27F8E2094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F3AB51C-59C2-4700-96D1-884CBF3BB2B5}"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AC7E575-D8BD-4724-A58B-1691C9A7640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86D4340F-EDE1-4A82-9350-2D34E93FAD3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9A81CA75-EDD1-4CA8-99E2-D215915A278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9B72A5C-1E5A-4947-BB96-2198674C749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8F68A9B6-8A75-4769-93CD-57346E6EAB5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BEBC51CC-C0A1-44E3-9638-E4A1C4A3D78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FAA613E-3328-43C8-BD0A-3F9AE808BA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CE3B21B-DFAA-492E-832B-55291113D4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63BDA57-8658-4CA4-9EA5-E0700DFEE76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0AC2A27-3298-45BF-B5F3-79256321D1E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B191EB9-B36C-4DCD-8CAC-72835E31CCA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43A6BC7-D4E5-49AB-9193-0496915975E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21315C2A-BC1B-47F6-8419-BE6C7D108D1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28C2A7B0-816A-4267-8F48-2F9FF3F5BA7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95CB77B-8366-48E3-9752-41F1B72F24A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D9AE6F0-4BDE-48B9-AB32-54B26CDD913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887FD7AF-B223-4482-AD7F-720ED5D5268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39C3B14-9190-410F-98F0-331F723154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BF194FA-4846-4EA9-93B3-9DE928CF169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9D1C9B3-AB04-41B0-9BF2-DB7D1D597F5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41C782CC-76A4-4139-A821-38F31F9B40F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9AB4C96-66BB-4389-B7E8-D2A45A6FF92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14A546A-D140-4108-A923-3FA8CB9F63C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F0137A5-3283-4210-9E48-5FC8A6EB1A9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A4C1AA8-32E9-430D-BE39-53334FD7AFF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4D5BE21-4473-4339-8525-BA5237CAF80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42A6FFF-4AF7-40D5-B4D0-C93435A383B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3C013B4C-9F6B-4B25-8992-60BC07673EF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B7D9B5D-71CD-4AD1-859E-B44D2DEECB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27A413C-1B1B-420C-8006-593739F465FF}"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A35C02F-D030-4631-86B2-3C111D455AA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7654F21-E619-449B-9704-CFE4D831C55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0FB8D7C-BDD5-4915-9E81-C90FCE03772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1EB103F9-6519-47A8-A5C3-9649F37BD95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38C0720-E315-4300-AD8D-1D77503CD86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F10306E-DC98-486D-814A-BB913E8683E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C872840B-27BB-4936-815E-36DC8B5C9AA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59C39E1-021A-4D35-8F24-E6A7CE2C889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5658483-6C80-4F67-A938-30F39AA6B2C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E9D70784-0B08-4E21-BE74-744C46DF93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37A64470-7905-42A9-885D-922822E8223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555F27B-151D-40B3-99A1-5CC5860B863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EAD884D-226A-46C3-A770-77EA9B63140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7DCC2EC-183F-4D89-8857-52716C7B2F7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EA86B03-F76D-4A1A-AF3C-2A2F9AD8936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C219818-6B7C-4AD8-B271-0E98F71E801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98070E40-AFF5-418C-ACF4-AF332255585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20C1352A-87CF-44B3-B243-DE1896C6A96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3D73FFE-392C-4AF3-8CE6-4004F306BD3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20448EE-1BB6-4638-871F-3C7E77EB15B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AD2F44A-FF5E-409C-AF10-2FC1C35A2B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402D64-BBC6-47B1-83B2-462557385C3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0939387-3D04-4C1E-9E64-6D91585F7E9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9AE3DA4-4EA7-4855-B688-5DC5A4EE236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9E499AED-3966-4AE7-862B-0834C8C3308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8420FC6-3C2C-4805-BE8C-A8342EDC944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114EFA4-733F-45B6-B6ED-E77E459285A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950B5BF-2479-499C-AED1-CEC5FF0FDE3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ECEBCC1-40E0-4E1A-A11A-F01E06B78A6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B31C19C4-66E0-4373-BFB2-98DACDB916D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55FDB0C5-B437-4219-8CC6-6FA4BD81581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1BB8FC0-A104-457C-9955-41C0763A55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65BAD46-E07B-4EF2-A0D0-769C354CB24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427D148-E36E-4E7F-AA7F-A13C342D618A}"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CD05D62-888F-44D2-9E59-AF8E4ABF4F4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06FF5FC-0C69-434E-B2A9-1AF9C5CFE45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68130D16-CB10-4D5B-A6AB-14DF0F986D8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4B62CBA4-F32F-441D-91D7-A086B52F790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8023C57-4A63-4ACC-92DE-7BE55635F28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5A24119-5CDD-4869-92C2-B227F110439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7A62A2C-0C9B-4A9C-9608-5F66F54D59B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65A1799-93E2-4B97-9F5F-61320AE8386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ABC8AE7-7F6A-4A75-B85A-30D985AE40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ADF3F17-C9C9-4FB7-B217-AF765A7B337B}"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C2179AD5-0612-4D4D-9BCB-2FE56527CFB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21D2670-9447-4880-B9BF-E8D15AF631B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6D4354D-2D7E-480B-984F-4F874643B31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6DB9E68-4BF9-41D5-8242-31473E96AC9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5737799-B874-4559-979D-3752B21EAADF}"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992860CD-77F1-4351-87D1-CB70BF11964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6E11E19E-E2CA-4092-9FD1-91BDC63F942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A234139-D867-448B-9192-7AB736325D0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391C0B5-5DBE-4530-8805-1EC13E9906DB}"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E8916EA-05C6-47E7-86B0-853D22071B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F1A466B-A69D-4FDF-9E9A-BEE968BB5D6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880C216-E509-4AC9-A8A9-C08F74A18040}"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0EDDC69F-9C4F-4120-A05E-791D16F4E51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4C474182-FB8F-465D-A432-20D68BD4579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F4B2529-5CDA-4451-87FD-4ACFBC7148A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1CC2CC1-40B7-4EBC-9EA4-E0ACE626E74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803A0A8-E132-4C61-87F7-C7A20C33D84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8A5C326-4EBF-48AE-9FFD-407F7FECBBD1}"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285FEDC8-09A0-458B-B2C3-5726D86B8A5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1F46636E-D044-48BF-BCC3-E53E4C0604CC}"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17BBB81-9757-4B88-A9F4-1BF7D6E7D0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03D635D3-3988-41FE-B9E9-36D61D65DF2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4778602A-1132-4EF7-A5BC-2D16AA953D1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CBACACF5-EF95-4CB4-9605-59D5B6F5071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7247BE4-76AD-4E67-ACD2-3BFA66B1031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DE0FE8BF-684D-452D-B120-5C1DC1C15B39}"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72C99F7D-1CBA-4E2A-920F-024148C31A6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94C87FDC-0878-4E0B-87A0-04E787ABB81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17DF16ED-2894-4B71-9984-9ABCC75411F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021A1FA-4F04-4362-8EEC-C74D7539458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E8521D0A-9B48-46D5-9354-D8A81B710DD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B6A770ED-2A83-4761-8089-370489455D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849EFB2-0611-41F7-96CA-337AD09FA9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71150494-3E25-4739-ACED-7BC9BAAAF66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97ABAF38-7D81-4DA7-A0F5-AD524B504EB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0603594-7DAB-4E10-8F02-7F6CBA53771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1D183EE7-EE9A-4CEA-A56A-B8AF3C0D466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1A3DEFC5-6999-4CD9-B49A-5B0176E865A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B9772691-68BA-4304-9E4D-F82B66C33A7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26999B67-71F2-40EF-92A2-BE55109C0B6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961F6044-8E39-4240-9D63-9030C4DF3541}"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E7E87DDF-5413-4409-97D7-FF61693C92E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5980394-B3A4-4158-8DD9-6D4524F57B22}"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B399668-E576-4369-AD02-8ABFD520D8C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B46693C-9842-4C6F-9F8F-7B41BC44AEF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C7C725AF-48CD-4067-9FD9-1B7A7752AF78}"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46B6D708-4AA1-4DDF-A0AA-5E570858CE2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07F18AE5-1999-4695-8DAF-52B687BF3378}"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18FCED6-389D-42BA-9EDD-2CED1C2086A2}"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4D06620-9B98-4484-9435-C9A8CD541DB7}"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F31CE468-59D2-48F3-B2EB-D115C93ABBD4}"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91292F86-7036-41F5-ADD4-BD24042AAC3C}"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F9C3D91E-A44E-4845-8038-659384B0F6ED}"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3D1CA97A-3B81-4B71-996E-709843C1BAD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70D5724-C049-4437-AAED-E712C936EC3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D4D9CE30-C26B-41EC-B8D0-92C8098B86F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41770A4-0F67-43F2-BACB-7D24B813C221}"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8B10BB87-F760-4EF9-8607-F143D55BA661}"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602768E-313E-4B64-9FD8-6BF22C4EB71B}"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C9883CD3-45CE-4DC4-A65D-28AB9C522D5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E23A07F4-DF68-47ED-B925-04E2696BA48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DCE8B4B8-06E2-47CA-B7E6-AEE9D7BEC94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C516A3F-38CA-4C70-92A1-F202251DDFFC}"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79F5C14-298B-495C-851F-1A63F098C4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186BC782-DFD2-4AE7-8155-8E23F0E793D4}"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AC005B9D-1E29-4498-B496-DAD523B6E45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ED08F3D2-CDD2-4BC5-8FF0-80CD555E4CD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D281E17B-1DE2-437D-9A87-FA5B2A99E89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38A684C2-AB0E-4617-A567-C37180D1C9A9}"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12B9E8AB-5BB2-4E1B-84F8-7304F9C5B90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B98DA28A-546E-470E-AF7B-D02B3A0CF766}"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4DD17E6D-E22E-4293-BF80-DA00593F31E6}"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6D11C503-87D8-4D36-AF51-01EE69FDE0A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53C629B8-EB21-48F3-A9EB-275DA2B3C1CD}"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9772E6BA-CEFF-4F00-B735-FD8A6B22AD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63A78DC-55F2-4038-8A73-366596DCE77F}"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EB34FF2F-0D84-48D8-BB66-605BFFC0DD8D}"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28D6F39-E776-4D60-9BA0-D2FC4447ABDE}"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EE031A1B-4AF2-4FA6-AA14-6789F6F6660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083E1DB4-CE1C-4844-BAE1-B6FF53FA8D21}"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DD7B3F6F-1AF8-4618-A0AA-6D73F22460E0}"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0B27297D-8843-4BF8-B7A6-575CB257CBC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E44094B1-44B8-491B-BE63-B4AE2B8FA29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1C1ED78A-4C91-4EAE-AF58-CB6E4676E31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90775992-0FBE-4923-856D-F557C3D5496F}"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444C917-D8B1-4680-BFE4-491BA38A58B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F9E03F66-FD9C-4868-AC7A-9720AFB327B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DFCF4924-F488-4762-8C76-E577903A760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31077ADA-E3EB-4D89-A137-63EBADC420E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2976C10-47F3-4FA7-A1FC-2BB3DB7ECE67}"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1C3EA3A6-D086-405D-B468-F903397C42F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983A53F8-A4C3-4456-86B3-055B92E516B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AEF144B9-73C5-4F3B-82B1-A3ECC5AEBFD0}"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E7C1E6E3-8F27-48FD-80C6-2E73D004BD1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ABD91A8E-A9A4-418D-A514-53CF202F03DF}"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60A5809-DD55-4D17-BF36-9A3FB2AC2F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F29063B1-352C-4CE1-9282-D0611916BAE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E1EDFAD-780F-4DBC-9BBA-FD8B2F194E82}"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D2F34BD5-37A2-4435-BAF8-E9EC4B7A09D0}"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488F53A0-1ED8-4FF6-8AF8-71CE3B0569F3}"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F504D6C3-9EE3-4B4E-A699-7A09063782B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F9B19212-5972-42DF-804D-88099BB9E7A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4DEC4919-8097-4852-9E91-1EB3E755F762}"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346200D0-0D84-47D4-9EC1-DCFFEDF69E05}"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CD71A0B1-5FE8-4BD2-89B9-50EB15B4C67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CADB1A7F-0C0E-477B-983D-8DE349B6785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4FEEDC1E-C001-434C-B30C-5F68E9C40DD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17294982-F8C2-4F12-BFD5-74A2E0D3804D}"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D57D7A1A-23AB-4C9D-A052-84BD27E1F07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DF77668-3523-4BC3-8685-AE40DC2829F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460DB573-5EBC-4ED1-8023-8278723E089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FBB7B273-9F51-496C-A534-75526432878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0A0AAAC2-7578-4487-ABBF-65EE83E12F2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E153041-7899-4152-9DF9-097F7A28D169}"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9E9E8A09-8F45-4C8C-8E24-9C29DD821D2F}"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F74FB4F-7BDA-4DC3-8A0E-9106149A48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5C2296C-F810-4404-A214-E3E706C36F8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14A6EBB4-BBD7-4745-835D-A0D9F973847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72C01240-BCE4-4CBF-9A4C-1952ACFD313B}"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D070E7B0-C152-4C3D-9085-24874B3102BB}"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F21283C-F717-4B28-A6DB-4DDB883B7D22}"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576A2282-2345-4E94-A31D-D027EB593C2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7A97073-761D-4EF7-9C95-45E4BCB8E06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9BA1B068-862F-4217-96BB-66AA8277BA6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3EF53779-7FBF-494E-8C9C-6697479ED8F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BE79AEF9-B4F5-41EE-AE0D-43ECDD552AA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7F066091-AFCF-40B7-93EF-C04B5BB5FB9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B7C8E0BA-DF2E-4297-8025-6CA79510B6A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3D70968E-4586-4780-AECE-B0EAE737474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15CB110A-A7FD-4525-A977-45F0999FAF9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423777E5-B1C0-474C-848F-961535AE4077}"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60B0E08B-CFC2-48FF-80AA-28801D4529F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621E537A-36FA-4459-9156-AD28D9EDB9EE}"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C7C42CDD-061C-4126-9C42-0C45FB4B450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49743D2D-A076-4027-89B3-D3F99C18A7D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176DDCF9-4367-4C2F-AB06-5D903FCD726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133D4D97-74B6-47CD-A0B3-8C29BACC051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F245941D-1ADB-46C4-98EC-410530F5126D}"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7336C9B-6F9D-470C-ACBE-D984EA60573A}"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9A420430-FC52-408B-A03C-20F09B8307FB}"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EB490504-FB73-4502-B721-9BE9BAE27C2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579FCC1A-B296-4C68-A47E-BCAA5CD73A0F}"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E9C1117B-F092-4540-B778-0D31487975A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1FA22302-8F61-4705-90C6-43CEE04D1737}"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2FCA5361-1481-484D-9C46-9DC58F37015A}"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D93C2A36-D501-4176-8C79-6F1F5DAE600F}"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BB2049B-76A3-4F15-B2F3-AC9D8F30FD6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0813F5A2-AE90-45C2-BBE7-C4598A58F24A}"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3E754D42-1579-44B1-9054-A6523DA3AEAA}"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3367A5F1-1DD1-46C9-81F2-39E71202517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C1B12B35-5418-435E-876A-37864E3705CF}"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3E9D82A6-FB40-4499-9C09-AD77956B76D2}"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25AAF965-87ED-4EA1-8F80-DE562BC40F4B}"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2A45C0D8-4AED-4049-A8AE-36C8EA407A8B}"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1C765E68-EA25-4CCE-83E7-A6B5975BAA58}"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697F279B-7AC6-46F0-9E30-D8678987B438}"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BCFAC3C8-2D2F-4DCD-AD2B-249CAB70325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1D888A1-8554-4052-AE04-05D3F10A52CB}"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FBB4D245-BCD2-49AB-9FD8-C7080F005192}"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175F56BD-F4AC-48A7-AF34-62CEE720F9B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45DF3000-C8F2-4AAD-BDD9-ED50BB14C811}"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E6B17A57-953A-4C4C-B1CD-5996469AF31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4FB311-E2C4-47B4-9D5A-C83D520987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184F4A2A-7C0F-4D4A-A834-A8A8B236586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FBCF366-9DEC-4890-8F83-548C0483EB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E63A9C4-70C6-4556-A196-036F2C86249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BAC6FD45-2C51-4C89-8AA7-421E391F748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4FD0C00-96BB-434E-86E0-7D4288E5E3B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36CB173-88F2-4482-909A-86740B5BDDA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A2BEFAD9-AB8A-4A16-B946-964DA92413B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748C5C5-6E0D-45D9-B95B-366DDB7A639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E8907B0-98DE-4BFA-BA9C-37FD610DA4C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E4C42A8-1DA9-4A72-A8FB-C26E449EE56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AC7027F-5F75-4C4B-AA1E-4EE52C06B0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CADEE83C-F7A4-4CF0-A931-D23480461C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3A3E197A-0C75-4F11-AAAB-5B81003FD5F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A20E005-EED0-468B-BF96-B14855C9118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612B64D-3E16-4801-B7C6-1C673AE06E5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E9118D4-F2D8-4561-8D96-FF178FA07A4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DA8A771-5A8E-48B8-8400-C51B5A87A5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CAABD13-2505-4070-8DA6-0904EC0440F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3FC32A0-B0C7-4439-9529-A613BD876C4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CA34CA5-0762-45C8-B5BE-3AC46E2618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4A7A760-FE36-483F-A8D2-011D9FA24D1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232C484-4BC3-4491-BF00-BBD0493787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545844C-EF82-4985-B914-E992FAA1187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5F23E83-5157-4305-827C-D1DFAD0DB0B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F2E4C4A4-42FD-4285-87E1-41A8C091B31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693F74B3-32F3-4E43-A669-DAA8B347F22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947BE34-92EA-47F7-A454-2560A6A209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8EB2C7-867B-404D-B638-AF44BA417A2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A8A2F94-D6CF-488F-A7B6-28494079B2F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A9BCCB7-9DB2-48ED-9FA5-43522F925F5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098D527-B8DE-4BB2-8272-B1755A4711C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7FE6E0D8-25ED-4048-A910-1C25BF51D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4D61C7B-863D-49DE-B46C-F3A5520865F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F2676C19-D878-4FEE-8154-1DEA6D619CC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D3BE34F-9A5E-4042-8C47-EB8DD8DA5D7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CB0F95D-5B27-4AE9-8F61-E868D676E48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E511776-3741-4E8F-9D5C-9051C6AEDAD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24069E4-D821-4D7E-9182-192EEB3026E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81B681B-A77D-4332-A424-4BEF1ECBACD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480E40B4-E6C0-494D-BCB1-61C9911D012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8369CFB-4D31-4CF4-828F-19AB63EABA4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244F600-0CFC-4AA9-8E64-F83A75AE51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F84858E-E0B8-450C-B79B-85A30769F4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67CC-7726-434A-8D04-01E9A624FB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A445-9006-4C84-8376-E1EAAFC271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0BD1-BDD3-4CBF-83EE-EC5EB8596C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6E1F-2B56-4790-9CFD-21464E6CAE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2C3B-E662-4CFE-B92C-B48E5F7322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8480-753C-4BE9-A9A0-DA4BBAD0A5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1363-86AD-4F5A-AAC0-B0493311C2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2E57-84D4-4AE2-91D1-88344BFA14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75DF-B66A-43BB-9C8F-B2BD22891AC6}"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4FF5-D62A-4EFD-BA36-61D5BEBE21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10E3-6185-445C-AB07-8D04433221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AD09-659E-44D5-A96B-CD67ED4A18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57D9-E8BF-490C-961C-333C617351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3805-5D4F-4D32-844D-02F5DFD008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207F1-E6B9-43D1-B520-E456D30616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567E-A12C-447D-81E4-ACA82CA42B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CBAE-71F2-4E91-AE80-C79FDC1DDB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8B9E-2040-4542-87D8-74C89CB400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7874-D3C3-471F-BD5A-DCCE945125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8617-675A-4ACA-B0D2-E453206E20B0}"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FFFC-B8A5-409D-8691-DFA988F7F7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5EF5-BBB1-4BEA-9B52-5A5CEC862F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F8F2-3D29-45B5-9D94-91349A7949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345F0-DE66-4CEB-A3BA-169137C2FC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25FE-4084-4376-BD03-78D3DEE8C5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0763-4F03-49AC-97F4-E95C2DF81F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BC3F-3176-4F9E-AD5C-38FBFD4789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5EAC-F10F-4367-A283-282FE75C3E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DFDD-205D-4BC1-B69D-25E514B87D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2442C-93FA-49A4-8B43-E244149669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A8F3-6CC7-4BE6-953C-40DCAF432C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CBA2-C93B-44CD-93B2-893E792253C0}"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75C9-02E4-448A-BE51-1438D7454A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65F0-A52C-4781-8581-952E19C747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E199-D603-4289-B20F-841EF51A2D3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47B0-6049-40F8-BEDD-B69432BEB6E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7714-92BA-457C-95FF-AA137C95C70B}"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52A3-9EFF-4362-8A25-56ED2289ADB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