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0BE17-A9DF-4C9A-BF47-3531D12672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A02B6-7E9D-4B6E-A13A-E9A245A845A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E347-C962-4828-AD57-457977FD749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48257-9BE4-40E6-945D-F0F039DAB52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BD239-9408-4633-A406-D63D7F963E5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33ADB-C276-4A9E-BDE1-39396B1906E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57611-E5AE-42FA-8E1F-615F4C1E7DB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A2AA8-5B08-4B79-8525-7A2E58189B0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35EA8-33D5-4BBE-9035-D270B7C6F20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42361-E92D-4F17-9517-8C4E8D6CA95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FC8A-9E90-4AAE-808C-0BC3D35ABBE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532BA-AEF0-41A5-92B2-B20CA361B7F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AC66-AF1B-400B-BD65-2B66944CE94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5C092-C2AE-4A45-B0B0-BE755D2213D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F3D0C-70F1-4CFA-AB3A-34502BE2771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7A27-1D5E-4C58-9171-DB742EFB58B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C1E8C-B510-4437-A7FD-EAF0898B469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C2E38-325B-411E-BD70-062C530DE30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C167-4458-4D3A-B314-4A4577189BE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1664-6F51-4747-A402-24F5B3A664F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15AB1-9B9F-46AC-BA95-1B97BC8DF40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66783-013D-41D4-8136-BA1D160D507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BA2FC-57BC-40BB-86CE-0E7949EDEA7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B4E4B-5B88-4F81-A610-1246B238ADA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653B5-502F-4F8D-982E-FC8ABEE81EB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2A33B-2119-487A-B83F-F1D82A720E7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AFFAA-5DCC-4974-8855-B125A3F9FE9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E851-1668-4525-8F8B-807B770D02A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29BA9-163D-43CB-8412-56278B24AF2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3D79-B7D0-47BF-905E-9FE2EF213AB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671A-E555-4BF5-A227-826DA89A27B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77108-8598-4A50-AA86-0FE47E1456E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72324-4602-447D-8EBC-0EC3AD1A653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9CA68-B4D9-4F82-A671-5E85AFAC617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EBC0B-C1CE-429B-8317-14C1EDD7AB5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82180-B5FB-4152-B6F8-857514B65BD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E2A318-CEE0-431D-BA42-E17D947346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6C56DB2B-9A8C-47F8-B664-40563FE562C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9B705292-0CE5-4ABD-8720-3B0DAF587C6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5B0F40CF-1F02-431D-862A-E115399F455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C95135B6-3519-41D6-96CA-420EC0A0DA8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E54D554-543A-4663-BC7B-4D224DB34BF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B9FADC4-4060-4CD1-9399-838C475EB84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3A24AFB-714B-4CD5-A4AB-A4DB6443D67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B93FE30E-D140-4089-9F1B-A91025B2008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7311EABE-2EA5-4DC9-A6B7-EA7A0D91CFA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A274BD94-6A15-4C46-83C1-E0B9FA44BD2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0F04115-EA39-40DE-BDED-0A093DC722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F247443C-E732-4618-8488-FE30235543F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5C9F2386-1AAE-4AF8-AB5F-E0155B8D665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83477709-9706-4CFD-BCE7-B65BF1FB102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25F026CD-3FBD-4D44-8A43-B706B3B8B72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FA0D5E99-7C71-47E7-A3B5-740AC2315FD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8E233984-EF02-404E-A2DF-5602C33207C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C872984-D490-4EF6-8CAF-6B576D61307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2528966-3E6D-4354-99AC-5AA89D70C27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E1B1375-AE61-4335-823E-A8FC3AAA3B2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CBD005AC-A76D-4F1E-914E-B4106565C0D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E49DA448-A3D5-4253-8E9B-C187208B01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77BDF484-8834-477A-9FC6-A1E34FCD3A7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8B84C4CE-E144-495A-840F-4B18A4EC11D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EA68526-98C0-4133-8D09-39CE3C7749E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04AF4C27-D979-4DDF-8B38-C0105308417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91399E38-C3A8-481B-9391-9FF4A38A8DF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EAAE0FED-8722-4750-8AE4-6F8A27562A7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348A1BA2-168E-4DCB-BC59-0E8D404C3A8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A3322AFF-D19B-48EB-87AD-2A12721DDC6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7E4D5D3B-CA3D-4779-971D-C9C616540B3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ED07641-AFBB-4777-B709-8DDBA2C3C08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2031AEAB-F868-471B-93C1-E00AFE023E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B41C93-EBDB-4BEE-8DDE-DBE1FF9CD6C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1CD3CB3-17D0-4C5A-AB2E-601822EA90E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6D0C89C6-B114-4FA4-A05B-BABBEEE5A8F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517DCA3F-0427-4B59-8CAF-64DC3967943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5FFD132-4391-47B1-8DA0-867C918DF04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9189E1FB-96FD-4830-A700-0B22B7612EE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DB034B9F-16E3-428E-A3C3-C8F0878B025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677CEE1F-89D4-4DE7-8B54-797726CE7A7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D788D03E-41E1-4F34-84BF-26247AB05AF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B22ADEC9-85ED-4AE9-A505-D44DB034DA2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D8BAA6E-6EFF-42E0-8C16-06E5740EDB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25BEE36F-7B16-4D78-A28A-CF9BCD948A5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1C938AF8-2395-4787-BC5C-F8CE63A1FB0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E15FF9B-3A99-4914-813B-5B013786C2B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A8441776-7342-467D-B682-55C7228AD1F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003A1101-5872-4878-9E5C-8F571DB239D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D76FE908-813F-4FEE-B600-C2492ECA37C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137F1AF-E75B-4D60-8446-D4B6D74294F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B93742E9-C03C-4C69-8AAE-3364E9B0F2F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F8EF7C39-7180-4443-B0B5-85B34136D81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CEB1E6C3-DB93-4B6B-BBA2-455A1CAB3F0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9DE663AC-B588-4533-A976-198376542D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D4EF26BF-48AA-45A7-849D-22909163B4F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8CB04BB7-D431-4066-B3D4-A33752491BB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1047A829-7F2C-4DFA-9907-EEF54B7E0AA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B63CFF3-E6C9-4018-9B95-7BF607356BE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477B476-1FB3-4567-AD21-C5A72B3584E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144F74DB-B74E-40CD-A55E-630D530CFA4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7342A4AA-0156-49B2-8A50-388CC81679C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485864C5-CE29-43A2-8770-ACD627DBE47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0BC0F1E-76CC-43F8-89FF-B89ED714789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1A3D864E-070A-4E13-9B83-F7341EFB96A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734E90D4-60AE-4839-8278-5F96E8B1FC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7B9B0B75-D04F-40A5-847C-610841F6F11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2636E379-BBD0-45ED-BE3B-3967FC2D6AD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053D09A8-FE6B-4F42-BBD1-49469D47CAF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9C28C929-8A23-4A52-B0D4-26F7F0CB6C9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983E68A4-9192-4055-8EC9-17F6A0AFF72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F59DB514-0117-4EC4-8A42-A3E59F429A3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5648098-94E1-4289-AB0E-F2D00749672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5E8F065E-1215-4C0A-888F-6E5C0FA5B81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E42C9532-8D2B-41EB-B7F8-E0FE7C2DCEA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B19F5166-9AF5-40EA-B53B-BFC9E8F9AFC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C1BA653E-B870-4437-BA62-7A51B69D6D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099E3E6B-FA3F-455F-8632-9811558E96A1}"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24586145-B5D3-4BC5-8D4A-98AF5F95B2B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748EDAB2-3B3B-4B9C-B3F5-5575F158E61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F64D2AD8-3F00-496D-AB94-251B94F6ACA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1DFE7D9C-D57E-4CA8-9642-41438A44CB9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644A2CA5-75DF-4303-B027-49E4E03C1B8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5945FB07-1094-47A2-9931-D84EC7E2E17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8A67DDE0-4129-4A52-84B2-98044406ED4D}"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B3D2F386-CF8A-4159-B3EF-7A60F8370BD5}"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94F68AD8-DF33-4F5B-8E7C-054E5E3C5A2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CEB0FD2E-8AB4-4663-959E-8141FEA9CF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07FA0BD8-5320-406B-AA9B-0E185103173B}"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A5D6F89A-B3B3-460C-928D-60290C884C7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D8274E9-EDEC-4D67-B1D1-04FEEA4C07D2}"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9E77B29-E985-45BA-93BE-6A7EF6693A1D}"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55452B44-1194-4EA7-B6AD-24FAEFEA48C7}"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77708803-743F-49B2-8A74-B92FC02D497B}"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34C93171-420D-4BCB-A296-E2440E99B9A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B2EB4A4D-E8C6-46B5-A25A-95DE763F4CB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1F22DF73-499B-4947-A29D-EC12A15EC31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FDC13AF-08BF-4F30-96E9-538DBEF5C7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A4E2367D-64B7-42F6-8BA1-3D0CAEE253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41F9840-70C8-4223-AD87-DF5CEBC0EA82}"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9DD59436-7421-4BFE-8857-02912DFF47D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3AE4E98-7CE5-4482-8F3C-30F27C60A6E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0BC2F459-AEF7-4667-AE84-217AB939C752}"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8E215318-12D9-4A85-8267-9225AFE948D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2ED10B76-3E2D-4122-BBCB-B9061070772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23F9C22-14EA-471C-92D7-8FD1946F6A94}"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9D291433-AD69-420E-9112-2AAE67DC19B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54705706-89D7-410F-96A0-FD94B9B7D90E}"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E47A40C6-2B65-4343-8C56-B53834B16B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907CDEDD-CED9-496E-9BB8-0F559A50649F}"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CD0BD754-5B3F-4949-953E-50A74755014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B1AB560A-1650-4161-A3B4-F660D42A7DC8}"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74331A45-9B68-460C-9AA8-CEDAE38CE115}"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D8270C7F-DFC0-4B2A-82E7-96EB1452C6D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9897E125-30F1-459A-A0A5-CBDB59D6742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FE5CE4D1-6472-4098-B6C2-89180685BA7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1FF11CAE-F3B6-4A1B-943A-F6D4BAB0653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107434B7-04DA-4F2F-AFB6-063894822A1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F984A313-4CC7-4624-B762-1271801B3A9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B3EE0C9-346A-4F8E-8A15-2E247B921B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5090537E-29FE-4BF5-A20B-C4DA62A5D9D9}"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5CEEE4A2-DCAE-45BF-9CED-4D36B38522E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A7FF663B-0296-4C07-9891-1214FDAE0F50}"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07FCB47F-7CE0-4466-9D74-4035FC4AED9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CD626A83-A998-47F4-8E31-F678382B903A}"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ECE39C25-1B1E-436D-8CBD-32E77536997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037F6F46-31DD-46DB-9DAB-8FBF12F0B069}"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618CA0F-27B9-4DED-99B2-E0BAD2370D7B}"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C17A505-6425-4D60-BE8D-0E60D099995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EB6CE20E-B72E-41A3-B9BF-BFC9060029B5}"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CF731471-5708-4203-A77B-272A83C42A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AAC285BC-2D53-4E6D-9CE6-001A1220F664}"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AAB73E25-A35F-4F76-BA2D-8B12791F37D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C53B8E0D-0B54-4912-81A7-991DC11F7C57}"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79F76E8A-336F-4BA9-9A88-5F81AE07CD2C}"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8B39A7F4-415E-4490-8D4B-8A89ADECB46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BBDDAF06-0FB4-48A2-9FEB-CF81AD2934DE}"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D3636EEC-1711-4353-9767-8B516E665611}"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27FE5278-8345-47CE-9173-2841561245F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23B7FDF-A7EF-4252-B1C0-65E85FBF9627}"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2A66CFE2-AA3C-4BBD-BA89-C21E6392646B}"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77EFBDC-97B8-43FF-88FD-F32ED53EA8A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4CE6F21-7A6F-4B6A-ABD2-EF916D6FF335}"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21C1526A-1410-45A4-B042-613F1A2D4882}"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33CCE83A-FB05-4652-A35B-C6E79BCCFF3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A227BD3B-EE4C-4500-AC61-F5608ACCED46}"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572C730-A18B-4C7D-B02F-587FC87D1D9A}"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2A2F1CCE-C62D-42C8-B003-383CAA6C25DB}"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07B8D0FE-C2D0-4171-9E75-541FFA4602B3}"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1BF77677-0377-4991-A8B3-E68BDC492E8C}"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D72D5142-A733-49E5-B6E9-6956C3F521E1}"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7335431D-96A7-4EB1-B9B5-7095984EE2CA}"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6BBF3156-F92E-4651-A32B-D29CB505B05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B6A8E604-0C21-490C-BAC4-4B193EB09054}"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C06A09A-14F9-4D88-879A-56E19EFDF974}"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9460BB1-6C6B-48F8-B397-E8905F57C11D}"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E97FE16E-14C6-4EB0-9EAF-CB4B11CA6992}"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D4095D3D-0773-488B-924D-C06D0E6327AF}"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0D7C4DAE-476F-4A61-BBE6-016BAAE8E3DD}"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83689154-0831-493C-B307-DA4E402C7E43}"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D931CFE2-B575-4DE2-BF01-2BCD6C1D1D6A}"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E6177527-7440-4417-A1E5-0C13FAF7FCA2}"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A7606EE7-15DD-44C8-8156-1D113D3F981F}"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2B51C3EC-1EF1-49A9-B8BF-DFE107F1B82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E476F5EA-9770-48E1-964B-DE1C18F11820}"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0FC00B23-E93D-40BA-996B-A036B1A1279A}"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B4E376E7-248B-4269-B984-3327B6C2B476}"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0E2CD8FA-C627-404A-B21E-7894ACB0F708}"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599F836-EBEF-44B6-B6BB-C0DA575E7F33}"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6281CEAD-6EDD-42AC-88F6-A751BD962E72}"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DB8BEDEF-EB81-493D-BC10-E11DFE48AD58}"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C512E59F-F21F-4BCA-B936-4C8500BD4D60}"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BA86EB8-4A6C-426E-BE92-9C46B3E591D2}"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BF65BAEB-34AD-4463-8CF5-CDF0929E4C61}"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392BDAD2-399B-42A1-BFEE-8F033E80283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44EC9253-DEF1-41C0-B890-8EF8E77E0525}"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F23EFEDE-EAA2-4B45-ADB7-82BBD43035A7}"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23393272-79E5-4233-AF99-CB9A12C1087E}"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2A544C22-45C2-4B93-8D7E-83CEF4B6601B}"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9E03E32A-F898-4438-8F2F-CE7CEA51FDF3}"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CA4EECFB-3905-4AED-94DE-2783207BC26E}"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CF8673E5-F4A3-46C4-BEB6-C5246700976B}"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3207460B-D2BD-4D3F-80B0-42F1F57FE001}"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79D680A9-759F-4450-8320-E8F956550D91}"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C98FE180-4445-4ECD-A3E2-C9A5086C9031}"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DC31A05F-6AF3-4D66-A13E-BABDAC11310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C378ABC9-092F-41E2-8DE9-41D60C66BC70}"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5320EFFF-90FA-4222-BA09-F49AA80A8D99}"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6E046FEE-1528-4D1D-8F8F-170062F67BF9}"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CDA65E19-60E6-43E6-97AF-C695C6C347E3}"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2E1B38E0-C785-4918-AFE2-1BC12F3A2E8A}"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7FB884D9-7CD9-4C76-8CEC-BCED30404E12}"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CABF1EB4-F93A-4ECD-B857-E8A98DDD04E9}"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52B73801-2685-4AF9-9AB8-A197FA59AD85}"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7ABE558B-00BB-4CD8-9C3A-3A72802DEFA2}"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37F8602B-91C6-4E95-A944-02818BEF5EC3}"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4DD23E84-9EA8-4DC0-9BC6-D0ABDB175E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05AA8457-AD1D-4512-BEBE-C2F79391751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6D0B6173-A75E-4EEA-8697-6A8864AE393C}"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6526F2E0-E9A0-48D0-88A4-015744B02C5E}"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EBE9CE2C-62F9-4134-A5A8-50530D2ED85D}"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BE90CC32-71B1-4033-AE9D-F54102945C81}"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3D4B3562-615E-4438-9A60-FFF47F575196}"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E2EADC0F-2D15-4109-84FF-02E5F83B0BEA}"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350C5B6D-2BC7-4C58-96B9-404AAAFD4132}"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BC533A7A-479F-4B48-B627-17E35607174A}"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65315C24-E8C1-4EA1-9F4A-13512404F952}"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F179E41E-4430-49EA-A776-88F167680DE3}"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2B704311-216C-48D4-A9AF-17EFE5A8CB8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D4EE7117-6CF0-4D77-B648-5681F854CFFC}"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9CC5367C-13CE-4682-80DB-6BAA1AF46FF2}"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91013C6E-2834-46C1-8127-3EA7DA217AC2}"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EC78165F-4478-4891-9689-0255EC27FDBE}"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9D56AAED-ECA5-4365-9473-E3385305111D}"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5B15435E-2FD0-4D45-959F-50DC9402D27C}"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2ED35ADC-9EFC-409D-97FE-5552B499CBFE}"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83489B73-F673-40E6-B19D-2FE26AA384BB}"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86E440B8-BFC2-4F20-9236-08843CCE09B8}"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92BE8BB7-CA6B-4CF8-ADCF-9E807237D13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2E954475-B4F1-44C7-A2C0-CAEE0EF15816}"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E0C7B6DD-CC0F-4786-9AEF-261EC2603AEC}"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BDFF4DD4-6C23-40E3-B705-37173E1F967E}"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EE048DA5-4A6A-45FB-9A79-08F29692BFBC}"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2E0DA557-E7D0-4CF1-A85B-2A8127D5F365}"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C973CCAA-5177-4760-94ED-3EC45EE0C7B9}"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C503DC2F-A297-4098-A86B-02F1C74A2A70}"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A612469E-C2D1-40B0-B46A-885271681229}"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30C4CE6D-D3EC-4CD4-B154-127C893F14C2}"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F625833-FF77-489A-8417-3AE63ABB203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1548442A-3F99-442D-8AA9-3C36909A1DDF}"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C1362B65-A62F-401C-9275-E810488C3090}"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165B2F8E-0DE1-4075-959C-2AE432A25366}"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8A6216E7-9764-41D5-A6D3-841DF82F20D9}"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32397661-7325-4D5D-9DBC-AA1D48CC6EBB}"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F183288D-83E6-4DB8-945C-78035C34DF20}"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76210F31-89F3-44A0-9A67-F58A19973DBC}"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1FD75B1D-06FD-4E52-88A3-B679ACD91CFD}"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8B59D860-BABA-4B30-A280-AC17773F85D4}"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11FDFBBF-DDAB-43C9-8A32-8D4F1FE379AE}"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5C0EC730-1B0B-4DFD-AE28-3DD40B44815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4719062A-7911-4174-8AA5-4C51CAE4496F}"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A1C0813A-F7DD-4E5A-9ABB-2EF850EF67D6}"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3EBECACD-6907-47CA-9491-51AFFE468B5B}"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EB9CC2C1-589E-46BE-AA62-097693CB6EC5}"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ACFC3D29-E85E-4A82-9AC5-0409CFC510E9}"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B280DCB5-5B36-4C85-8334-AC5B4906CC0B}"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12F82A4D-6A48-4614-A314-E2C032C4459A}"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9A48CCBB-83FA-4DC9-95F4-D6F1B2A76BF5}"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F6672B2E-5141-4834-B58D-F6CC6E71164B}"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2F6A3BCD-0766-4A35-8472-C6055DA399B0}"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60AE332C-9533-43AE-9250-BBE694EF241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E5798219-2488-42C2-ABE9-7A7DFA18AEF2}"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BD2F8940-4373-4563-B6B5-A4B077249A4A}"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EC169DE0-C3BC-4F8F-9BA2-1803598B0D78}"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C47709E6-D094-490D-812B-26182C29FD83}"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FD734184-182B-40EC-9172-BDE9B6036C78}"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41F5FB6F-A5EA-4953-BCAF-CED7ED581386}"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6DC79FAE-FFD5-4344-97F5-831BD46C0052}"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76B844C8-9C52-46DF-AF04-74FDFD7FD7AA}"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D84019E1-2690-42BF-9E4F-9C4D7DFA6E49}"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E2E64ADB-5F5E-4BB0-880C-2B6FA4E321D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34F6FEEC-AB15-4FFA-A93D-3A78324B392D}"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FE17FB14-2956-4273-96A3-F6E7E2FA0898}"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BFA7B2BB-C638-4B78-8A90-6404D895E11A}"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8B6405FF-74D7-4CF0-883E-32F9CB594B33}"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BA30004B-56C3-4388-8222-A68637EA2222}"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B6AF0219-9481-412F-A8F3-BA5EF6DD8634}"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279093EC-C413-4395-A0EA-96D5388435B9}"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5A307E33-5CFF-45AE-87B9-94E2322AD59D}"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FC64DF7E-F672-4E4D-8B4D-9B45347B1C53}"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BF5AC10A-4F65-4491-8804-2B1339B0451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62E103D1-E4DB-4DFB-B3E7-05265C5BDAE6}"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9F0C766A-0BED-4A34-BCC2-0E522161752C}"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82F9AD93-F7E0-4C11-9270-0A5A06D85D26}"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9D9D26A1-A699-485F-ACBC-90166D701E67}"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F37BDB18-6E7C-4709-A499-65A4C7494397}"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21580C5D-DBD1-4255-BC5A-BFEE6A7A8BCE}"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C63A47E6-78C5-4541-9289-11E121ED55D0}"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9C6448C5-1F8A-4F81-B4FE-FC86301AC7D3}"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1C45C5C8-6F9E-4504-B731-B2E39420E101}"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8EA451A9-5F09-4F61-98C1-0A8717EB0F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EEFE012A-8DDA-41B5-BA10-52C1143574E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FB1B140C-E3EE-4455-A077-E9C1DDE0C1FD}"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F651B515-C5E0-4611-B75F-80DA92168EE6}"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83F6C688-8034-409B-AA7B-BD64B007395A}"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1FF72097-192A-4F0E-A6F9-1DA679240DAF}"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1C27DD6B-A124-4D6A-9804-1A00C5EC3336}"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010D1BF5-9B4F-4DF9-85DE-B30362A12F2F}"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C0A69636-ED92-43F9-B8BB-8E9037955934}"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77C706C5-3AE1-48E3-BCCA-C888827D078C}"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F720347C-7969-4199-B807-D6EF9F05AEDF}"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1F92DE20-2103-4CFD-8A3D-17138296811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032DFC19-2688-496F-8F16-E1D24C77D8AB}"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47B74F8B-0B97-47E7-91B3-4942AB82148E}"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38BF79E8-281D-4CD1-83BC-0A1CB2E1740A}"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59698C68-FD7C-4D08-A3A4-CBE50CF1C289}"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6182424F-FB35-4D4A-8A21-E3709C6BC992}"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19FF7DBE-AB58-4D96-88B1-306FEC46E8D4}"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59100AB5-32FA-4C46-A37A-FF48B0630291}"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0717BBC1-559E-4095-B9CD-51151D86F63C}"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A488CDEC-7A0A-48A0-8B89-301E2734FFF2}"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F29D8435-7554-4986-A12C-0108ACB8814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1686A59C-8614-4AA6-A548-A6198E854C02}"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67ABAB1E-DE93-4A0B-B99D-3EB8EC9A4BB2}"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30DBDDAA-1860-4570-934A-C96047DE6B46}"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484A902C-E32A-4DAC-91F6-13449F845295}"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D36F092D-16DB-4EE1-80EA-49C3E479E222}"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29A6A706-1234-40FD-902B-B2625F06FA42}"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235FA7C3-0CAE-4048-B3D4-004E010426AD}"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04037890-6A12-4D55-A47B-096D82D4F177}"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F1E0C176-92DA-44E9-96D7-5DC1F66EF255}"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7B8CCE6C-0DC3-49AB-91B4-CE678A43553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A0E76F50-C25E-4986-B090-B56946E266A4}"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BBEDEB84-81BE-4023-9F35-4083698EE645}"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6BC00223-3F9E-4F47-AA1F-16CE171BEC05}"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A07B5DA5-8443-4FCF-AE3B-0BF32AEF5074}"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D6291CA6-1F42-4E10-B58D-EC2D712568A8}"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2B9BDE6B-52BB-467C-8694-AC293C3CD9E4}"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DA2AAEFF-D1C2-4F29-BC33-9EE76B1104F8}"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E6880CD4-49A8-4C8F-8514-BE51CB75A852}"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1DE77CDA-5127-452D-8374-06B92A2EA83A}"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0BF990FF-0C1D-4A03-9B77-50E2EA5EE42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77F8BF5C-7076-4B47-A87B-AA2581D71815}"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73D42321-A035-4949-822F-4D9429B5FB09}"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A728FE7F-6BF7-4D84-AC61-E9CFF3359784}"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8C6BADEF-3FB2-4C09-9991-3E9CA14B3CB9}"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623CFA28-E27C-4940-A506-D8D83D22C6A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26EC82-340A-4489-A464-3F804FCF5B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136FAE60-FA30-4E00-A9BE-A7EC24DE31E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A0DA117F-E61C-4FA9-9331-F0A21E8F417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6C6A42C2-1BAF-45AE-956B-88A7693C390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E06A471D-59D6-4276-AFDD-5174F60D0CA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9CE5FCA2-EF8A-4441-9335-2D6FEC34C87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A5ABB442-BACC-4400-ABDA-E7F6B607E88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F9105AB-1AB2-40E5-AA66-B8E7050A2CE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97FA886-D38B-471D-AF95-BAE6FB1AECF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ED362E6-DEF0-48B1-8EA0-117716ACB05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46E46E1A-04EF-4C45-9BC0-F437BD6665E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3B8E40E1-C6AA-4BDD-AFE4-87F840F958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77F831A5-3256-42A1-959A-C05DCC6D0C2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39FC752D-EC0F-461B-AFEC-852E7F7F3D3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E40E64C-7BB6-47A1-886F-B8AD46FD138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3FE38E5A-E00E-4BB2-A886-B380516BBF2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8110553-C4D8-4CFA-AB71-C3AFBA599FA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401567DC-C34F-4B71-AE3B-3753E9821A6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20FDF14A-5AEA-4B68-8E14-DF17488A2C6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8B6CB598-6AFD-4DED-8C90-3D1EAA98B44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D494A100-24B6-4528-97A6-13E0E225591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991FCE2-B720-4332-9325-5995B654E99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A2EF970-4A0D-42F7-B3C4-5BE8F98D37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78DA0B9-4B70-4B6D-B032-1F07247A109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D152F4BD-BA93-40F0-AF2A-E18F7293444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8CE35223-5BB9-4233-95FE-34F7A2ADE40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C3406C08-AA33-4940-90F3-5827C498DFC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5FDDB80-DB4D-44EE-9ABF-2E885818133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D7B500D-43CD-4556-8875-C717185B30F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4E96603A-A106-4EDB-9657-8DCAB802788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C5EB22CB-7DE2-45E9-B4AA-BB427406648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CABC2987-7FC5-44BE-9B50-A7C3220C3AC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CD5258E8-E07F-44D4-AC0E-91ACC9017F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C3BD14B-99D9-4483-9F8F-73F2EF98BF6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3AC190E0-286C-4283-AE96-A2FD824EED3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41AC85A-1F43-48D2-9D6F-F67E230AA95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45114EE4-1616-49CA-A59C-B90AE0926D4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EB01BAF-1825-4A93-A521-17ED103DABC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875CBC2-6E12-4E54-A008-D9B1754D59E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96B8A088-2DAC-4AF9-A567-3D9E6E0C11F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1CD58A51-A7B6-4C25-9FFC-E7BB2D45789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B5B36A6-A5D9-4E99-A273-F357DA0638A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25C4A224-B045-48A1-A198-A129254499B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5AB85EBB-D8E0-4817-806B-1366387BDD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568F-4135-4BED-965A-00E5BF4D80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E871-D498-4D7E-B2B6-B4D111109F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F5A6C-97C9-42B3-A7FA-5A2DD7E98A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8DD3B-589F-4FAE-8EEC-A25ADF4185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D198-CB9F-41BC-A606-CE8848BB98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5831B-8405-4B35-8F28-1903D8B309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A2DD4-30E3-4A11-94D2-505CC4CC41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5F6E1-3E96-4B76-9110-CC1628B2B3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3AC1A-C5AE-48F0-99A7-77D368FFEE66}"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3A073-DAD5-4D29-B62A-E1F8FAC09D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F18B4-9C52-43DB-A71A-F0F0B7E42A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75460-9438-4473-B9AC-A10633B2C4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116A4-D311-4736-A854-96109E326A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2C34F-C24B-41B9-A9A0-3BBE9331D2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6C4E0-392C-465E-9F22-FB150268F0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A707F-BC42-4A91-8DC8-41B6E468C8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A948B-C68F-4545-80C6-0631D67946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00E9A-BC9D-4035-AD4A-1C1DEF95C1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14875-2738-407E-B572-3B99603EA9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85E8-5D9A-4EE4-9A3C-DBF53C84CF62}"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17CF1-1619-4F72-B0D9-E6BBEAA4F3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8CE2-9D41-4FD3-80F7-0669548234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E398-AA85-44D9-9C76-61B5A00BA2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2BEAE-AAD2-41CE-A931-A1013ED6AB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07865-0F85-4D56-BA68-48CDAF7C09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93C6-49AA-4410-968E-FB90BAF2D8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69A9B-D3BB-4743-B37E-40B3D3332A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E337A-0034-4EDC-866D-9E1546D9BD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AEE50-C39D-47CE-A8FA-517BC673A7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4FD80-F42B-4FE3-B9E1-8223BE30EB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C9B32-426B-4F7F-B512-EC504F15A4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0BB32-049B-4B84-AF09-BD5F43F83637}"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1E038-A114-4824-B68E-1E436AC841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1F1FC-2454-469B-BCAE-54742DCC0F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6676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8960" y="6480"/>
            <a:ext cx="5086080" cy="63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71600" y="1981080"/>
            <a:ext cx="6438960" cy="3305160"/>
          </a:xfrm>
          <a:prstGeom prst="rect">
            <a:avLst/>
          </a:prstGeom>
          <a:ln w="0">
            <a:noFill/>
          </a:ln>
        </p:spPr>
      </p:pic>
      <p:pic>
        <p:nvPicPr>
          <p:cNvPr id="1620" name="Picture 3" descr=""/>
          <p:cNvPicPr/>
          <p:nvPr/>
        </p:nvPicPr>
        <p:blipFill>
          <a:blip r:embed="rId2"/>
          <a:stretch/>
        </p:blipFill>
        <p:spPr>
          <a:xfrm>
            <a:off x="1333440" y="157176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4279A-6F38-48FA-9438-45915C4EB20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a:t>
            </a:r>
            <a:r>
              <a:rPr b="0" lang="en-US" sz="1600" spc="-1" strike="noStrike">
                <a:solidFill>
                  <a:srgbClr val="262626"/>
                </a:solidFill>
                <a:latin typeface="Calibri"/>
              </a:rPr>
              <a:t>1/8</a:t>
            </a:r>
            <a:r>
              <a:rPr b="0" lang="en-US" sz="2000" spc="-1" strike="noStrike">
                <a:solidFill>
                  <a:srgbClr val="262626"/>
                </a:solidFill>
                <a:latin typeface="Calibri"/>
              </a:rPr>
              <a:t>).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FA0FC-6199-48E4-AEF5-CB695FBEE57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00084-395F-4D6D-9801-1C9A1200D23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B1F2C-6784-4E09-A691-A4D95DC62C5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90720"/>
            <a:ext cx="8167680" cy="462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6480"/>
            <a:ext cx="6396120" cy="654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1:08Z</dcterms:modified>
  <cp:revision>36</cp:revision>
  <dc:subject/>
  <dc:title>Deep Engagement with the Shifts of the Common Core State Standards  Mathematics</dc:title>
</cp:coreProperties>
</file>